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25D5-1F34-41EB-8215-D7D47F2F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B249-7D64-4CDB-A2AB-61A75B1F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0F00-AA98-4E0D-9CB9-A3D59207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04EA-415E-41F0-9E60-4F2A741CE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FD8A-BDCF-4614-BAE8-851185B6A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CC6A-9149-405F-9D3F-7BBEFE54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758C-C5E9-4201-B039-304BE4B5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535E-17FB-4339-BEA9-ABBD1446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CB49-6BF8-4575-BC12-32A022D2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92C9-3983-4E3A-A71A-CA887C64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DA45-FC83-49BE-94D5-7AC7080B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62FF-2773-48F7-AF9B-6771DDC2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0BF6-C61C-48B1-8BE8-1BD52F25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8861-06C0-4A32-918C-21512284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8A47-0454-4BD7-B66C-2D162D9D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1DD9-4D73-4E5F-BAF8-7221CB3A3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EA7D-9E26-438E-8521-37B2659A6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0EFA-2BFB-40BD-BD27-45EFB398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344B-10DE-4A29-9EE4-396D8581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665C-F121-4BA3-910E-A5849C79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00F9-F85C-4C7B-8961-356BB420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AD9C-98C6-4A08-9B4C-4F3814E1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F3D4-92E0-4FAB-8A03-9C3FAAB5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CE64-480B-46BC-A379-B1936D01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4267-3F8E-4C70-AC4E-A4E464E04A3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8665-8FA2-4916-ABEE-E171604EB3F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1267920"/>
            <a:ext cx="7623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Garamond"/>
              </a:rPr>
              <a:t>«Прогрессия. Применение формул алгебраической и геометрической прогрессии в электронных таблицах»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08000" y="450864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4859280" y="3284640"/>
            <a:ext cx="3063960" cy="23162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526716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 пункта А выехал велосипедист со скоростью 15 км/ч. Спустя 3 ч вслед ему отправился мотоциклист. Который в первый час проехал 20 км, а в каждый следующий час проезжал на 1 км больше, чем в предыдущий. Сколько часов потребовалось мотоциклисту, чтобы догнать велосипедист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2"/>
          <a:stretch/>
        </p:blipFill>
        <p:spPr>
          <a:xfrm>
            <a:off x="7093080" y="620640"/>
            <a:ext cx="173016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395280" y="189000"/>
          <a:ext cx="8229600" cy="5761080"/>
        </p:xfrm>
        <a:graphic>
          <a:graphicData uri="http://schemas.openxmlformats.org/drawingml/2006/table">
            <a:tbl>
              <a:tblPr/>
              <a:tblGrid>
                <a:gridCol w="4313160"/>
                <a:gridCol w="3916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Calibri"/>
                        </a:rPr>
                        <a:t>3, 6, 9, </a:t>
                      </a: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Calibri"/>
                        </a:rPr>
                        <a:t>3, 9, 27 </a:t>
                      </a: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Calibri"/>
                        </a:rPr>
                        <a:t>Является ли данная последовательность прогрессией? Если да, то какой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Calibri"/>
                        </a:rPr>
                        <a:t>Какие элементы необходимо знать для решения задач с данной прогресси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Calibri"/>
                        </a:rPr>
                        <a:t>Найдите числовые значения этих элемент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Calibri"/>
                        </a:rPr>
                        <a:t>Запишите формулу </a:t>
                      </a: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Calibri"/>
                        </a:rPr>
                        <a:t>-го члена прогрессии и формулу для данной прогресс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Calibri"/>
                        </a:rPr>
                        <a:t>Найдите 5-й член данной прогресс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Calibri"/>
                        </a:rPr>
                        <a:t>Назовите формулу для вычисления суммы первых членов данной прогресс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Calibri"/>
                        </a:rPr>
                        <a:t>Вычислите сумму 5-и первых членов прогресс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Rectangle 2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95280" y="189000"/>
          <a:ext cx="8229600" cy="6296040"/>
        </p:xfrm>
        <a:graphic>
          <a:graphicData uri="http://schemas.openxmlformats.org/drawingml/2006/table">
            <a:tbl>
              <a:tblPr/>
              <a:tblGrid>
                <a:gridCol w="4311720"/>
                <a:gridCol w="391788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 6, 9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 9, 27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вляется ли данная последовательность прогрессией? Если да, то какой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ифметичес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еометричес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ие элементы необходимо знать для решения задач с данной прогресси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йдите числовые значения этих элемент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пишите формулу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го члена прогрессии и формулу для данной прогресс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йдите 5-й член данной прогресс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овите формулу для вычисления суммы первых членов данной прогресс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числите сумму 5-и первых членов прогресс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95280" y="189000"/>
          <a:ext cx="8229600" cy="6297480"/>
        </p:xfrm>
        <a:graphic>
          <a:graphicData uri="http://schemas.openxmlformats.org/drawingml/2006/table">
            <a:tbl>
              <a:tblPr/>
              <a:tblGrid>
                <a:gridCol w="4311720"/>
                <a:gridCol w="3917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 6, 9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 9, 27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вляется ли данная последовательность прогрессией? Если да, то какой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ифметичес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еометричес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ие элементы необходимо знать для решения задач с данной прогресси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йдите числовые значения этих элемент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пишите формулу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го члена прогрессии и формулу для данной прогресс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йдите 5-й член данной прогресс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овите формулу для вычисления суммы первых членов данной прогресс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числите сумму 5-и первых членов прогресс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395280" y="189000"/>
          <a:ext cx="8229600" cy="6297480"/>
        </p:xfrm>
        <a:graphic>
          <a:graphicData uri="http://schemas.openxmlformats.org/drawingml/2006/table">
            <a:tbl>
              <a:tblPr/>
              <a:tblGrid>
                <a:gridCol w="4311720"/>
                <a:gridCol w="3917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 6, 9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 9, 27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вляется ли данная последовательность прогрессией? Если да, то какой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ифметичес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еометричес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ие элементы необходимо знать для решения задач с данной прогресси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йдите числовые значения этих элемент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3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=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3, q=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пишите формулу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го члена прогрессии и формулу для данной прогресс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йдите 5-й член данной прогресс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овите формулу для вычисления суммы первых членов данной прогресс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числите сумму 5-и первых членов прогресс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Rectangle 63"/>
          <p:cNvSpPr/>
          <p:nvPr/>
        </p:nvSpPr>
        <p:spPr>
          <a:xfrm>
            <a:off x="1533600" y="644400"/>
            <a:ext cx="2892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395280" y="189000"/>
          <a:ext cx="8229600" cy="6297480"/>
        </p:xfrm>
        <a:graphic>
          <a:graphicData uri="http://schemas.openxmlformats.org/drawingml/2006/table">
            <a:tbl>
              <a:tblPr/>
              <a:tblGrid>
                <a:gridCol w="4311720"/>
                <a:gridCol w="3917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 6, 9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 9, 27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вляется ли данная последовательность прогрессией? Если да, то какой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ифметичес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еометричес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ие элементы необходимо знать для решения задач с данной прогресси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йдите числовые значения этих элемент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3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=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3, q=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пишите формулу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го члена прогрессии и формулу для данной прогресс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йдите 5-й член данной прогресс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овите формулу для вычисления суммы первых членов данной прогресс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числите сумму 5-и первых членов прогресс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Rectangle 58"/>
          <p:cNvSpPr/>
          <p:nvPr/>
        </p:nvSpPr>
        <p:spPr>
          <a:xfrm>
            <a:off x="1835280" y="3357720"/>
            <a:ext cx="20430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=a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+(n-1)*d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1" descr=""/>
          <p:cNvPicPr/>
          <p:nvPr/>
        </p:nvPicPr>
        <p:blipFill>
          <a:blip r:embed="rId1"/>
          <a:stretch/>
        </p:blipFill>
        <p:spPr>
          <a:xfrm>
            <a:off x="5508720" y="3357720"/>
            <a:ext cx="1257120" cy="2473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63"/>
          <p:cNvSpPr/>
          <p:nvPr/>
        </p:nvSpPr>
        <p:spPr>
          <a:xfrm>
            <a:off x="1533600" y="644400"/>
            <a:ext cx="2892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4" descr=""/>
          <p:cNvPicPr/>
          <p:nvPr/>
        </p:nvPicPr>
        <p:blipFill>
          <a:blip r:embed="rId2"/>
          <a:stretch/>
        </p:blipFill>
        <p:spPr>
          <a:xfrm>
            <a:off x="7308720" y="3348000"/>
            <a:ext cx="66672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95280" y="189000"/>
          <a:ext cx="8229600" cy="6297480"/>
        </p:xfrm>
        <a:graphic>
          <a:graphicData uri="http://schemas.openxmlformats.org/drawingml/2006/table">
            <a:tbl>
              <a:tblPr/>
              <a:tblGrid>
                <a:gridCol w="4311720"/>
                <a:gridCol w="3917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 6, 9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 9, 27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вляется ли данная последовательность прогрессией? Если да, то какой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ифметичес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еометричес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ие элементы необходимо знать для решения задач с данной прогресси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йдите числовые значения этих элемент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3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=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3, q=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пишите формулу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го члена прогрессии и формулу для данной прогресс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йдите 5-й член данной прогресс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r>
                        <a:rPr b="1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r>
                        <a:rPr b="1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2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овите формулу для вычисления суммы первых членов данной прогресс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числите сумму 5-и первых членов прогресс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Rectangle 58"/>
          <p:cNvSpPr/>
          <p:nvPr/>
        </p:nvSpPr>
        <p:spPr>
          <a:xfrm>
            <a:off x="1835280" y="3357720"/>
            <a:ext cx="23050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=a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+(n-1)*d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1" descr=""/>
          <p:cNvPicPr/>
          <p:nvPr/>
        </p:nvPicPr>
        <p:blipFill>
          <a:blip r:embed="rId1"/>
          <a:stretch/>
        </p:blipFill>
        <p:spPr>
          <a:xfrm>
            <a:off x="5508720" y="3357720"/>
            <a:ext cx="1257120" cy="2473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3"/>
          <p:cNvSpPr/>
          <p:nvPr/>
        </p:nvSpPr>
        <p:spPr>
          <a:xfrm>
            <a:off x="1533600" y="644400"/>
            <a:ext cx="2892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4" descr=""/>
          <p:cNvPicPr/>
          <p:nvPr/>
        </p:nvPicPr>
        <p:blipFill>
          <a:blip r:embed="rId2"/>
          <a:stretch/>
        </p:blipFill>
        <p:spPr>
          <a:xfrm>
            <a:off x="7308720" y="3348000"/>
            <a:ext cx="66672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395280" y="189000"/>
          <a:ext cx="8229600" cy="6297480"/>
        </p:xfrm>
        <a:graphic>
          <a:graphicData uri="http://schemas.openxmlformats.org/drawingml/2006/table">
            <a:tbl>
              <a:tblPr/>
              <a:tblGrid>
                <a:gridCol w="4311720"/>
                <a:gridCol w="3917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 6, 9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 9, 27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вляется ли данная последовательность прогрессией? Если да, то какой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ифметичес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еометричес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ие элементы необходимо знать для решения задач с данной прогресси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йдите числовые значения этих элемент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3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=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3, q=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пишите формулу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го члена прогрессии и формулу для данной прогресс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йдите 5-й член данной прогресс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r>
                        <a:rPr b="1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r>
                        <a:rPr b="1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2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овите формулу для вычисления суммы первых членов данной прогресс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числите сумму 5-и первых членов прогресс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58"/>
          <p:cNvSpPr/>
          <p:nvPr/>
        </p:nvSpPr>
        <p:spPr>
          <a:xfrm>
            <a:off x="1835280" y="3357720"/>
            <a:ext cx="20160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=a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+(n-1)*d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2" descr=""/>
          <p:cNvPicPr/>
          <p:nvPr/>
        </p:nvPicPr>
        <p:blipFill>
          <a:blip r:embed="rId1"/>
          <a:stretch/>
        </p:blipFill>
        <p:spPr>
          <a:xfrm>
            <a:off x="5867280" y="5230800"/>
            <a:ext cx="1467000" cy="5018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" descr=""/>
          <p:cNvPicPr/>
          <p:nvPr/>
        </p:nvPicPr>
        <p:blipFill>
          <a:blip r:embed="rId2"/>
          <a:stretch/>
        </p:blipFill>
        <p:spPr>
          <a:xfrm>
            <a:off x="1116000" y="5157720"/>
            <a:ext cx="3048120" cy="590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1" descr=""/>
          <p:cNvPicPr/>
          <p:nvPr/>
        </p:nvPicPr>
        <p:blipFill>
          <a:blip r:embed="rId3"/>
          <a:stretch/>
        </p:blipFill>
        <p:spPr>
          <a:xfrm>
            <a:off x="5508720" y="3357720"/>
            <a:ext cx="1257120" cy="2473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3"/>
          <p:cNvSpPr/>
          <p:nvPr/>
        </p:nvSpPr>
        <p:spPr>
          <a:xfrm>
            <a:off x="1533600" y="644400"/>
            <a:ext cx="2892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4" descr=""/>
          <p:cNvPicPr/>
          <p:nvPr/>
        </p:nvPicPr>
        <p:blipFill>
          <a:blip r:embed="rId4"/>
          <a:stretch/>
        </p:blipFill>
        <p:spPr>
          <a:xfrm>
            <a:off x="7308720" y="3362400"/>
            <a:ext cx="66672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395280" y="189000"/>
          <a:ext cx="8229600" cy="6297480"/>
        </p:xfrm>
        <a:graphic>
          <a:graphicData uri="http://schemas.openxmlformats.org/drawingml/2006/table">
            <a:tbl>
              <a:tblPr/>
              <a:tblGrid>
                <a:gridCol w="4311720"/>
                <a:gridCol w="3917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 6, 9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 9, 27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вляется ли данная последовательность прогрессией? Если да, то какой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ифметичес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еометричес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ие элементы необходимо знать для решения задач с данной прогресси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йдите числовые значения этих элемент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3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=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3, q=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пишите формулу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го члена прогрессии и формулу для данной прогресс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йдите 5-й член данной прогресс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r>
                        <a:rPr b="1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r>
                        <a:rPr b="1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2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овите формулу для вычисления суммы первых членов данной прогресс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числите сумму 5-и первых членов прогресс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58"/>
          <p:cNvSpPr/>
          <p:nvPr/>
        </p:nvSpPr>
        <p:spPr>
          <a:xfrm>
            <a:off x="1835280" y="3357720"/>
            <a:ext cx="23288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=a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+(n-1)*d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2" descr=""/>
          <p:cNvPicPr/>
          <p:nvPr/>
        </p:nvPicPr>
        <p:blipFill>
          <a:blip r:embed="rId1"/>
          <a:stretch/>
        </p:blipFill>
        <p:spPr>
          <a:xfrm>
            <a:off x="5867280" y="5229360"/>
            <a:ext cx="1467000" cy="5032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" descr=""/>
          <p:cNvPicPr/>
          <p:nvPr/>
        </p:nvPicPr>
        <p:blipFill>
          <a:blip r:embed="rId2"/>
          <a:stretch/>
        </p:blipFill>
        <p:spPr>
          <a:xfrm>
            <a:off x="1116000" y="5157720"/>
            <a:ext cx="3048120" cy="590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1" descr=""/>
          <p:cNvPicPr/>
          <p:nvPr/>
        </p:nvPicPr>
        <p:blipFill>
          <a:blip r:embed="rId3"/>
          <a:stretch/>
        </p:blipFill>
        <p:spPr>
          <a:xfrm>
            <a:off x="5508720" y="3357720"/>
            <a:ext cx="1257120" cy="2473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3"/>
          <p:cNvSpPr/>
          <p:nvPr/>
        </p:nvSpPr>
        <p:spPr>
          <a:xfrm>
            <a:off x="1533600" y="644400"/>
            <a:ext cx="2892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4" descr=""/>
          <p:cNvPicPr/>
          <p:nvPr/>
        </p:nvPicPr>
        <p:blipFill>
          <a:blip r:embed="rId4"/>
          <a:stretch/>
        </p:blipFill>
        <p:spPr>
          <a:xfrm>
            <a:off x="7308720" y="3362400"/>
            <a:ext cx="66672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7:50:39Z</dcterms:created>
  <dc:creator>Admin</dc:creator>
  <dc:description/>
  <dc:language>en-US</dc:language>
  <cp:lastModifiedBy>Учитель</cp:lastModifiedBy>
  <dcterms:modified xsi:type="dcterms:W3CDTF">2012-02-09T06:15:30Z</dcterms:modified>
  <cp:revision>4</cp:revision>
  <dc:subject/>
  <dc:title>Слайд 1</dc:title>
</cp:coreProperties>
</file>