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C9E-1F9A-43CF-A9C1-359CB146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943-813E-417D-8CAE-FBFC7E2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C86-E75A-4837-8EB6-85794E76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366-F1F0-4CEE-853F-26BC477D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E8E-89F1-4ED8-9C04-163CEC8F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BE5-B3F6-42E1-8498-B056FDE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C54-4A71-42CC-8FDE-9A9C24CF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CEC-477D-4CEB-AEAF-C7AE905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224-0B8E-4D2F-82BA-3D15F65A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FEB-1250-4A81-9D38-9C10451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3D2-EDC6-49EE-B0CB-56E93FD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98A-35B2-4079-B9B8-D01BAD3C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AD70-854C-4E5B-BB23-4DE1339A0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 ИЗО Шишлянникова Е.В. гимназия №8 г. Дубна Московская об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C02-B3F9-4B66-8386-D5AAC5B79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фото на уроке 14.марта 0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143360" y="499680"/>
            <a:ext cx="5986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«Букет роз»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(материал-пластил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00240" y="45720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рок художественного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2009-May-16_Sat_10-50-49.jpg"/>
          <p:cNvPicPr/>
          <p:nvPr/>
        </p:nvPicPr>
        <p:blipFill>
          <a:blip r:embed="rId1"/>
          <a:stretch/>
        </p:blipFill>
        <p:spPr>
          <a:xfrm>
            <a:off x="1643040" y="1500120"/>
            <a:ext cx="5857920" cy="5072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Лепим зеленые комочки-шар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Расплющиваем шари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2009-May-16_Sat_10-51-22.jpg"/>
          <p:cNvPicPr/>
          <p:nvPr/>
        </p:nvPicPr>
        <p:blipFill>
          <a:blip r:embed="rId1"/>
          <a:stretch/>
        </p:blipFill>
        <p:spPr>
          <a:xfrm>
            <a:off x="2143080" y="1600200"/>
            <a:ext cx="52149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Заостряем уголоч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2009-May-16_Sat_10-51-5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ожом для пластилина продавливаем (прорисовываем) прожилки у лист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2009-May-16_Sat_10-53-55.jpg"/>
          <p:cNvPicPr/>
          <p:nvPr/>
        </p:nvPicPr>
        <p:blipFill>
          <a:blip r:embed="rId1"/>
          <a:stretch/>
        </p:blipFill>
        <p:spPr>
          <a:xfrm>
            <a:off x="164304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Листики готов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2009-May-16_Sat_10-50-1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Собираем букет (листики, бутоны, цвет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0" descr="фото на уроке 14.марта 078.jpg"/>
          <p:cNvPicPr/>
          <p:nvPr/>
        </p:nvPicPr>
        <p:blipFill>
          <a:blip r:embed="rId1"/>
          <a:stretch/>
        </p:blipFill>
        <p:spPr>
          <a:xfrm>
            <a:off x="1285920" y="2071800"/>
            <a:ext cx="6254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DSCF8387.jpg"/>
          <p:cNvPicPr/>
          <p:nvPr/>
        </p:nvPicPr>
        <p:blipFill>
          <a:blip r:embed="rId1"/>
          <a:stretch/>
        </p:blipFill>
        <p:spPr>
          <a:xfrm>
            <a:off x="4648320" y="4714920"/>
            <a:ext cx="2066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DSCF8387.jpg"/>
          <p:cNvPicPr/>
          <p:nvPr/>
        </p:nvPicPr>
        <p:blipFill>
          <a:blip r:embed="rId2"/>
          <a:stretch/>
        </p:blipFill>
        <p:spPr>
          <a:xfrm>
            <a:off x="500040" y="785880"/>
            <a:ext cx="185724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3" descr="DSCF8387.jpg"/>
          <p:cNvPicPr/>
          <p:nvPr/>
        </p:nvPicPr>
        <p:blipFill>
          <a:blip r:embed="rId3"/>
          <a:stretch/>
        </p:blipFill>
        <p:spPr>
          <a:xfrm>
            <a:off x="4643280" y="714240"/>
            <a:ext cx="1928880" cy="157176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DSCF8387.jpg"/>
          <p:cNvPicPr/>
          <p:nvPr/>
        </p:nvPicPr>
        <p:blipFill>
          <a:blip r:embed="rId4"/>
          <a:stretch/>
        </p:blipFill>
        <p:spPr>
          <a:xfrm>
            <a:off x="571680" y="2571840"/>
            <a:ext cx="1785600" cy="19652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DSCF8387.jpg"/>
          <p:cNvPicPr/>
          <p:nvPr/>
        </p:nvPicPr>
        <p:blipFill>
          <a:blip r:embed="rId5"/>
          <a:stretch/>
        </p:blipFill>
        <p:spPr>
          <a:xfrm>
            <a:off x="4643280" y="242892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3" descr="DSCF8387.jpg"/>
          <p:cNvPicPr/>
          <p:nvPr/>
        </p:nvPicPr>
        <p:blipFill>
          <a:blip r:embed="rId6"/>
          <a:stretch/>
        </p:blipFill>
        <p:spPr>
          <a:xfrm>
            <a:off x="2500200" y="714240"/>
            <a:ext cx="1857600" cy="1571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DSCF8388.jpg"/>
          <p:cNvPicPr/>
          <p:nvPr/>
        </p:nvPicPr>
        <p:blipFill>
          <a:blip r:embed="rId7"/>
          <a:stretch/>
        </p:blipFill>
        <p:spPr>
          <a:xfrm>
            <a:off x="2643120" y="2571840"/>
            <a:ext cx="189252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DSCF8388.jpg"/>
          <p:cNvPicPr/>
          <p:nvPr/>
        </p:nvPicPr>
        <p:blipFill>
          <a:blip r:embed="rId8"/>
          <a:stretch/>
        </p:blipFill>
        <p:spPr>
          <a:xfrm>
            <a:off x="500040" y="4714920"/>
            <a:ext cx="178596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DSCF8388.jpg"/>
          <p:cNvPicPr/>
          <p:nvPr/>
        </p:nvPicPr>
        <p:blipFill>
          <a:blip r:embed="rId9"/>
          <a:stretch/>
        </p:blipFill>
        <p:spPr>
          <a:xfrm>
            <a:off x="2500200" y="4714920"/>
            <a:ext cx="1762200" cy="18572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3" descr="DSCF8388.jpg"/>
          <p:cNvPicPr/>
          <p:nvPr/>
        </p:nvPicPr>
        <p:blipFill>
          <a:blip r:embed="rId10"/>
          <a:stretch/>
        </p:blipFill>
        <p:spPr>
          <a:xfrm>
            <a:off x="7072200" y="3429000"/>
            <a:ext cx="164304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DSCF8389.jpg"/>
          <p:cNvPicPr/>
          <p:nvPr/>
        </p:nvPicPr>
        <p:blipFill>
          <a:blip r:embed="rId11"/>
          <a:stretch/>
        </p:blipFill>
        <p:spPr>
          <a:xfrm>
            <a:off x="6786720" y="14288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2"/>
          <p:cNvSpPr/>
          <p:nvPr/>
        </p:nvSpPr>
        <p:spPr>
          <a:xfrm>
            <a:off x="1928880" y="2858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РАБОТЫ УЧЕНИКОВ 3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Для работы понадобится: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teach\Рабочий стол\дор\РОЗОЧКИ_КАМЕРА\работа с документкамерой 3б розочки 025.jpg"/>
          <p:cNvPicPr/>
          <p:nvPr/>
        </p:nvPicPr>
        <p:blipFill>
          <a:blip r:embed="rId1"/>
          <a:stretch/>
        </p:blipFill>
        <p:spPr>
          <a:xfrm>
            <a:off x="3857760" y="1282680"/>
            <a:ext cx="4829040" cy="383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ластил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е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рт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орошее настр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лыбающееся лицо 5"/>
          <p:cNvSpPr/>
          <p:nvPr/>
        </p:nvSpPr>
        <p:spPr>
          <a:xfrm>
            <a:off x="3571920" y="4572000"/>
            <a:ext cx="2071800" cy="178596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25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25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рабочий стол\КАТАЛОГИ\розы\0_6a2c_56ab9874_-1-L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0_8d8e_996ff5c7_-1-L.jpg"/>
          <p:cNvPicPr/>
          <p:nvPr/>
        </p:nvPicPr>
        <p:blipFill>
          <a:blip r:embed="rId2"/>
          <a:stretch/>
        </p:blipFill>
        <p:spPr>
          <a:xfrm>
            <a:off x="0" y="9360"/>
            <a:ext cx="9156600" cy="6848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_6cae_536f870c_-1-L.jpg"/>
          <p:cNvPicPr/>
          <p:nvPr/>
        </p:nvPicPr>
        <p:blipFill>
          <a:blip r:embed="rId3"/>
          <a:stretch/>
        </p:blipFill>
        <p:spPr>
          <a:xfrm>
            <a:off x="0" y="-347760"/>
            <a:ext cx="9144000" cy="7553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73f8_70890bb_-1-L.jpg"/>
          <p:cNvPicPr/>
          <p:nvPr/>
        </p:nvPicPr>
        <p:blipFill>
          <a:blip r:embed="rId4"/>
          <a:stretch/>
        </p:blipFill>
        <p:spPr>
          <a:xfrm>
            <a:off x="0" y="-357120"/>
            <a:ext cx="9144000" cy="7572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8d91_fecd46a_L.jpg"/>
          <p:cNvPicPr/>
          <p:nvPr/>
        </p:nvPicPr>
        <p:blipFill>
          <a:blip r:embed="rId5"/>
          <a:stretch/>
        </p:blipFill>
        <p:spPr>
          <a:xfrm>
            <a:off x="0" y="-1251000"/>
            <a:ext cx="9301320" cy="8109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0_7a14_aefd7678_L.jpg"/>
          <p:cNvPicPr/>
          <p:nvPr/>
        </p:nvPicPr>
        <p:blipFill>
          <a:blip r:embed="rId6"/>
          <a:stretch/>
        </p:blipFill>
        <p:spPr>
          <a:xfrm>
            <a:off x="0" y="-63360"/>
            <a:ext cx="9715680" cy="7421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7"/>
          <a:stretch/>
        </p:blipFill>
        <p:spPr>
          <a:xfrm>
            <a:off x="378000" y="208080"/>
            <a:ext cx="82724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teach\Рабочий стол\РОЗОЧКИ_КАМЕРА\работа с документкамерой 3б розочки 023.jpg"/>
          <p:cNvPicPr/>
          <p:nvPr/>
        </p:nvPicPr>
        <p:blipFill>
          <a:blip r:embed="rId1"/>
          <a:stretch/>
        </p:blipFill>
        <p:spPr>
          <a:xfrm>
            <a:off x="2500200" y="0"/>
            <a:ext cx="4232520" cy="564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teach\Рабочий стол\РОЗОЧКИ_КАМЕРА\работа с документкамерой 3б розочки 022.jpg"/>
          <p:cNvPicPr/>
          <p:nvPr/>
        </p:nvPicPr>
        <p:blipFill>
          <a:blip r:embed="rId2"/>
          <a:stretch/>
        </p:blipFill>
        <p:spPr>
          <a:xfrm>
            <a:off x="97488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5960" y="57859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бота  Антоновой Оли 3 б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281160" y="-115920"/>
            <a:ext cx="78753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фото на уроке 14.марта 080.jpg"/>
          <p:cNvPicPr/>
          <p:nvPr/>
        </p:nvPicPr>
        <p:blipFill>
          <a:blip r:embed="rId1"/>
          <a:stretch/>
        </p:blipFill>
        <p:spPr>
          <a:xfrm>
            <a:off x="1428840" y="357120"/>
            <a:ext cx="64292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работа с документкамерой 3б розочки 026.jpg"/>
          <p:cNvPicPr/>
          <p:nvPr/>
        </p:nvPicPr>
        <p:blipFill>
          <a:blip r:embed="rId1"/>
          <a:stretch/>
        </p:blipFill>
        <p:spPr>
          <a:xfrm>
            <a:off x="0" y="1285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работа с документкамерой 3б розочки 027.jpg"/>
          <p:cNvPicPr/>
          <p:nvPr/>
        </p:nvPicPr>
        <p:blipFill>
          <a:blip r:embed="rId2"/>
          <a:stretch/>
        </p:blipFill>
        <p:spPr>
          <a:xfrm>
            <a:off x="1928880" y="164304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работа с документкамерой 3б розочки 030.jpg"/>
          <p:cNvPicPr/>
          <p:nvPr/>
        </p:nvPicPr>
        <p:blipFill>
          <a:blip r:embed="rId3"/>
          <a:stretch/>
        </p:blipFill>
        <p:spPr>
          <a:xfrm>
            <a:off x="4143240" y="2000160"/>
            <a:ext cx="2571840" cy="2751120"/>
          </a:xfrm>
          <a:prstGeom prst="rect">
            <a:avLst/>
          </a:prstGeom>
          <a:ln w="0">
            <a:noFill/>
          </a:ln>
        </p:spPr>
      </p:pic>
      <p:sp>
        <p:nvSpPr>
          <p:cNvPr id="63" name="Выгнутая вниз стрелка 7"/>
          <p:cNvSpPr/>
          <p:nvPr/>
        </p:nvSpPr>
        <p:spPr>
          <a:xfrm>
            <a:off x="714240" y="3214800"/>
            <a:ext cx="1643040" cy="1143000"/>
          </a:xfrm>
          <a:custGeom>
            <a:avLst/>
            <a:gdLst>
              <a:gd name="textAreaLeft" fmla="*/ 303480 w 1643040"/>
              <a:gd name="textAreaRight" fmla="*/ 1196640 w 16430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83" hR="21600" stAng="10800000" swAng="-5400000"/>
                <a:lnTo>
                  <a:pt x="11740" y="21600"/>
                </a:lnTo>
                <a:arcTo wR="7983" hR="21600" stAng="5400000" swAng="-3303560"/>
                <a:lnTo>
                  <a:pt x="21347" y="5400"/>
                </a:lnTo>
                <a:lnTo>
                  <a:pt x="17844" y="0"/>
                </a:lnTo>
                <a:lnTo>
                  <a:pt x="13834" y="5400"/>
                </a:lnTo>
                <a:lnTo>
                  <a:pt x="15712" y="5400"/>
                </a:lnTo>
                <a:arcTo wR="7983" hR="21600" stAng="2096440" swAng="2996766"/>
                <a:lnTo>
                  <a:pt x="9861" y="20993"/>
                </a:lnTo>
                <a:arcTo wR="7983" hR="21600" stAng="5706794" swAng="5093206"/>
                <a:close/>
              </a:path>
              <a:path fill="darkenLess" w="21600" h="21600">
                <a:moveTo>
                  <a:pt x="0" y="0"/>
                </a:moveTo>
                <a:arcTo wR="7983" hR="21600" stAng="10800000" swAng="-5400000"/>
                <a:lnTo>
                  <a:pt x="11740" y="21600"/>
                </a:lnTo>
                <a:arcTo wR="7983" hR="21600" stAng="5400000" swAng="306794"/>
                <a:lnTo>
                  <a:pt x="9861" y="20993"/>
                </a:lnTo>
                <a:arcTo wR="7983" hR="21600" stAng="5706794" swAng="50932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гнутая вниз стрелка 8"/>
          <p:cNvSpPr/>
          <p:nvPr/>
        </p:nvSpPr>
        <p:spPr>
          <a:xfrm>
            <a:off x="2928960" y="3714840"/>
            <a:ext cx="1643040" cy="1143000"/>
          </a:xfrm>
          <a:custGeom>
            <a:avLst/>
            <a:gdLst>
              <a:gd name="textAreaLeft" fmla="*/ 303480 w 1643040"/>
              <a:gd name="textAreaRight" fmla="*/ 1196640 w 16430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83" hR="21600" stAng="10800000" swAng="-5400000"/>
                <a:lnTo>
                  <a:pt x="11740" y="21600"/>
                </a:lnTo>
                <a:arcTo wR="7983" hR="21600" stAng="5400000" swAng="-3303560"/>
                <a:lnTo>
                  <a:pt x="21347" y="5400"/>
                </a:lnTo>
                <a:lnTo>
                  <a:pt x="17844" y="0"/>
                </a:lnTo>
                <a:lnTo>
                  <a:pt x="13834" y="5400"/>
                </a:lnTo>
                <a:lnTo>
                  <a:pt x="15712" y="5400"/>
                </a:lnTo>
                <a:arcTo wR="7983" hR="21600" stAng="2096440" swAng="2996766"/>
                <a:lnTo>
                  <a:pt x="9861" y="20993"/>
                </a:lnTo>
                <a:arcTo wR="7983" hR="21600" stAng="5706794" swAng="5093206"/>
                <a:close/>
              </a:path>
              <a:path fill="darkenLess" w="21600" h="21600">
                <a:moveTo>
                  <a:pt x="0" y="0"/>
                </a:moveTo>
                <a:arcTo wR="7983" hR="21600" stAng="10800000" swAng="-5400000"/>
                <a:lnTo>
                  <a:pt x="11740" y="21600"/>
                </a:lnTo>
                <a:arcTo wR="7983" hR="21600" stAng="5400000" swAng="306794"/>
                <a:lnTo>
                  <a:pt x="9861" y="20993"/>
                </a:lnTo>
                <a:arcTo wR="7983" hR="21600" stAng="5706794" swAng="50932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работа с документкамерой 3б розочки 031.jpg"/>
          <p:cNvPicPr/>
          <p:nvPr/>
        </p:nvPicPr>
        <p:blipFill>
          <a:blip r:embed="rId4"/>
          <a:stretch/>
        </p:blipFill>
        <p:spPr>
          <a:xfrm>
            <a:off x="6500880" y="3857760"/>
            <a:ext cx="2643120" cy="20714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низ стрелка 9"/>
          <p:cNvSpPr/>
          <p:nvPr/>
        </p:nvSpPr>
        <p:spPr>
          <a:xfrm>
            <a:off x="5214960" y="4714920"/>
            <a:ext cx="1571760" cy="1143000"/>
          </a:xfrm>
          <a:custGeom>
            <a:avLst/>
            <a:gdLst>
              <a:gd name="textAreaLeft" fmla="*/ 285480 w 1571760"/>
              <a:gd name="textAreaRight" fmla="*/ 1143000 w 157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55" hR="21600" stAng="10800000" swAng="-5400000"/>
                <a:lnTo>
                  <a:pt x="11782" y="21600"/>
                </a:lnTo>
                <a:arcTo wR="7855" hR="21600" stAng="5400000" swAng="-3277398"/>
                <a:lnTo>
                  <a:pt x="21351" y="5400"/>
                </a:lnTo>
                <a:lnTo>
                  <a:pt x="17673" y="0"/>
                </a:lnTo>
                <a:lnTo>
                  <a:pt x="13496" y="5400"/>
                </a:lnTo>
                <a:lnTo>
                  <a:pt x="15460" y="5400"/>
                </a:lnTo>
                <a:arcTo wR="7855" hR="21600" stAng="2122602" swAng="2955593"/>
                <a:lnTo>
                  <a:pt x="9818" y="20914"/>
                </a:lnTo>
                <a:arcTo wR="7855" hR="21600" stAng="5721805" swAng="5078195"/>
                <a:close/>
              </a:path>
              <a:path fill="darkenLess" w="21600" h="21600">
                <a:moveTo>
                  <a:pt x="0" y="0"/>
                </a:moveTo>
                <a:arcTo wR="7855" hR="21600" stAng="10800000" swAng="-5400000"/>
                <a:lnTo>
                  <a:pt x="11782" y="21600"/>
                </a:lnTo>
                <a:arcTo wR="7855" hR="21600" stAng="5400000" swAng="321805"/>
                <a:lnTo>
                  <a:pt x="9818" y="20914"/>
                </a:lnTo>
                <a:arcTo wR="7855" hR="21600" stAng="5721805" swAng="507819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88760" y="571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3000240" y="114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786040" y="10717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5357880" y="135720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7718400" y="3143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1643040" y="42876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оследовательно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работа с документкамерой 3б розочки 032.jpg"/>
          <p:cNvPicPr/>
          <p:nvPr/>
        </p:nvPicPr>
        <p:blipFill>
          <a:blip r:embed="rId1"/>
          <a:stretch/>
        </p:blipFill>
        <p:spPr>
          <a:xfrm>
            <a:off x="0" y="577800"/>
            <a:ext cx="2714760" cy="3065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28920" y="1662120"/>
            <a:ext cx="2571840" cy="2806560"/>
          </a:xfrm>
          <a:prstGeom prst="rect">
            <a:avLst/>
          </a:prstGeom>
          <a:ln w="0">
            <a:noFill/>
          </a:ln>
        </p:spPr>
      </p:pic>
      <p:sp>
        <p:nvSpPr>
          <p:cNvPr id="76" name="Выгнутая вниз стрелка 14"/>
          <p:cNvSpPr/>
          <p:nvPr/>
        </p:nvSpPr>
        <p:spPr>
          <a:xfrm>
            <a:off x="1214280" y="3357720"/>
            <a:ext cx="2071800" cy="1285560"/>
          </a:xfrm>
          <a:custGeom>
            <a:avLst/>
            <a:gdLst>
              <a:gd name="textAreaLeft" fmla="*/ 397440 w 2071800"/>
              <a:gd name="textAreaRight" fmla="*/ 1513800 w 2071800"/>
              <a:gd name="textAreaTop" fmla="*/ 172080 h 1285560"/>
              <a:gd name="textAreaBottom" fmla="*/ 111348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7" hR="21600" stAng="10800000" swAng="-5400000"/>
                <a:lnTo>
                  <a:pt x="11638" y="21600"/>
                </a:lnTo>
                <a:arcTo wR="8287" hR="21600" stAng="5400000" swAng="-3363486"/>
                <a:lnTo>
                  <a:pt x="21337" y="5400"/>
                </a:lnTo>
                <a:lnTo>
                  <a:pt x="18249" y="0"/>
                </a:lnTo>
                <a:lnTo>
                  <a:pt x="14634" y="5400"/>
                </a:lnTo>
                <a:lnTo>
                  <a:pt x="16310" y="5400"/>
                </a:lnTo>
                <a:arcTo wR="8287" hR="21600" stAng="2036514" swAng="3091765"/>
                <a:lnTo>
                  <a:pt x="9962" y="21154"/>
                </a:lnTo>
                <a:arcTo wR="8287" hR="21600" stAng="5671721" swAng="5128279"/>
                <a:close/>
              </a:path>
              <a:path fill="darkenLess" w="21600" h="21600">
                <a:moveTo>
                  <a:pt x="0" y="0"/>
                </a:moveTo>
                <a:arcTo wR="8287" hR="21600" stAng="10800000" swAng="-5400000"/>
                <a:lnTo>
                  <a:pt x="11638" y="21600"/>
                </a:lnTo>
                <a:arcTo wR="8287" hR="21600" stAng="5400000" swAng="271721"/>
                <a:lnTo>
                  <a:pt x="9962" y="21154"/>
                </a:lnTo>
                <a:arcTo wR="8287" hR="21600" stAng="5671721" swAng="512827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teach\Рабочий стол\РОЗОЧКИ_КАМЕРА\работа с документкамерой 3б розочки 035.jpg"/>
          <p:cNvPicPr/>
          <p:nvPr/>
        </p:nvPicPr>
        <p:blipFill>
          <a:blip r:embed="rId3"/>
          <a:stretch/>
        </p:blipFill>
        <p:spPr>
          <a:xfrm>
            <a:off x="4429080" y="2500200"/>
            <a:ext cx="2500200" cy="265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teach\Рабочий стол\РОЗОЧКИ_КАМЕРА\работа с документкамерой 3б розочки 036.jpg"/>
          <p:cNvPicPr/>
          <p:nvPr/>
        </p:nvPicPr>
        <p:blipFill>
          <a:blip r:embed="rId4"/>
          <a:stretch/>
        </p:blipFill>
        <p:spPr>
          <a:xfrm>
            <a:off x="6643800" y="3500280"/>
            <a:ext cx="2500200" cy="2432160"/>
          </a:xfrm>
          <a:prstGeom prst="rect">
            <a:avLst/>
          </a:prstGeom>
          <a:ln w="0">
            <a:noFill/>
          </a:ln>
        </p:spPr>
      </p:pic>
      <p:sp>
        <p:nvSpPr>
          <p:cNvPr id="79" name="Выгнутая вниз стрелка 16"/>
          <p:cNvSpPr/>
          <p:nvPr/>
        </p:nvSpPr>
        <p:spPr>
          <a:xfrm>
            <a:off x="5643720" y="5143680"/>
            <a:ext cx="1643040" cy="1214280"/>
          </a:xfrm>
          <a:custGeom>
            <a:avLst/>
            <a:gdLst>
              <a:gd name="textAreaLeft" fmla="*/ 296640 w 1643040"/>
              <a:gd name="textAreaRight" fmla="*/ 1194480 w 1643040"/>
              <a:gd name="textAreaTop" fmla="*/ 162720 h 1214280"/>
              <a:gd name="textAreaBottom" fmla="*/ 1051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7" hR="21600" stAng="10800000" swAng="-5400000"/>
                <a:lnTo>
                  <a:pt x="11798" y="21600"/>
                </a:lnTo>
                <a:arcTo wR="7807" hR="21600" stAng="5400000" swAng="-3267441"/>
                <a:lnTo>
                  <a:pt x="21352" y="5400"/>
                </a:lnTo>
                <a:lnTo>
                  <a:pt x="17609" y="0"/>
                </a:lnTo>
                <a:lnTo>
                  <a:pt x="13369" y="5400"/>
                </a:lnTo>
                <a:lnTo>
                  <a:pt x="15365" y="5400"/>
                </a:lnTo>
                <a:arcTo wR="7807" hR="21600" stAng="2132559" swAng="2939927"/>
                <a:lnTo>
                  <a:pt x="9802" y="20882"/>
                </a:lnTo>
                <a:arcTo wR="7807" hR="21600" stAng="5727513" swAng="5072487"/>
                <a:close/>
              </a:path>
              <a:path fill="darkenLess" w="21600" h="21600">
                <a:moveTo>
                  <a:pt x="0" y="0"/>
                </a:moveTo>
                <a:arcTo wR="7807" hR="21600" stAng="10800000" swAng="-5400000"/>
                <a:lnTo>
                  <a:pt x="11798" y="21600"/>
                </a:lnTo>
                <a:arcTo wR="7807" hR="21600" stAng="5400000" swAng="327513"/>
                <a:lnTo>
                  <a:pt x="9802" y="20882"/>
                </a:lnTo>
                <a:arcTo wR="7807" hR="21600" stAng="5727513" swAng="50724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гнутая вниз стрелка 15"/>
          <p:cNvSpPr/>
          <p:nvPr/>
        </p:nvSpPr>
        <p:spPr>
          <a:xfrm>
            <a:off x="3214800" y="4286160"/>
            <a:ext cx="1785960" cy="1428840"/>
          </a:xfrm>
          <a:custGeom>
            <a:avLst/>
            <a:gdLst>
              <a:gd name="textAreaLeft" fmla="*/ 312480 w 1785960"/>
              <a:gd name="textAreaRight" fmla="*/ 1294920 w 1785960"/>
              <a:gd name="textAreaTop" fmla="*/ 191160 h 1428840"/>
              <a:gd name="textAreaBottom" fmla="*/ 1237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3215003"/>
                <a:lnTo>
                  <a:pt x="21360" y="5400"/>
                </a:lnTo>
                <a:lnTo>
                  <a:pt x="17280" y="0"/>
                </a:lnTo>
                <a:lnTo>
                  <a:pt x="12720" y="5400"/>
                </a:lnTo>
                <a:lnTo>
                  <a:pt x="14880" y="5400"/>
                </a:lnTo>
                <a:arcTo wR="7560" hR="21600" stAng="2184997" swAng="2857569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teach\Рабочий стол\РОЗОЧКИ_КАМЕРА\работа с документкамерой 3б розочки 037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фото на уроке 14.марта 06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фото на уроке 14.марта 06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фото на уроке 14.марта 070.jpg"/>
          <p:cNvPicPr/>
          <p:nvPr/>
        </p:nvPicPr>
        <p:blipFill>
          <a:blip r:embed="rId3"/>
          <a:stretch/>
        </p:blipFill>
        <p:spPr>
          <a:xfrm>
            <a:off x="0" y="-28440"/>
            <a:ext cx="914400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9" descr="фото на уроке 14.марта 076.jpg"/>
          <p:cNvPicPr/>
          <p:nvPr/>
        </p:nvPicPr>
        <p:blipFill>
          <a:blip r:embed="rId1"/>
          <a:stretch/>
        </p:blipFill>
        <p:spPr>
          <a:xfrm>
            <a:off x="571680" y="428760"/>
            <a:ext cx="3286080" cy="3929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0" descr="фото на уроке 14.марта 078.jpg"/>
          <p:cNvPicPr/>
          <p:nvPr/>
        </p:nvPicPr>
        <p:blipFill>
          <a:blip r:embed="rId2"/>
          <a:stretch/>
        </p:blipFill>
        <p:spPr>
          <a:xfrm>
            <a:off x="3357720" y="2714760"/>
            <a:ext cx="507204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4223520" y="714240"/>
            <a:ext cx="395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обходимо сле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1-08-30T10:42:49Z</dcterms:modified>
  <cp:revision>61</cp:revision>
  <dc:subject/>
  <dc:title>«Букет роз» (материал-пластилин)</dc:title>
</cp:coreProperties>
</file>