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B4FB-A006-4E3D-B109-B14105098A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2081-42C1-4287-929F-EF5210EFE1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691-949F-4350-B44A-543710D7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047-7EBE-480B-A05E-5CFF467D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E3A-1B4E-4DBE-8A64-5B7B0BA7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3AC-053C-4650-82E0-AD2F68DA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52B-B674-45A4-9EDD-C6DD9581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B9B-4243-4403-B0F8-A968CCA1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6E6-D73B-48C5-93F7-D120A36C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E02-279C-47BF-A3AC-28A973F1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B94-F274-4FB4-BD6A-5D08C42B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2FB-3580-4A3F-9D97-18B5DDA9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FF3-00F8-426C-BE1E-44B73908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01D-2519-4180-8822-1DA66509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BAF0-4599-40AE-BBD7-44923EE836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Педагогические  ч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Рост и совершенствование уч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реальные пути и современные возмож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Times New Roman"/>
              </a:rPr>
              <a:t>Мое</a:t>
            </a:r>
            <a:r>
              <a:rPr b="1" lang="en-US" sz="3600" spc="-1" strike="noStrike">
                <a:solidFill>
                  <a:srgbClr val="262673"/>
                </a:solidFill>
                <a:latin typeface="Times New Roman"/>
              </a:rPr>
              <a:t>  у</a:t>
            </a:r>
            <a:r>
              <a:rPr b="1" lang="ru-RU" sz="3600" spc="-1" strike="noStrike">
                <a:solidFill>
                  <a:srgbClr val="262673"/>
                </a:solidFill>
                <a:latin typeface="Times New Roman"/>
              </a:rPr>
              <a:t>частите в различных конкур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g170 коррекция"/>
          <p:cNvPicPr/>
          <p:nvPr/>
        </p:nvPicPr>
        <p:blipFill>
          <a:blip r:embed="rId1"/>
          <a:stretch/>
        </p:blipFill>
        <p:spPr>
          <a:xfrm rot="20702400">
            <a:off x="603360" y="1534680"/>
            <a:ext cx="3152520" cy="44895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img171 коррекция.jpg"/>
          <p:cNvPicPr/>
          <p:nvPr/>
        </p:nvPicPr>
        <p:blipFill>
          <a:blip r:embed="rId2"/>
          <a:stretch/>
        </p:blipFill>
        <p:spPr>
          <a:xfrm rot="1267200">
            <a:off x="5204880" y="1587600"/>
            <a:ext cx="312444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img173 коррекция.jpg"/>
          <p:cNvPicPr/>
          <p:nvPr/>
        </p:nvPicPr>
        <p:blipFill>
          <a:blip r:embed="rId1"/>
          <a:stretch/>
        </p:blipFill>
        <p:spPr>
          <a:xfrm rot="1148400">
            <a:off x="5230800" y="406440"/>
            <a:ext cx="3252960" cy="4572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img174 коррекция.jpg"/>
          <p:cNvPicPr/>
          <p:nvPr/>
        </p:nvPicPr>
        <p:blipFill>
          <a:blip r:embed="rId2"/>
          <a:stretch/>
        </p:blipFill>
        <p:spPr>
          <a:xfrm rot="19881000">
            <a:off x="825480" y="445680"/>
            <a:ext cx="2932200" cy="4191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img172 коррекция.jpg"/>
          <p:cNvPicPr/>
          <p:nvPr/>
        </p:nvPicPr>
        <p:blipFill>
          <a:blip r:embed="rId3"/>
          <a:stretch/>
        </p:blipFill>
        <p:spPr>
          <a:xfrm>
            <a:off x="2971800" y="2362320"/>
            <a:ext cx="2981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У</a:t>
            </a: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частие  в сетевых педагогических сообществ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2" descr=""/>
          <p:cNvPicPr/>
          <p:nvPr/>
        </p:nvPicPr>
        <p:blipFill>
          <a:blip r:embed="rId1"/>
          <a:stretch/>
        </p:blipFill>
        <p:spPr>
          <a:xfrm>
            <a:off x="347760" y="1536840"/>
            <a:ext cx="83455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aahe.wmf"/>
          <p:cNvPicPr/>
          <p:nvPr/>
        </p:nvPicPr>
        <p:blipFill>
          <a:blip r:embed="rId1"/>
          <a:stretch/>
        </p:blipFill>
        <p:spPr>
          <a:xfrm>
            <a:off x="5943600" y="914400"/>
            <a:ext cx="3009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"Педагогическое мастерство - высший уровень педагогической деятельности, проявляющийся в творчестве учителя, в постоянном совершенствовании искусства обучения, воспитания развития ребенка"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Самообразование  предполага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ещение уроков уч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недрение передового опы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ение дидактических находок колле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ие предметных нед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шение квалифик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ическая помощ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иодическая печ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Формы организации само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совая  подготовка в институтах повышения квалиф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учение второго высшего образования или второй специа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станционные курсы повышения квалификации, конференции, семинары, олимпиады и конкур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ая работа по самообразовани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учно – исследовательская   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зучение научно – методической и учебн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участие в педагогических сове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ещение  уроков колл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еоретическая разработка и практическая апробация разных форм урок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тевые педагогические со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точник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ообразов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42640"/>
            <a:ext cx="4114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еты, журн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(методическая, научно-популярная, публицистическая, художественная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, аудио информация на различны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ел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19360" y="1142640"/>
            <a:ext cx="4343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ные к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ы и конфе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-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я по обмену опы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, театры, выставки, музеи, конце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ы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Технология организации само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хема 4" descr=""/>
          <p:cNvPicPr/>
          <p:nvPr/>
        </p:nvPicPr>
        <p:blipFill>
          <a:blip r:embed="rId1"/>
          <a:stretch/>
        </p:blipFill>
        <p:spPr>
          <a:xfrm>
            <a:off x="444600" y="1657440"/>
            <a:ext cx="8109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Мое самообразов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Получение второй спе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img167 коррекция"/>
          <p:cNvPicPr/>
          <p:nvPr/>
        </p:nvPicPr>
        <p:blipFill>
          <a:blip r:embed="rId1"/>
          <a:stretch/>
        </p:blipFill>
        <p:spPr>
          <a:xfrm rot="20997600">
            <a:off x="520560" y="2373480"/>
            <a:ext cx="2976840" cy="3809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img169 коррекция"/>
          <p:cNvPicPr/>
          <p:nvPr/>
        </p:nvPicPr>
        <p:blipFill>
          <a:blip r:embed="rId2"/>
          <a:stretch/>
        </p:blipFill>
        <p:spPr>
          <a:xfrm rot="802800">
            <a:off x="4038120" y="2819160"/>
            <a:ext cx="47246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УРСЫ ПОВЫШЕНИЯ КВАЛИФИКАЦИИ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584280"/>
          <a:ext cx="8305920" cy="6107040"/>
        </p:xfrm>
        <a:graphic>
          <a:graphicData uri="http://schemas.openxmlformats.org/drawingml/2006/table">
            <a:tbl>
              <a:tblPr/>
              <a:tblGrid>
                <a:gridCol w="5019840"/>
                <a:gridCol w="328608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курсовой подгото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 прохо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совой подгото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делирование  воспитательной  системы  образовательного  учреждения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ИПКиП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стема   подготовки  выпускников  средней  школы к итоговой аттестаци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ИПКиП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нализ  результатов ГИА и ЕГЭ по математике  выпускников  основной  и старшей  школы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ИПКиП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лгоритмизация  и программирование: введение в Паскаль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ИПКиП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стема  подготовки  выпускников  11 классов к  единому  государственному  экзамену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ИПКиП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временные  подходы к  организации подготовки учащихся к ЕГЭ по  математике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У  ВПО «Томский государственный педагогический  университет» 201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57200" y="304920"/>
          <a:ext cx="8305920" cy="609588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временные  подходы к  организации подготовки учащихся к ЕГЭ по  математике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У  ВПО «Томский государственный педагогический  университет» 201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омпьютерная графика, дизайн и анимация в 8 – 11 классах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й 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Школьный  университет»  201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нновационные  подходы в преподавании   информатики  и  ИКТ  в образовательных  учреждениях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ИПКиП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стема подготовки  выпускников средней школы к итоговой аттестации по  математике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ИПКиП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ктуальные вопросы содержания профессиональной деятельности современного учителя информат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й 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Школьный  университет»  2011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лгоритмизация и программировани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й 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Школьный  университет»  2011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09:29:44Z</dcterms:created>
  <dc:creator>USER</dc:creator>
  <dc:description/>
  <dc:language>en-US</dc:language>
  <cp:lastModifiedBy>Home</cp:lastModifiedBy>
  <dcterms:modified xsi:type="dcterms:W3CDTF">2011-11-02T14:03:1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