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8EBA-B4CA-4D86-B9D9-A1510715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F4AB-3504-4951-B853-AC6E503C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C7DF5-591B-4C7D-8696-F00D3D15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A7ECC-FC86-450D-8C8D-B1C07F82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0A77D-5AF7-4C76-A620-08BD09AF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D4214-0616-4F81-8FE2-7F649FA4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65F5E-8E11-4DA2-8490-213E042A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025B9-46DD-4837-B781-B158707A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B6F1A-1463-4830-A1D1-61B42CB8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9E418-7563-4DF9-B7F2-CDB83F8E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FA882-DDB6-4B3B-A1DE-968FFB9B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ED50C-3A9A-4DF1-B8B6-EB99961C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4C4-D938-4B97-8FAD-89AA4E70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3E3B8-5D2A-4030-9587-B258A90B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E3E92-3858-4396-A2ED-7B4A9FE4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C0009-95D0-47EA-B8A9-E18CD772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E73A2-3B00-4F24-B874-A0A10194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CF653-F111-4583-9188-7EA7D6A1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59F9C-A6E2-4806-B7F5-1A6E1CE2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1B490-ED38-48E1-9F38-23FC5A49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9D6EB-E537-43C7-A639-B308F785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44DB4-8313-47F6-8F1E-33FD0A6E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49D80-A5FF-4F7B-B530-A96BAEBC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69DB-F530-4498-85FC-AECECFFE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1680E-3831-4B19-8A90-E75A0857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987BB-4FD0-44E4-BBAB-AEDEB4EA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66DA1-F78E-49DD-9EA9-F895C843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0BD5A-BB92-4BE2-A840-DA175B2C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BD658-D3EB-4F77-8B88-34E0FB9F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EF160-3912-4FFF-AFA4-E8CC4F2F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2BB69-9649-4C79-A734-15D9F83A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90BB7-57B0-491D-A33E-A2A75EFD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DD81A-687F-4CB8-96B9-83589FC4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82214-843B-4767-96C6-81981C3C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F6D0-DC45-40C0-9518-DFB17F1E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23180-A0CC-4B52-96EF-C3E7F205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AFD16-68D3-4872-81C7-8A90716B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77921-1F3C-40AA-8920-349F57D9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353CA-2BD0-463A-BA4A-CBACE555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8F7E3-54BF-4377-BE73-5992538E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3A84C-5878-4147-9D96-0133502C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6BA43-D10A-49BB-95E2-68C2335C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8B967-BC82-434A-AEE0-33BE9953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68942-5AAF-4E52-ADD4-4AF8762A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56579-582F-4EB9-8574-84F8C3BC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EA53-8723-4A72-A8BC-65009F3D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A276B-EC4A-413C-81CF-4AEC0F7B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95BF2-DB73-40F2-BA74-1F7199A8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C7B00-6A24-45F5-83F1-BA1A0210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E9F37-225B-4663-9978-138F730F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EAC9B-531C-4E93-B300-89014592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EA3C-72D3-449D-9600-365319F6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D1D7-C909-4991-B980-380B0FDC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12B3-9537-473F-B060-6E1D24BD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78D9-7F6D-437A-9B4A-E0A5AC06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AC97-DF85-4A23-BFC6-FBDE85E6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41B-6E38-41FE-B979-8901F1C0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1FAB-6A3C-4A2F-A360-8B240CC1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CB5D-FBF7-4E06-A128-16553496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49EF-93B3-4B28-A609-E073676D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7017-E7CE-49CB-AC12-A83470B2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C9C1-BC58-4D9E-AC78-B1EFA2B9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6FBBA-E138-4646-9F27-F934E90B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FD830-44C5-4091-AADF-9CFD5B67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779B9-C7FB-47D1-AE8D-E0778749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5DAFF-4A9A-43AC-88FD-A97E63EC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E08B2-4C55-4FA1-ADBE-9905D31E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0046-F07F-4F2C-B25F-E9379565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68C20-91FA-46E3-BAC5-90282728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37563-CB28-43DD-B133-31874065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DA6BA-B72A-4CBC-89AF-42035237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49965-2021-4EB4-9D87-3A26A69A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43983-3DAA-4115-B043-253A6790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34A15-9750-428E-BB5D-025E0954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0F639-1576-48FB-BF31-73F86BAA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15D02-F966-4120-888C-C671B71D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18BDD-5947-4329-B7DD-55107537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263CB-8120-4807-B282-7E5DCBF0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3425-0579-436E-841B-B49CE8BD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92E43-F72D-41E6-A475-8F136BF3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1ED40-4E76-40A6-81B0-9B269C76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D77FE-0232-439F-9037-39558C65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F141F-B5D6-4371-877B-E35D073D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96D80-845C-4364-B714-A2E78952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FE175-4389-406A-9D56-D9D7F37E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568D9-0DE0-450B-8899-1F8D198B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9E2DE-5406-483E-BA63-4C8ACF79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B1845-A444-4C16-8461-5ECF0FBC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CD699-E5DF-44F0-9808-EA90D46D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9C8-7488-4BEC-AB62-0ADF1258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7D517-0888-4EEC-A708-E73AB0F8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2A6CD-5E31-41DD-BFFB-97ED9BEB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4E251-8851-471B-B308-5E4EBC75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46093-5ED4-4193-BE58-7BE34950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847E6-5538-4D8B-91A4-50255D98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2110D-E15F-4A10-8401-6587994D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375FA-AAFB-4853-B456-87402E63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C0B00-6818-406D-853D-83DFFCFC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A4ADB-CCF2-4257-A868-A645B7E8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B4A67-B2B8-41C8-B02B-AA5F32E5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3535-4E21-4F3D-BF28-467A58A9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EDCE0-6D0A-44C0-92BA-402DBC05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2BA5A-B7E8-4921-B142-194CF4DB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F0DF3-0BB8-4F18-9473-40905B92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D4BFF-B104-4DB7-BB3A-A9852A18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52D61-0056-459E-82CF-9FFAF600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BA030-1014-405F-8F0D-CD704711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A3A63-20BA-46A7-915C-22C8FC04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55F85-24AA-4F9B-AF2C-896D6021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2AD9A-5CBF-4DB5-A5D7-8D67CFB6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BD958-7F25-4E70-96AE-AFF5FD92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B5D-F998-428A-A22B-D1E0C2C6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4AFD8-0EDA-45EC-B295-C7F86E6F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A0D91-44D2-4F80-8890-12D10210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181E7-F388-4978-9ACD-0A11DA88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C9DA3-4069-4113-8A03-5D681017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03EBD-3577-4F0D-8751-79720CF6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AD3F9-0C0F-4844-9724-7CD352AD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BD6E1-57C8-496E-9975-A4A99E40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9309A-855C-4B35-825E-A170CFB5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D52B7-DEF3-4F57-A0B8-B31EE3D0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85C8B-0875-4258-8DA4-65697540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700-06D7-441D-82D0-D2B7110F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3FB26-44E2-4215-ACE3-EE45B1FF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0CE3D-D51A-4707-B7F7-3A7712CB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1E479-41A2-4540-AD93-E725C4B8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A99AF-248E-4EBF-A387-477AB6C5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93B0A-75C2-40ED-BC3C-3FB1EFAC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84050-C229-445D-8959-47540473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6CF4F-453F-4A7B-B848-C48DA4BC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D2E7E-3440-4DFA-ADCA-3C0EADC6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6DA00-935D-42C5-AC4C-80D607C8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1CDA1-DE4D-4997-B7D7-A46602E0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3A71-D497-4F02-9FFD-4F1269AC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7C1A0-446A-4890-940E-05CC3097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4C3C5-E622-4463-84FB-B4F5205B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4F5BA-70B7-4070-A215-4121E5B6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7CBB0-F2C6-414B-BEA1-49D7E268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2ECF9-4C53-4B33-84D9-42037A19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4DF50-BD88-4A04-ADE2-533542B0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7D8F7-A662-4E49-BBE8-2D3AEC16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732D6-FFB7-473C-B42F-9A1F094E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CDF42-5A3A-4AF3-B8D5-C7D27D8A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1C5C5-B7FD-4947-8BD2-A1902AFB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0" y="0"/>
            <a:ext cx="9153360" cy="18622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0" y="0"/>
            <a:ext cx="9153360" cy="1481040"/>
          </a:xfrm>
          <a:prstGeom prst="pie">
            <a:avLst/>
          </a:pr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6013-563C-4A46-87C4-7A3B0165D7F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7"/>
          <p:cNvGrpSpPr/>
          <p:nvPr/>
        </p:nvGrpSpPr>
        <p:grpSpPr>
          <a:xfrm>
            <a:off x="0" y="-6840"/>
            <a:ext cx="1104840" cy="6891480"/>
            <a:chOff x="0" y="-6840"/>
            <a:chExt cx="1104840" cy="6891480"/>
          </a:xfrm>
        </p:grpSpPr>
        <p:sp>
          <p:nvSpPr>
            <p:cNvPr id="453" name="Freeform 8"/>
            <p:cNvSpPr/>
            <p:nvPr/>
          </p:nvSpPr>
          <p:spPr>
            <a:xfrm rot="16200000">
              <a:off x="-2892240" y="2887200"/>
              <a:ext cx="6891480" cy="1103400"/>
            </a:xfrm>
            <a:prstGeom prst="pie">
              <a:avLst/>
            </a:pr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9"/>
            <p:cNvSpPr/>
            <p:nvPr/>
          </p:nvSpPr>
          <p:spPr>
            <a:xfrm rot="16200000">
              <a:off x="-2893680" y="2901240"/>
              <a:ext cx="6870960" cy="1082880"/>
            </a:xfrm>
            <a:prstGeom prst="pie">
              <a:avLst/>
            </a:pr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Oval 10"/>
          <p:cNvGrpSpPr/>
          <p:nvPr/>
        </p:nvGrpSpPr>
        <p:grpSpPr>
          <a:xfrm>
            <a:off x="6851520" y="3882960"/>
            <a:ext cx="774720" cy="768240"/>
            <a:chOff x="6851520" y="3882960"/>
            <a:chExt cx="774720" cy="768240"/>
          </a:xfrm>
        </p:grpSpPr>
        <p:pic>
          <p:nvPicPr>
            <p:cNvPr id="456" name="Oval 10" descr=""/>
            <p:cNvPicPr/>
            <p:nvPr/>
          </p:nvPicPr>
          <p:blipFill>
            <a:blip r:embed="rId2"/>
            <a:stretch/>
          </p:blipFill>
          <p:spPr>
            <a:xfrm>
              <a:off x="6851520" y="388296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6969240" y="399744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Oval 11"/>
          <p:cNvGrpSpPr/>
          <p:nvPr/>
        </p:nvGrpSpPr>
        <p:grpSpPr>
          <a:xfrm>
            <a:off x="5784840" y="4565520"/>
            <a:ext cx="396720" cy="397080"/>
            <a:chOff x="5784840" y="4565520"/>
            <a:chExt cx="396720" cy="397080"/>
          </a:xfrm>
        </p:grpSpPr>
        <p:pic>
          <p:nvPicPr>
            <p:cNvPr id="459" name="Oval 11" descr=""/>
            <p:cNvPicPr/>
            <p:nvPr/>
          </p:nvPicPr>
          <p:blipFill>
            <a:blip r:embed="rId3"/>
            <a:stretch/>
          </p:blipFill>
          <p:spPr>
            <a:xfrm>
              <a:off x="5784840" y="4565520"/>
              <a:ext cx="39672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845320" y="46274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Oval 12"/>
          <p:cNvGrpSpPr/>
          <p:nvPr/>
        </p:nvGrpSpPr>
        <p:grpSpPr>
          <a:xfrm>
            <a:off x="1212840" y="378000"/>
            <a:ext cx="744480" cy="744480"/>
            <a:chOff x="1212840" y="378000"/>
            <a:chExt cx="744480" cy="744480"/>
          </a:xfrm>
        </p:grpSpPr>
        <p:pic>
          <p:nvPicPr>
            <p:cNvPr id="462" name="Oval 12" descr=""/>
            <p:cNvPicPr/>
            <p:nvPr/>
          </p:nvPicPr>
          <p:blipFill>
            <a:blip r:embed="rId4"/>
            <a:stretch/>
          </p:blipFill>
          <p:spPr>
            <a:xfrm>
              <a:off x="1212840" y="378000"/>
              <a:ext cx="744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324080" y="490680"/>
              <a:ext cx="515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2887-2D87-47A9-981A-8C611909EAD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reeform 7"/>
          <p:cNvSpPr/>
          <p:nvPr/>
        </p:nvSpPr>
        <p:spPr>
          <a:xfrm>
            <a:off x="0" y="0"/>
            <a:ext cx="9150480" cy="128124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8"/>
          <p:cNvSpPr/>
          <p:nvPr/>
        </p:nvSpPr>
        <p:spPr>
          <a:xfrm>
            <a:off x="0" y="-1440"/>
            <a:ext cx="9144000" cy="109368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Oval 9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508" name="Oval 9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Oval 10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511" name="Oval 10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Oval 11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514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A234-6E69-49A6-B000-066DE22E924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reeform 7"/>
          <p:cNvSpPr/>
          <p:nvPr/>
        </p:nvSpPr>
        <p:spPr>
          <a:xfrm flipV="1">
            <a:off x="0" y="5590080"/>
            <a:ext cx="9150480" cy="128124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8"/>
          <p:cNvSpPr/>
          <p:nvPr/>
        </p:nvSpPr>
        <p:spPr>
          <a:xfrm flipV="1">
            <a:off x="0" y="5779800"/>
            <a:ext cx="9144000" cy="109368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Oval 9"/>
          <p:cNvGrpSpPr/>
          <p:nvPr/>
        </p:nvGrpSpPr>
        <p:grpSpPr>
          <a:xfrm>
            <a:off x="8143920" y="5638680"/>
            <a:ext cx="768240" cy="768600"/>
            <a:chOff x="8143920" y="5638680"/>
            <a:chExt cx="768240" cy="768600"/>
          </a:xfrm>
        </p:grpSpPr>
        <p:pic>
          <p:nvPicPr>
            <p:cNvPr id="560" name="Oval 9" descr=""/>
            <p:cNvPicPr/>
            <p:nvPr/>
          </p:nvPicPr>
          <p:blipFill>
            <a:blip r:embed="rId2"/>
            <a:stretch/>
          </p:blipFill>
          <p:spPr>
            <a:xfrm>
              <a:off x="8143920" y="5638680"/>
              <a:ext cx="7682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8258040" y="5753160"/>
              <a:ext cx="5367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Oval 10"/>
          <p:cNvGrpSpPr/>
          <p:nvPr/>
        </p:nvGrpSpPr>
        <p:grpSpPr>
          <a:xfrm>
            <a:off x="8637480" y="5205240"/>
            <a:ext cx="397080" cy="397080"/>
            <a:chOff x="8637480" y="5205240"/>
            <a:chExt cx="397080" cy="397080"/>
          </a:xfrm>
        </p:grpSpPr>
        <p:pic>
          <p:nvPicPr>
            <p:cNvPr id="563" name="Oval 10" descr=""/>
            <p:cNvPicPr/>
            <p:nvPr/>
          </p:nvPicPr>
          <p:blipFill>
            <a:blip r:embed="rId3"/>
            <a:stretch/>
          </p:blipFill>
          <p:spPr>
            <a:xfrm>
              <a:off x="8637480" y="5205240"/>
              <a:ext cx="397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8697960" y="52689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Oval 11"/>
          <p:cNvGrpSpPr/>
          <p:nvPr/>
        </p:nvGrpSpPr>
        <p:grpSpPr>
          <a:xfrm>
            <a:off x="281160" y="5638680"/>
            <a:ext cx="841320" cy="841320"/>
            <a:chOff x="281160" y="5638680"/>
            <a:chExt cx="841320" cy="841320"/>
          </a:xfrm>
        </p:grpSpPr>
        <p:pic>
          <p:nvPicPr>
            <p:cNvPr id="566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563868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404640" y="5764320"/>
              <a:ext cx="5889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44F9-98E3-4695-AF51-48CCAE3C49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1335240"/>
            <a:ext cx="9147240" cy="408456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0" y="1728720"/>
            <a:ext cx="9144000" cy="330840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Oval 8"/>
          <p:cNvGrpSpPr/>
          <p:nvPr/>
        </p:nvGrpSpPr>
        <p:grpSpPr>
          <a:xfrm>
            <a:off x="7693200" y="1292400"/>
            <a:ext cx="1000080" cy="1000080"/>
            <a:chOff x="7693200" y="1292400"/>
            <a:chExt cx="1000080" cy="1000080"/>
          </a:xfrm>
        </p:grpSpPr>
        <p:pic>
          <p:nvPicPr>
            <p:cNvPr id="46" name="Oval 8" descr=""/>
            <p:cNvPicPr/>
            <p:nvPr/>
          </p:nvPicPr>
          <p:blipFill>
            <a:blip r:embed="rId2"/>
            <a:stretch/>
          </p:blipFill>
          <p:spPr>
            <a:xfrm>
              <a:off x="7693200" y="129240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843680" y="1442880"/>
              <a:ext cx="698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Oval 9"/>
          <p:cNvGrpSpPr/>
          <p:nvPr/>
        </p:nvGrpSpPr>
        <p:grpSpPr>
          <a:xfrm>
            <a:off x="7010280" y="1925640"/>
            <a:ext cx="524160" cy="525600"/>
            <a:chOff x="7010280" y="1925640"/>
            <a:chExt cx="524160" cy="525600"/>
          </a:xfrm>
        </p:grpSpPr>
        <p:pic>
          <p:nvPicPr>
            <p:cNvPr id="49" name="Oval 9" descr=""/>
            <p:cNvPicPr/>
            <p:nvPr/>
          </p:nvPicPr>
          <p:blipFill>
            <a:blip r:embed="rId3"/>
            <a:stretch/>
          </p:blipFill>
          <p:spPr>
            <a:xfrm>
              <a:off x="7010280" y="1925640"/>
              <a:ext cx="5241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088040" y="2004840"/>
              <a:ext cx="3621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Oval 10"/>
          <p:cNvGrpSpPr/>
          <p:nvPr/>
        </p:nvGrpSpPr>
        <p:grpSpPr>
          <a:xfrm>
            <a:off x="682560" y="4108320"/>
            <a:ext cx="1225440" cy="1231920"/>
            <a:chOff x="682560" y="4108320"/>
            <a:chExt cx="1225440" cy="1231920"/>
          </a:xfrm>
        </p:grpSpPr>
        <p:pic>
          <p:nvPicPr>
            <p:cNvPr id="52" name="Oval 10" descr=""/>
            <p:cNvPicPr/>
            <p:nvPr/>
          </p:nvPicPr>
          <p:blipFill>
            <a:blip r:embed="rId4"/>
            <a:stretch/>
          </p:blipFill>
          <p:spPr>
            <a:xfrm>
              <a:off x="682560" y="410832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63640" y="4292640"/>
              <a:ext cx="86040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8C26-280E-45DB-8DA6-6E0FB6AF0A6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0" y="0"/>
            <a:ext cx="9153360" cy="18622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0" y="0"/>
            <a:ext cx="9153360" cy="1481040"/>
          </a:xfrm>
          <a:prstGeom prst="pie">
            <a:avLst/>
          </a:pr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val 6"/>
          <p:cNvGrpSpPr/>
          <p:nvPr/>
        </p:nvGrpSpPr>
        <p:grpSpPr>
          <a:xfrm>
            <a:off x="8163000" y="665280"/>
            <a:ext cx="768240" cy="766800"/>
            <a:chOff x="8163000" y="665280"/>
            <a:chExt cx="768240" cy="766800"/>
          </a:xfrm>
        </p:grpSpPr>
        <p:pic>
          <p:nvPicPr>
            <p:cNvPr id="98" name="Oval 6" descr=""/>
            <p:cNvPicPr/>
            <p:nvPr/>
          </p:nvPicPr>
          <p:blipFill>
            <a:blip r:embed="rId2"/>
            <a:stretch/>
          </p:blipFill>
          <p:spPr>
            <a:xfrm>
              <a:off x="8163000" y="665280"/>
              <a:ext cx="7682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277120" y="777960"/>
              <a:ext cx="536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Oval 7"/>
          <p:cNvGrpSpPr/>
          <p:nvPr/>
        </p:nvGrpSpPr>
        <p:grpSpPr>
          <a:xfrm>
            <a:off x="7875720" y="1347840"/>
            <a:ext cx="396720" cy="395280"/>
            <a:chOff x="7875720" y="1347840"/>
            <a:chExt cx="396720" cy="395280"/>
          </a:xfrm>
        </p:grpSpPr>
        <p:pic>
          <p:nvPicPr>
            <p:cNvPr id="101" name="Oval 7" descr=""/>
            <p:cNvPicPr/>
            <p:nvPr/>
          </p:nvPicPr>
          <p:blipFill>
            <a:blip r:embed="rId3"/>
            <a:stretch/>
          </p:blipFill>
          <p:spPr>
            <a:xfrm>
              <a:off x="7875720" y="134784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939080" y="14097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Oval 8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104" name="Oval 8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1C3E-F0FE-4A9B-9017-08249156E4A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10"/>
          <p:cNvSpPr/>
          <p:nvPr/>
        </p:nvSpPr>
        <p:spPr>
          <a:xfrm>
            <a:off x="0" y="426960"/>
            <a:ext cx="9144000" cy="452592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6"/>
          <p:cNvSpPr/>
          <p:nvPr/>
        </p:nvSpPr>
        <p:spPr>
          <a:xfrm>
            <a:off x="0" y="0"/>
            <a:ext cx="9144000" cy="4525920"/>
          </a:xfrm>
          <a:prstGeom prst="pie">
            <a:avLst/>
          </a:pr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Oval 7"/>
          <p:cNvGrpSpPr/>
          <p:nvPr/>
        </p:nvGrpSpPr>
        <p:grpSpPr>
          <a:xfrm>
            <a:off x="8058240" y="3846600"/>
            <a:ext cx="774720" cy="768240"/>
            <a:chOff x="8058240" y="3846600"/>
            <a:chExt cx="774720" cy="768240"/>
          </a:xfrm>
        </p:grpSpPr>
        <p:pic>
          <p:nvPicPr>
            <p:cNvPr id="150" name="Oval 7" descr=""/>
            <p:cNvPicPr/>
            <p:nvPr/>
          </p:nvPicPr>
          <p:blipFill>
            <a:blip r:embed="rId2"/>
            <a:stretch/>
          </p:blipFill>
          <p:spPr>
            <a:xfrm>
              <a:off x="8058240" y="384660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175600" y="3960720"/>
              <a:ext cx="53676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Oval 8"/>
          <p:cNvGrpSpPr/>
          <p:nvPr/>
        </p:nvGrpSpPr>
        <p:grpSpPr>
          <a:xfrm>
            <a:off x="7785000" y="4529160"/>
            <a:ext cx="395280" cy="396720"/>
            <a:chOff x="7785000" y="4529160"/>
            <a:chExt cx="395280" cy="396720"/>
          </a:xfrm>
        </p:grpSpPr>
        <p:pic>
          <p:nvPicPr>
            <p:cNvPr id="153" name="Oval 8" descr=""/>
            <p:cNvPicPr/>
            <p:nvPr/>
          </p:nvPicPr>
          <p:blipFill>
            <a:blip r:embed="rId3"/>
            <a:stretch/>
          </p:blipFill>
          <p:spPr>
            <a:xfrm>
              <a:off x="7785000" y="4529160"/>
              <a:ext cx="395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846920" y="459108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Oval 9"/>
          <p:cNvGrpSpPr/>
          <p:nvPr/>
        </p:nvGrpSpPr>
        <p:grpSpPr>
          <a:xfrm>
            <a:off x="298440" y="3833640"/>
            <a:ext cx="1006560" cy="1013040"/>
            <a:chOff x="298440" y="3833640"/>
            <a:chExt cx="1006560" cy="1013040"/>
          </a:xfrm>
        </p:grpSpPr>
        <p:pic>
          <p:nvPicPr>
            <p:cNvPr id="156" name="Oval 9" descr=""/>
            <p:cNvPicPr/>
            <p:nvPr/>
          </p:nvPicPr>
          <p:blipFill>
            <a:blip r:embed="rId4"/>
            <a:stretch/>
          </p:blipFill>
          <p:spPr>
            <a:xfrm>
              <a:off x="298440" y="3833640"/>
              <a:ext cx="10065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47840" y="3986280"/>
              <a:ext cx="7045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A307-8977-4FEA-B8B2-2D8EF5F35BD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7"/>
          <p:cNvSpPr/>
          <p:nvPr/>
        </p:nvSpPr>
        <p:spPr>
          <a:xfrm>
            <a:off x="0" y="0"/>
            <a:ext cx="9144000" cy="19288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"/>
          <p:cNvSpPr/>
          <p:nvPr/>
        </p:nvSpPr>
        <p:spPr>
          <a:xfrm>
            <a:off x="0" y="228600"/>
            <a:ext cx="9144000" cy="140976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Oval 9"/>
          <p:cNvGrpSpPr/>
          <p:nvPr/>
        </p:nvGrpSpPr>
        <p:grpSpPr>
          <a:xfrm>
            <a:off x="8308800" y="96840"/>
            <a:ext cx="622440" cy="622440"/>
            <a:chOff x="8308800" y="96840"/>
            <a:chExt cx="622440" cy="622440"/>
          </a:xfrm>
        </p:grpSpPr>
        <p:pic>
          <p:nvPicPr>
            <p:cNvPr id="202" name="Oval 9" descr=""/>
            <p:cNvPicPr/>
            <p:nvPr/>
          </p:nvPicPr>
          <p:blipFill>
            <a:blip r:embed="rId2"/>
            <a:stretch/>
          </p:blipFill>
          <p:spPr>
            <a:xfrm>
              <a:off x="8308800" y="96840"/>
              <a:ext cx="622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400960" y="190440"/>
              <a:ext cx="4334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Oval 10"/>
          <p:cNvGrpSpPr/>
          <p:nvPr/>
        </p:nvGrpSpPr>
        <p:grpSpPr>
          <a:xfrm>
            <a:off x="7559640" y="171360"/>
            <a:ext cx="378000" cy="378000"/>
            <a:chOff x="7559640" y="171360"/>
            <a:chExt cx="378000" cy="378000"/>
          </a:xfrm>
        </p:grpSpPr>
        <p:pic>
          <p:nvPicPr>
            <p:cNvPr id="205" name="Oval 10" descr=""/>
            <p:cNvPicPr/>
            <p:nvPr/>
          </p:nvPicPr>
          <p:blipFill>
            <a:blip r:embed="rId3"/>
            <a:stretch/>
          </p:blipFill>
          <p:spPr>
            <a:xfrm>
              <a:off x="7559640" y="171360"/>
              <a:ext cx="3780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615080" y="227160"/>
              <a:ext cx="2588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Oval 11"/>
          <p:cNvGrpSpPr/>
          <p:nvPr/>
        </p:nvGrpSpPr>
        <p:grpSpPr>
          <a:xfrm>
            <a:off x="208080" y="927000"/>
            <a:ext cx="1004760" cy="1011240"/>
            <a:chOff x="208080" y="927000"/>
            <a:chExt cx="1004760" cy="1011240"/>
          </a:xfrm>
        </p:grpSpPr>
        <p:pic>
          <p:nvPicPr>
            <p:cNvPr id="208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9270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55680" y="1077840"/>
              <a:ext cx="7048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4A0C-A581-4FB7-93FF-03A192C9400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6"/>
          <p:cNvSpPr/>
          <p:nvPr/>
        </p:nvSpPr>
        <p:spPr>
          <a:xfrm>
            <a:off x="0" y="0"/>
            <a:ext cx="9153360" cy="18622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0" y="0"/>
            <a:ext cx="9153360" cy="1481040"/>
          </a:xfrm>
          <a:prstGeom prst="pie">
            <a:avLst/>
          </a:pr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Oval 9"/>
          <p:cNvGrpSpPr/>
          <p:nvPr/>
        </p:nvGrpSpPr>
        <p:grpSpPr>
          <a:xfrm>
            <a:off x="8223120" y="1000080"/>
            <a:ext cx="628920" cy="627120"/>
            <a:chOff x="8223120" y="1000080"/>
            <a:chExt cx="628920" cy="627120"/>
          </a:xfrm>
        </p:grpSpPr>
        <p:pic>
          <p:nvPicPr>
            <p:cNvPr id="254" name="Oval 9" descr=""/>
            <p:cNvPicPr/>
            <p:nvPr/>
          </p:nvPicPr>
          <p:blipFill>
            <a:blip r:embed="rId2"/>
            <a:stretch/>
          </p:blipFill>
          <p:spPr>
            <a:xfrm>
              <a:off x="8223120" y="1000080"/>
              <a:ext cx="6289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319960" y="1095480"/>
              <a:ext cx="4320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Oval 10"/>
          <p:cNvGrpSpPr/>
          <p:nvPr/>
        </p:nvGrpSpPr>
        <p:grpSpPr>
          <a:xfrm>
            <a:off x="7693200" y="963720"/>
            <a:ext cx="396720" cy="395280"/>
            <a:chOff x="7693200" y="963720"/>
            <a:chExt cx="396720" cy="395280"/>
          </a:xfrm>
        </p:grpSpPr>
        <p:pic>
          <p:nvPicPr>
            <p:cNvPr id="257" name="Oval 10" descr=""/>
            <p:cNvPicPr/>
            <p:nvPr/>
          </p:nvPicPr>
          <p:blipFill>
            <a:blip r:embed="rId3"/>
            <a:stretch/>
          </p:blipFill>
          <p:spPr>
            <a:xfrm>
              <a:off x="7693200" y="96372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754760" y="1025640"/>
              <a:ext cx="271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Oval 11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260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7B71-1E82-4A9C-AF0E-0548A84ADF8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reeform 9"/>
          <p:cNvSpPr/>
          <p:nvPr/>
        </p:nvSpPr>
        <p:spPr>
          <a:xfrm>
            <a:off x="0" y="0"/>
            <a:ext cx="9150480" cy="128124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0" y="-1440"/>
            <a:ext cx="9144000" cy="109368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Oval 6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06" name="Oval 6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Oval 7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09" name="Oval 7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Oval 8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12" name="Oval 8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59F6-C6CF-486B-AF2F-ED87725EBCB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"/>
          <p:cNvGrpSpPr/>
          <p:nvPr/>
        </p:nvGrpSpPr>
        <p:grpSpPr>
          <a:xfrm>
            <a:off x="0" y="-1440"/>
            <a:ext cx="9150480" cy="1282680"/>
            <a:chOff x="0" y="-1440"/>
            <a:chExt cx="9150480" cy="1282680"/>
          </a:xfrm>
        </p:grpSpPr>
        <p:sp>
          <p:nvSpPr>
            <p:cNvPr id="356" name="Freeform 5"/>
            <p:cNvSpPr/>
            <p:nvPr/>
          </p:nvSpPr>
          <p:spPr>
            <a:xfrm>
              <a:off x="0" y="0"/>
              <a:ext cx="9150480" cy="1281240"/>
            </a:xfrm>
            <a:prstGeom prst="pie">
              <a:avLst/>
            </a:pr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0" y="-1440"/>
              <a:ext cx="9144360" cy="1094040"/>
            </a:xfrm>
            <a:prstGeom prst="pie">
              <a:avLst/>
            </a:pr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Oval 7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59" name="Oval 7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Oval 8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62" name="Oval 8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Oval 9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65" name="Oval 9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0B35-3425-4DE5-829F-CB67B996533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"/>
          <p:cNvGrpSpPr/>
          <p:nvPr/>
        </p:nvGrpSpPr>
        <p:grpSpPr>
          <a:xfrm>
            <a:off x="0" y="-6840"/>
            <a:ext cx="1104840" cy="6891480"/>
            <a:chOff x="0" y="-6840"/>
            <a:chExt cx="1104840" cy="6891480"/>
          </a:xfrm>
        </p:grpSpPr>
        <p:sp>
          <p:nvSpPr>
            <p:cNvPr id="409" name="Freeform 8"/>
            <p:cNvSpPr/>
            <p:nvPr/>
          </p:nvSpPr>
          <p:spPr>
            <a:xfrm rot="16200000">
              <a:off x="-2892240" y="2887200"/>
              <a:ext cx="6891480" cy="1103400"/>
            </a:xfrm>
            <a:prstGeom prst="pie">
              <a:avLst/>
            </a:pr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 rot="16200000">
              <a:off x="-2893680" y="2901240"/>
              <a:ext cx="6870960" cy="1082880"/>
            </a:xfrm>
            <a:prstGeom prst="pie">
              <a:avLst/>
            </a:pr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5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6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5793-150B-4D79-9522-6B88915D1CF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Прямоугольник 3" descr=""/>
          <p:cNvPicPr/>
          <p:nvPr/>
        </p:nvPicPr>
        <p:blipFill>
          <a:blip r:embed="rId1"/>
          <a:stretch/>
        </p:blipFill>
        <p:spPr>
          <a:xfrm>
            <a:off x="0" y="2273400"/>
            <a:ext cx="9156600" cy="2133360"/>
          </a:xfrm>
          <a:prstGeom prst="rect">
            <a:avLst/>
          </a:prstGeom>
          <a:ln w="0">
            <a:noFill/>
          </a:ln>
        </p:spPr>
      </p:pic>
      <p:pic>
        <p:nvPicPr>
          <p:cNvPr id="610" name="Rectangle 5" descr=""/>
          <p:cNvPicPr/>
          <p:nvPr/>
        </p:nvPicPr>
        <p:blipFill>
          <a:blip r:embed="rId2"/>
          <a:srcRect l="0" t="49472" r="0" b="0"/>
          <a:stretch/>
        </p:blipFill>
        <p:spPr>
          <a:xfrm>
            <a:off x="6181560" y="5877000"/>
            <a:ext cx="2541600" cy="80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Содержимое 1" descr=""/>
          <p:cNvPicPr/>
          <p:nvPr/>
        </p:nvPicPr>
        <p:blipFill>
          <a:blip r:embed="rId1"/>
          <a:stretch/>
        </p:blipFill>
        <p:spPr>
          <a:xfrm>
            <a:off x="281160" y="1773360"/>
            <a:ext cx="8508960" cy="5297400"/>
          </a:xfrm>
          <a:prstGeom prst="rect">
            <a:avLst/>
          </a:prstGeom>
          <a:ln w="0">
            <a:noFill/>
          </a:ln>
        </p:spPr>
      </p:pic>
      <p:pic>
        <p:nvPicPr>
          <p:cNvPr id="612" name="Rectangle 3" descr=""/>
          <p:cNvPicPr/>
          <p:nvPr/>
        </p:nvPicPr>
        <p:blipFill>
          <a:blip r:embed="rId2"/>
          <a:stretch/>
        </p:blipFill>
        <p:spPr>
          <a:xfrm>
            <a:off x="1706400" y="30240"/>
            <a:ext cx="5127840" cy="823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Содержимое 1" descr=""/>
          <p:cNvPicPr/>
          <p:nvPr/>
        </p:nvPicPr>
        <p:blipFill>
          <a:blip r:embed="rId1"/>
          <a:stretch/>
        </p:blipFill>
        <p:spPr>
          <a:xfrm>
            <a:off x="158760" y="1468440"/>
            <a:ext cx="8113680" cy="1689120"/>
          </a:xfrm>
          <a:prstGeom prst="rect">
            <a:avLst/>
          </a:prstGeom>
          <a:ln w="0">
            <a:noFill/>
          </a:ln>
        </p:spPr>
      </p:pic>
      <p:pic>
        <p:nvPicPr>
          <p:cNvPr id="614" name="Блок-схема: перфолента 3" descr=""/>
          <p:cNvPicPr/>
          <p:nvPr/>
        </p:nvPicPr>
        <p:blipFill>
          <a:blip r:embed="rId2"/>
          <a:stretch/>
        </p:blipFill>
        <p:spPr>
          <a:xfrm>
            <a:off x="-476280" y="3048120"/>
            <a:ext cx="9242280" cy="1096920"/>
          </a:xfrm>
          <a:prstGeom prst="rect">
            <a:avLst/>
          </a:prstGeom>
          <a:ln w="0">
            <a:noFill/>
          </a:ln>
        </p:spPr>
      </p:pic>
      <p:pic>
        <p:nvPicPr>
          <p:cNvPr id="615" name="Прямоугольник 7" descr=""/>
          <p:cNvPicPr/>
          <p:nvPr/>
        </p:nvPicPr>
        <p:blipFill>
          <a:blip r:embed="rId3"/>
          <a:stretch/>
        </p:blipFill>
        <p:spPr>
          <a:xfrm>
            <a:off x="706320" y="109440"/>
            <a:ext cx="6516720" cy="75564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2"/>
          <p:cNvSpPr/>
          <p:nvPr/>
        </p:nvSpPr>
        <p:spPr>
          <a:xfrm>
            <a:off x="642960" y="3550320"/>
            <a:ext cx="7858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680" indent="4348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Осуществить теоретический анализ литературы по тем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434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4348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Разработать исследовательский кейс по Д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714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Разработать управленческий проек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по созданию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условий реализации творческих инициа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285480" y="2428560"/>
            <a:ext cx="84294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обобщения опыта осуществления инноваций педагогами ДОУ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вовлечение специалистов к анализу и реализации педагогических инноваций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формирование инициативных групп и организация проектирования совместной деятельности группы по реализации инициативы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представление проектных замыслов в педагогическом коллективе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8" name="Прямоугольник 3" descr=""/>
          <p:cNvPicPr/>
          <p:nvPr/>
        </p:nvPicPr>
        <p:blipFill>
          <a:blip r:embed="rId1"/>
          <a:stretch/>
        </p:blipFill>
        <p:spPr>
          <a:xfrm>
            <a:off x="2664000" y="109440"/>
            <a:ext cx="2725560" cy="75564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1"/>
          <p:cNvSpPr/>
          <p:nvPr/>
        </p:nvSpPr>
        <p:spPr>
          <a:xfrm>
            <a:off x="1285920" y="1200600"/>
            <a:ext cx="5715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если в ДОУ организовать работу  по реализации инициатив педагогов, включающую в себ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TextBox 4" descr=""/>
          <p:cNvPicPr/>
          <p:nvPr/>
        </p:nvPicPr>
        <p:blipFill>
          <a:blip r:embed="rId2"/>
          <a:stretch/>
        </p:blipFill>
        <p:spPr>
          <a:xfrm>
            <a:off x="554040" y="5065560"/>
            <a:ext cx="8023320" cy="1768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571680" y="2356920"/>
            <a:ext cx="7929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оличество инициатив  педагогов, проявленных в  ДО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области инициирова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оличество инициативных форм жизни в саду (мероприятия, группы, события и пр.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оличество творческих разработок занятий, мероприятий (с использованием инновационных технологий) внедренных в работу ДО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2" name="Rectangle 1" descr=""/>
          <p:cNvPicPr/>
          <p:nvPr/>
        </p:nvPicPr>
        <p:blipFill>
          <a:blip r:embed="rId1"/>
          <a:stretch/>
        </p:blipFill>
        <p:spPr>
          <a:xfrm>
            <a:off x="566640" y="55440"/>
            <a:ext cx="8272440" cy="676440"/>
          </a:xfrm>
          <a:prstGeom prst="rect">
            <a:avLst/>
          </a:prstGeom>
          <a:ln w="0">
            <a:noFill/>
          </a:ln>
        </p:spPr>
      </p:pic>
      <p:pic>
        <p:nvPicPr>
          <p:cNvPr id="623" name="Прямоугольник 4" descr=""/>
          <p:cNvPicPr/>
          <p:nvPr/>
        </p:nvPicPr>
        <p:blipFill>
          <a:blip r:embed="rId2"/>
          <a:stretch/>
        </p:blipFill>
        <p:spPr>
          <a:xfrm>
            <a:off x="993600" y="1359000"/>
            <a:ext cx="6156360" cy="793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Rectangle 4" descr=""/>
          <p:cNvPicPr/>
          <p:nvPr/>
        </p:nvPicPr>
        <p:blipFill>
          <a:blip r:embed="rId1"/>
          <a:stretch/>
        </p:blipFill>
        <p:spPr>
          <a:xfrm>
            <a:off x="171360" y="49320"/>
            <a:ext cx="8223480" cy="755640"/>
          </a:xfrm>
          <a:prstGeom prst="rect">
            <a:avLst/>
          </a:prstGeom>
          <a:ln w="0">
            <a:noFill/>
          </a:ln>
        </p:spPr>
      </p:pic>
      <p:grpSp>
        <p:nvGrpSpPr>
          <p:cNvPr id="625" name="Rectangle 7"/>
          <p:cNvGrpSpPr/>
          <p:nvPr/>
        </p:nvGrpSpPr>
        <p:grpSpPr>
          <a:xfrm>
            <a:off x="3060720" y="3492360"/>
            <a:ext cx="2876400" cy="2670480"/>
            <a:chOff x="3060720" y="3492360"/>
            <a:chExt cx="2876400" cy="2670480"/>
          </a:xfrm>
        </p:grpSpPr>
        <p:pic>
          <p:nvPicPr>
            <p:cNvPr id="626" name="Rectangle 7" descr=""/>
            <p:cNvPicPr/>
            <p:nvPr/>
          </p:nvPicPr>
          <p:blipFill>
            <a:blip r:embed="rId2"/>
            <a:stretch/>
          </p:blipFill>
          <p:spPr>
            <a:xfrm>
              <a:off x="3060720" y="3492360"/>
              <a:ext cx="2876400" cy="267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3330720" y="3759120"/>
              <a:ext cx="2340000" cy="23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mbria"/>
                </a:rPr>
                <a:t>работ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mbria"/>
                </a:rPr>
                <a:t>с пространством ДОУ</a:t>
              </a:r>
              <a:r>
                <a:rPr b="0" lang="en-US" sz="1400" spc="-1" strike="noStrike">
                  <a:solidFill>
                    <a:srgbClr val="000000"/>
                  </a:solidFill>
                  <a:latin typeface="Cambria"/>
                </a:rPr>
                <a:t>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mbria"/>
                </a:rPr>
                <a:t>осуществление контроля, анализа, регулирования и обеспечения инновационной деятельности</a:t>
              </a:r>
              <a:r>
                <a:rPr b="0" lang="en-US" sz="14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Rectangle 8"/>
          <p:cNvGrpSpPr/>
          <p:nvPr/>
        </p:nvGrpSpPr>
        <p:grpSpPr>
          <a:xfrm>
            <a:off x="5919840" y="3060720"/>
            <a:ext cx="2949480" cy="3217680"/>
            <a:chOff x="5919840" y="3060720"/>
            <a:chExt cx="2949480" cy="3217680"/>
          </a:xfrm>
        </p:grpSpPr>
        <p:pic>
          <p:nvPicPr>
            <p:cNvPr id="629" name="Rectangle 8" descr=""/>
            <p:cNvPicPr/>
            <p:nvPr/>
          </p:nvPicPr>
          <p:blipFill>
            <a:blip r:embed="rId3"/>
            <a:stretch/>
          </p:blipFill>
          <p:spPr>
            <a:xfrm>
              <a:off x="5919840" y="3060720"/>
              <a:ext cx="2949480" cy="32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6200640" y="3343320"/>
              <a:ext cx="2386080" cy="29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mbria"/>
                </a:rPr>
                <a:t>работа с родителями</a:t>
              </a:r>
              <a:r>
                <a:rPr b="0" lang="en-US" sz="1400" spc="-1" strike="noStrike">
                  <a:solidFill>
                    <a:srgbClr val="000000"/>
                  </a:solidFill>
                  <a:latin typeface="Cambria"/>
                </a:rPr>
                <a:t>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mbria"/>
                </a:rPr>
                <a:t>направленная на формирование позитивного отношения семьи к вводимым новшествам и привлечение родителей к участию в инновационном процессе</a:t>
              </a:r>
              <a:r>
                <a:rPr b="0" lang="en-US" sz="14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Line 9"/>
          <p:cNvSpPr/>
          <p:nvPr/>
        </p:nvSpPr>
        <p:spPr>
          <a:xfrm flipH="1">
            <a:off x="1785960" y="2357280"/>
            <a:ext cx="928800" cy="706680"/>
          </a:xfrm>
          <a:prstGeom prst="line">
            <a:avLst/>
          </a:prstGeom>
          <a:ln w="48600">
            <a:solidFill>
              <a:srgbClr val="40c6d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0"/>
          <p:cNvSpPr/>
          <p:nvPr/>
        </p:nvSpPr>
        <p:spPr>
          <a:xfrm>
            <a:off x="4357800" y="2357280"/>
            <a:ext cx="46080" cy="1000440"/>
          </a:xfrm>
          <a:prstGeom prst="line">
            <a:avLst/>
          </a:prstGeom>
          <a:ln w="48600">
            <a:solidFill>
              <a:srgbClr val="40c6d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1"/>
          <p:cNvSpPr/>
          <p:nvPr/>
        </p:nvSpPr>
        <p:spPr>
          <a:xfrm>
            <a:off x="5929200" y="2286000"/>
            <a:ext cx="1150920" cy="646200"/>
          </a:xfrm>
          <a:prstGeom prst="line">
            <a:avLst/>
          </a:prstGeom>
          <a:ln w="48600">
            <a:solidFill>
              <a:srgbClr val="40c6d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Rectangle 12" descr=""/>
          <p:cNvPicPr/>
          <p:nvPr/>
        </p:nvPicPr>
        <p:blipFill>
          <a:blip r:embed="rId4"/>
          <a:stretch/>
        </p:blipFill>
        <p:spPr>
          <a:xfrm>
            <a:off x="2567160" y="1378080"/>
            <a:ext cx="3279600" cy="774720"/>
          </a:xfrm>
          <a:prstGeom prst="rect">
            <a:avLst/>
          </a:prstGeom>
          <a:ln w="0">
            <a:noFill/>
          </a:ln>
        </p:spPr>
      </p:pic>
      <p:grpSp>
        <p:nvGrpSpPr>
          <p:cNvPr id="635" name="TextBox 9"/>
          <p:cNvGrpSpPr/>
          <p:nvPr/>
        </p:nvGrpSpPr>
        <p:grpSpPr>
          <a:xfrm>
            <a:off x="60480" y="3133800"/>
            <a:ext cx="3017520" cy="3574800"/>
            <a:chOff x="60480" y="3133800"/>
            <a:chExt cx="3017520" cy="3574800"/>
          </a:xfrm>
        </p:grpSpPr>
        <p:pic>
          <p:nvPicPr>
            <p:cNvPr id="636" name="TextBox 9" descr=""/>
            <p:cNvPicPr/>
            <p:nvPr/>
          </p:nvPicPr>
          <p:blipFill>
            <a:blip r:embed="rId5"/>
            <a:stretch/>
          </p:blipFill>
          <p:spPr>
            <a:xfrm>
              <a:off x="60480" y="3133800"/>
              <a:ext cx="3017520" cy="34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345960" y="3417840"/>
              <a:ext cx="2451240" cy="32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mbria"/>
                </a:rPr>
                <a:t>работа с педагогическими кадрами</a:t>
              </a:r>
              <a:r>
                <a:rPr b="0" lang="ru-RU" sz="1400" spc="-1" strike="noStrike">
                  <a:solidFill>
                    <a:srgbClr val="000000"/>
                  </a:solidFill>
                  <a:latin typeface="Cambria"/>
                </a:rPr>
                <a:t>, направленная на создание предпосылок для инновационно-педагогической деятельности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mbria"/>
                </a:rPr>
                <a:t>работа с детьми</a:t>
              </a:r>
              <a:r>
                <a:rPr b="0" lang="ru-RU" sz="1400" spc="-1" strike="noStrike">
                  <a:solidFill>
                    <a:srgbClr val="000000"/>
                  </a:solidFill>
                  <a:latin typeface="Cambria"/>
                </a:rPr>
                <a:t>, предполагающая изучение и учёт их интересов и образовательных потребносте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mbria"/>
              </a:rPr>
              <a:t>Характеристика результатов деятельности управления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ambria"/>
              </a:rPr>
              <a:t> по разработке проекта реализации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ambria"/>
              </a:rPr>
              <a:t>педагогических инициатив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9" name="Group 13" descr=""/>
          <p:cNvPicPr/>
          <p:nvPr/>
        </p:nvPicPr>
        <p:blipFill>
          <a:blip r:embed="rId1"/>
          <a:stretch/>
        </p:blipFill>
        <p:spPr>
          <a:xfrm>
            <a:off x="1504800" y="2882880"/>
            <a:ext cx="3616560" cy="950760"/>
          </a:xfrm>
          <a:prstGeom prst="rect">
            <a:avLst/>
          </a:prstGeom>
          <a:ln w="0">
            <a:noFill/>
          </a:ln>
        </p:spPr>
      </p:pic>
      <p:pic>
        <p:nvPicPr>
          <p:cNvPr id="640" name="Group 14" descr=""/>
          <p:cNvPicPr/>
          <p:nvPr/>
        </p:nvPicPr>
        <p:blipFill>
          <a:blip r:embed="rId2"/>
          <a:stretch/>
        </p:blipFill>
        <p:spPr>
          <a:xfrm>
            <a:off x="281160" y="1798560"/>
            <a:ext cx="3827160" cy="951120"/>
          </a:xfrm>
          <a:prstGeom prst="rect">
            <a:avLst/>
          </a:prstGeom>
          <a:ln w="0">
            <a:noFill/>
          </a:ln>
        </p:spPr>
      </p:pic>
      <p:pic>
        <p:nvPicPr>
          <p:cNvPr id="641" name="Group 12" descr=""/>
          <p:cNvPicPr/>
          <p:nvPr/>
        </p:nvPicPr>
        <p:blipFill>
          <a:blip r:embed="rId3"/>
          <a:stretch/>
        </p:blipFill>
        <p:spPr>
          <a:xfrm>
            <a:off x="3090960" y="3962520"/>
            <a:ext cx="3395520" cy="950760"/>
          </a:xfrm>
          <a:prstGeom prst="rect">
            <a:avLst/>
          </a:prstGeom>
          <a:ln w="0">
            <a:noFill/>
          </a:ln>
        </p:spPr>
      </p:pic>
      <p:pic>
        <p:nvPicPr>
          <p:cNvPr id="642" name="Group 16" descr=""/>
          <p:cNvPicPr/>
          <p:nvPr/>
        </p:nvPicPr>
        <p:blipFill>
          <a:blip r:embed="rId4"/>
          <a:stretch/>
        </p:blipFill>
        <p:spPr>
          <a:xfrm>
            <a:off x="4370400" y="5114880"/>
            <a:ext cx="4206960" cy="95112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18"/>
          <p:cNvSpPr/>
          <p:nvPr/>
        </p:nvSpPr>
        <p:spPr>
          <a:xfrm rot="5400000">
            <a:off x="4138920" y="2277360"/>
            <a:ext cx="576360" cy="431640"/>
          </a:xfrm>
          <a:prstGeom prst="pie">
            <a:avLst/>
          </a:prstGeom>
          <a:solidFill>
            <a:srgbClr val="d9f4f7"/>
          </a:solidFill>
          <a:ln w="38160">
            <a:solidFill>
              <a:srgbClr val="8cd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9"/>
          <p:cNvSpPr/>
          <p:nvPr/>
        </p:nvSpPr>
        <p:spPr>
          <a:xfrm rot="5400000">
            <a:off x="5147640" y="3356640"/>
            <a:ext cx="576000" cy="432000"/>
          </a:xfrm>
          <a:prstGeom prst="pie">
            <a:avLst/>
          </a:prstGeom>
          <a:solidFill>
            <a:srgbClr val="dafacd"/>
          </a:solidFill>
          <a:ln w="38160">
            <a:solidFill>
              <a:srgbClr val="8cd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20"/>
          <p:cNvSpPr/>
          <p:nvPr/>
        </p:nvSpPr>
        <p:spPr>
          <a:xfrm rot="5400000">
            <a:off x="6444000" y="4509360"/>
            <a:ext cx="576360" cy="431640"/>
          </a:xfrm>
          <a:prstGeom prst="pie">
            <a:avLst/>
          </a:prstGeom>
          <a:solidFill>
            <a:srgbClr val="ffe8d5"/>
          </a:solidFill>
          <a:ln w="38160">
            <a:solidFill>
              <a:srgbClr val="8cd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Oval 11"/>
          <p:cNvGrpSpPr/>
          <p:nvPr/>
        </p:nvGrpSpPr>
        <p:grpSpPr>
          <a:xfrm>
            <a:off x="3017880" y="3529080"/>
            <a:ext cx="2895480" cy="1098360"/>
            <a:chOff x="3017880" y="3529080"/>
            <a:chExt cx="2895480" cy="1098360"/>
          </a:xfrm>
        </p:grpSpPr>
        <p:pic>
          <p:nvPicPr>
            <p:cNvPr id="647" name="Oval 11" descr=""/>
            <p:cNvPicPr/>
            <p:nvPr/>
          </p:nvPicPr>
          <p:blipFill>
            <a:blip r:embed="rId1"/>
            <a:stretch/>
          </p:blipFill>
          <p:spPr>
            <a:xfrm>
              <a:off x="3017880" y="3529080"/>
              <a:ext cx="2895480" cy="10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3522600" y="3772080"/>
              <a:ext cx="188280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472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III. Практический этап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50" name="Rectangle 4"/>
          <p:cNvGrpSpPr/>
          <p:nvPr/>
        </p:nvGrpSpPr>
        <p:grpSpPr>
          <a:xfrm>
            <a:off x="-6480" y="2230560"/>
            <a:ext cx="2573640" cy="2189160"/>
            <a:chOff x="-6480" y="2230560"/>
            <a:chExt cx="2573640" cy="2189160"/>
          </a:xfrm>
        </p:grpSpPr>
        <p:pic>
          <p:nvPicPr>
            <p:cNvPr id="651" name="Rectangle 4" descr=""/>
            <p:cNvPicPr/>
            <p:nvPr/>
          </p:nvPicPr>
          <p:blipFill>
            <a:blip r:embed="rId2"/>
            <a:stretch/>
          </p:blipFill>
          <p:spPr>
            <a:xfrm>
              <a:off x="-6480" y="2230560"/>
              <a:ext cx="257364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108000" y="2276640"/>
              <a:ext cx="2340000" cy="21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mbria"/>
                </a:rPr>
                <a:t>6. Активное участие педагогов в методической работе на уровне города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mbria"/>
                </a:rPr>
                <a:t>- участие в работе научно-практических конференций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mbria"/>
                </a:rPr>
                <a:t>- обобщение опыта своей работы в виде публикаций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mbria"/>
                </a:rPr>
                <a:t>- участие в выставках материалов передового педагогического опы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Rectangle 5"/>
          <p:cNvSpPr/>
          <p:nvPr/>
        </p:nvSpPr>
        <p:spPr>
          <a:xfrm>
            <a:off x="3492360" y="3789360"/>
            <a:ext cx="19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mbria"/>
              </a:rPr>
              <a:t>Содерж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mbria"/>
              </a:rPr>
              <a:t>деятель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Rectangle 6"/>
          <p:cNvGrpSpPr/>
          <p:nvPr/>
        </p:nvGrpSpPr>
        <p:grpSpPr>
          <a:xfrm>
            <a:off x="3164040" y="2305080"/>
            <a:ext cx="2603520" cy="1305000"/>
            <a:chOff x="3164040" y="2305080"/>
            <a:chExt cx="2603520" cy="1305000"/>
          </a:xfrm>
        </p:grpSpPr>
        <p:pic>
          <p:nvPicPr>
            <p:cNvPr id="655" name="Rectangle 6" descr=""/>
            <p:cNvPicPr/>
            <p:nvPr/>
          </p:nvPicPr>
          <p:blipFill>
            <a:blip r:embed="rId3"/>
            <a:stretch/>
          </p:blipFill>
          <p:spPr>
            <a:xfrm>
              <a:off x="3164040" y="2305080"/>
              <a:ext cx="260352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3276720" y="2421000"/>
              <a:ext cx="23749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mbria"/>
                </a:rPr>
                <a:t>1. Промежуточная диагностика уровня инновационного потенциала педагогического коллектив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Rectangle 7"/>
          <p:cNvGrpSpPr/>
          <p:nvPr/>
        </p:nvGrpSpPr>
        <p:grpSpPr>
          <a:xfrm>
            <a:off x="6456240" y="2243160"/>
            <a:ext cx="2681280" cy="2290320"/>
            <a:chOff x="6456240" y="2243160"/>
            <a:chExt cx="2681280" cy="2290320"/>
          </a:xfrm>
        </p:grpSpPr>
        <p:pic>
          <p:nvPicPr>
            <p:cNvPr id="658" name="Rectangle 7" descr=""/>
            <p:cNvPicPr/>
            <p:nvPr/>
          </p:nvPicPr>
          <p:blipFill>
            <a:blip r:embed="rId4"/>
            <a:stretch/>
          </p:blipFill>
          <p:spPr>
            <a:xfrm>
              <a:off x="6456240" y="2243160"/>
              <a:ext cx="2681280" cy="229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572160" y="2363400"/>
              <a:ext cx="2448000" cy="21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mbria"/>
                </a:rPr>
                <a:t>2. Совершенствование научно-методической работы, организация ее на трех уровнях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mbria"/>
                </a:rPr>
                <a:t>- первый - традиционная деятельность методических объединений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mbria"/>
                </a:rPr>
                <a:t>- второй - временные творческие коллективы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mbria"/>
                </a:rPr>
                <a:t>- третий - творческие лаборатории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Rectangle 8"/>
          <p:cNvGrpSpPr/>
          <p:nvPr/>
        </p:nvGrpSpPr>
        <p:grpSpPr>
          <a:xfrm>
            <a:off x="6188040" y="4608360"/>
            <a:ext cx="2602080" cy="1457640"/>
            <a:chOff x="6188040" y="4608360"/>
            <a:chExt cx="2602080" cy="1457640"/>
          </a:xfrm>
        </p:grpSpPr>
        <p:pic>
          <p:nvPicPr>
            <p:cNvPr id="661" name="Rectangle 8" descr=""/>
            <p:cNvPicPr/>
            <p:nvPr/>
          </p:nvPicPr>
          <p:blipFill>
            <a:blip r:embed="rId5"/>
            <a:stretch/>
          </p:blipFill>
          <p:spPr>
            <a:xfrm>
              <a:off x="6188040" y="4608360"/>
              <a:ext cx="2602080" cy="14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6300720" y="4724280"/>
              <a:ext cx="23749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mbria"/>
                </a:rPr>
                <a:t>3.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ambria"/>
                </a:rPr>
                <a:t>повышения квалификации (теоретические семинары, деловые игры,  практикумы, творческие группы и т.д.) в ДОУ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Rectangle 9"/>
          <p:cNvGrpSpPr/>
          <p:nvPr/>
        </p:nvGrpSpPr>
        <p:grpSpPr>
          <a:xfrm>
            <a:off x="3029040" y="4883040"/>
            <a:ext cx="2895480" cy="1854360"/>
            <a:chOff x="3029040" y="4883040"/>
            <a:chExt cx="2895480" cy="1854360"/>
          </a:xfrm>
        </p:grpSpPr>
        <p:pic>
          <p:nvPicPr>
            <p:cNvPr id="664" name="Rectangle 9" descr=""/>
            <p:cNvPicPr/>
            <p:nvPr/>
          </p:nvPicPr>
          <p:blipFill>
            <a:blip r:embed="rId6"/>
            <a:stretch/>
          </p:blipFill>
          <p:spPr>
            <a:xfrm>
              <a:off x="3029040" y="4883040"/>
              <a:ext cx="289548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3143160" y="5000760"/>
              <a:ext cx="2664000" cy="17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mbria"/>
                </a:rPr>
                <a:t>4. Изменение характера нововведений: от локальных до комплексных, касающихся всех сторон деятельности ДОУ: технологий обучения, воспитания и развития дошкольников, организации предметно-развивающей среды и т. д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Rectangle 10"/>
          <p:cNvGrpSpPr/>
          <p:nvPr/>
        </p:nvGrpSpPr>
        <p:grpSpPr>
          <a:xfrm>
            <a:off x="281160" y="4608360"/>
            <a:ext cx="2608200" cy="1640160"/>
            <a:chOff x="281160" y="4608360"/>
            <a:chExt cx="2608200" cy="1640160"/>
          </a:xfrm>
        </p:grpSpPr>
        <p:pic>
          <p:nvPicPr>
            <p:cNvPr id="667" name="Rectangle 10" descr=""/>
            <p:cNvPicPr/>
            <p:nvPr/>
          </p:nvPicPr>
          <p:blipFill>
            <a:blip r:embed="rId7"/>
            <a:stretch/>
          </p:blipFill>
          <p:spPr>
            <a:xfrm>
              <a:off x="281160" y="4608360"/>
              <a:ext cx="260820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395280" y="4724280"/>
              <a:ext cx="23763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mbria"/>
                </a:rPr>
                <a:t>5. Совершенствование структуры управления в условиях работы в инновационном режиме, активное участие педагогов и принятие управленческих решений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Line 12"/>
          <p:cNvSpPr/>
          <p:nvPr/>
        </p:nvSpPr>
        <p:spPr>
          <a:xfrm flipV="1">
            <a:off x="4427640" y="3284640"/>
            <a:ext cx="0" cy="288720"/>
          </a:xfrm>
          <a:prstGeom prst="line">
            <a:avLst/>
          </a:prstGeom>
          <a:ln w="28440">
            <a:solidFill>
              <a:srgbClr val="8cd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3"/>
          <p:cNvSpPr/>
          <p:nvPr/>
        </p:nvSpPr>
        <p:spPr>
          <a:xfrm flipV="1">
            <a:off x="5580000" y="3284640"/>
            <a:ext cx="936720" cy="504720"/>
          </a:xfrm>
          <a:prstGeom prst="line">
            <a:avLst/>
          </a:prstGeom>
          <a:ln w="28440">
            <a:solidFill>
              <a:srgbClr val="8cd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4"/>
          <p:cNvSpPr/>
          <p:nvPr/>
        </p:nvSpPr>
        <p:spPr>
          <a:xfrm flipH="1" flipV="1">
            <a:off x="2500200" y="3286080"/>
            <a:ext cx="919440" cy="503280"/>
          </a:xfrm>
          <a:prstGeom prst="line">
            <a:avLst/>
          </a:prstGeom>
          <a:ln w="28440">
            <a:solidFill>
              <a:srgbClr val="8cd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5"/>
          <p:cNvSpPr/>
          <p:nvPr/>
        </p:nvSpPr>
        <p:spPr>
          <a:xfrm flipH="1">
            <a:off x="2071440" y="4357800"/>
            <a:ext cx="1143000" cy="285480"/>
          </a:xfrm>
          <a:prstGeom prst="line">
            <a:avLst/>
          </a:prstGeom>
          <a:ln w="28440">
            <a:solidFill>
              <a:srgbClr val="8cd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6"/>
          <p:cNvSpPr/>
          <p:nvPr/>
        </p:nvSpPr>
        <p:spPr>
          <a:xfrm>
            <a:off x="4427640" y="4581360"/>
            <a:ext cx="0" cy="360360"/>
          </a:xfrm>
          <a:prstGeom prst="line">
            <a:avLst/>
          </a:prstGeom>
          <a:ln w="28440">
            <a:solidFill>
              <a:srgbClr val="8cd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7"/>
          <p:cNvSpPr/>
          <p:nvPr/>
        </p:nvSpPr>
        <p:spPr>
          <a:xfrm>
            <a:off x="5651640" y="4365720"/>
            <a:ext cx="1368360" cy="287280"/>
          </a:xfrm>
          <a:prstGeom prst="line">
            <a:avLst/>
          </a:prstGeom>
          <a:ln w="28440">
            <a:solidFill>
              <a:srgbClr val="8cd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TextBox 17" descr=""/>
          <p:cNvPicPr/>
          <p:nvPr/>
        </p:nvPicPr>
        <p:blipFill>
          <a:blip r:embed="rId8"/>
          <a:stretch/>
        </p:blipFill>
        <p:spPr>
          <a:xfrm>
            <a:off x="3359160" y="974880"/>
            <a:ext cx="1305000" cy="579240"/>
          </a:xfrm>
          <a:prstGeom prst="rect">
            <a:avLst/>
          </a:prstGeom>
          <a:ln w="0">
            <a:noFill/>
          </a:ln>
        </p:spPr>
      </p:pic>
      <p:pic>
        <p:nvPicPr>
          <p:cNvPr id="676" name="TextBox 18" descr=""/>
          <p:cNvPicPr/>
          <p:nvPr/>
        </p:nvPicPr>
        <p:blipFill>
          <a:blip r:embed="rId9"/>
          <a:stretch/>
        </p:blipFill>
        <p:spPr>
          <a:xfrm>
            <a:off x="1542960" y="1517760"/>
            <a:ext cx="5424480" cy="798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IV. Контрольно-­оценочный этап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78" name="Rectangle 4"/>
          <p:cNvGrpSpPr/>
          <p:nvPr/>
        </p:nvGrpSpPr>
        <p:grpSpPr>
          <a:xfrm>
            <a:off x="42840" y="2876760"/>
            <a:ext cx="2846520" cy="4143240"/>
            <a:chOff x="42840" y="2876760"/>
            <a:chExt cx="2846520" cy="4143240"/>
          </a:xfrm>
        </p:grpSpPr>
        <p:pic>
          <p:nvPicPr>
            <p:cNvPr id="679" name="Rectangle 4" descr=""/>
            <p:cNvPicPr/>
            <p:nvPr/>
          </p:nvPicPr>
          <p:blipFill>
            <a:blip r:embed="rId1"/>
            <a:stretch/>
          </p:blipFill>
          <p:spPr>
            <a:xfrm>
              <a:off x="42840" y="3151080"/>
              <a:ext cx="284652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142920" y="2876760"/>
              <a:ext cx="257184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mbria"/>
                </a:rPr>
                <a:t>Диагностика процесса порождения и реализации творческих инициати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mbri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mbria"/>
                </a:rPr>
                <a:t>реализация новых технологий собственных программ работы с детьм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mbri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mbri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ambria"/>
                </a:rPr>
                <a:t>участие в конкурсах и выставках разного уровн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mbri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mbri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ambria"/>
                </a:rPr>
                <a:t>обобщение и распространение передового педагогическ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mbria"/>
                </a:rPr>
                <a:t>опы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1" name="Rectangle 7" descr=""/>
          <p:cNvPicPr/>
          <p:nvPr/>
        </p:nvPicPr>
        <p:blipFill>
          <a:blip r:embed="rId2"/>
          <a:stretch/>
        </p:blipFill>
        <p:spPr>
          <a:xfrm>
            <a:off x="3297240" y="2620800"/>
            <a:ext cx="2616120" cy="944640"/>
          </a:xfrm>
          <a:prstGeom prst="rect">
            <a:avLst/>
          </a:prstGeom>
          <a:ln w="0">
            <a:noFill/>
          </a:ln>
        </p:spPr>
      </p:pic>
      <p:pic>
        <p:nvPicPr>
          <p:cNvPr id="682" name="Rectangle 8" descr=""/>
          <p:cNvPicPr/>
          <p:nvPr/>
        </p:nvPicPr>
        <p:blipFill>
          <a:blip r:embed="rId3"/>
          <a:stretch/>
        </p:blipFill>
        <p:spPr>
          <a:xfrm>
            <a:off x="3621240" y="1109520"/>
            <a:ext cx="1504800" cy="663840"/>
          </a:xfrm>
          <a:prstGeom prst="rect">
            <a:avLst/>
          </a:prstGeom>
          <a:ln w="0">
            <a:noFill/>
          </a:ln>
        </p:spPr>
      </p:pic>
      <p:pic>
        <p:nvPicPr>
          <p:cNvPr id="683" name="TextBox 11" descr=""/>
          <p:cNvPicPr/>
          <p:nvPr/>
        </p:nvPicPr>
        <p:blipFill>
          <a:blip r:embed="rId4"/>
          <a:stretch/>
        </p:blipFill>
        <p:spPr>
          <a:xfrm>
            <a:off x="1474920" y="1792440"/>
            <a:ext cx="5906880" cy="664920"/>
          </a:xfrm>
          <a:prstGeom prst="rect">
            <a:avLst/>
          </a:prstGeom>
          <a:ln w="0">
            <a:noFill/>
          </a:ln>
        </p:spPr>
      </p:pic>
      <p:cxnSp>
        <p:nvCxnSpPr>
          <p:cNvPr id="684" name="Прямая со стрелкой 10"/>
          <p:cNvCxnSpPr/>
          <p:nvPr/>
        </p:nvCxnSpPr>
        <p:spPr>
          <a:xfrm flipH="1">
            <a:off x="4571640" y="3644640"/>
            <a:ext cx="2160" cy="857880"/>
          </a:xfrm>
          <a:prstGeom prst="straightConnector1">
            <a:avLst/>
          </a:prstGeom>
          <a:ln w="47880">
            <a:solidFill>
              <a:srgbClr val="40c6d8"/>
            </a:solidFill>
            <a:miter/>
            <a:tailEnd len="med" type="arrow" w="med"/>
          </a:ln>
        </p:spPr>
      </p:cxnSp>
      <p:cxnSp>
        <p:nvCxnSpPr>
          <p:cNvPr id="685" name="Прямая со стрелкой 13"/>
          <p:cNvCxnSpPr/>
          <p:nvPr/>
        </p:nvCxnSpPr>
        <p:spPr>
          <a:xfrm flipH="1" flipV="1">
            <a:off x="2856960" y="4071240"/>
            <a:ext cx="929160" cy="1080"/>
          </a:xfrm>
          <a:prstGeom prst="straightConnector1">
            <a:avLst/>
          </a:prstGeom>
          <a:ln w="47880">
            <a:solidFill>
              <a:srgbClr val="40c6d8"/>
            </a:solidFill>
            <a:miter/>
            <a:tailEnd len="med" type="arrow" w="med"/>
          </a:ln>
        </p:spPr>
      </p:cxnSp>
      <p:cxnSp>
        <p:nvCxnSpPr>
          <p:cNvPr id="686" name="Прямая со стрелкой 15"/>
          <p:cNvCxnSpPr/>
          <p:nvPr/>
        </p:nvCxnSpPr>
        <p:spPr>
          <a:xfrm>
            <a:off x="5428800" y="4071600"/>
            <a:ext cx="786600" cy="1080"/>
          </a:xfrm>
          <a:prstGeom prst="straightConnector1">
            <a:avLst/>
          </a:prstGeom>
          <a:ln w="47880">
            <a:solidFill>
              <a:srgbClr val="40c6d8"/>
            </a:solidFill>
            <a:miter/>
            <a:tailEnd len="med" type="arrow" w="med"/>
          </a:ln>
        </p:spPr>
      </p:cxnSp>
      <p:sp>
        <p:nvSpPr>
          <p:cNvPr id="687" name="Прямая соединительная линия 29"/>
          <p:cNvSpPr/>
          <p:nvPr/>
        </p:nvSpPr>
        <p:spPr>
          <a:xfrm flipV="1">
            <a:off x="3784680" y="3645000"/>
            <a:ext cx="1440" cy="428400"/>
          </a:xfrm>
          <a:prstGeom prst="line">
            <a:avLst/>
          </a:prstGeom>
          <a:ln w="47880">
            <a:solidFill>
              <a:srgbClr val="40c6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ая соединительная линия 31"/>
          <p:cNvSpPr/>
          <p:nvPr/>
        </p:nvSpPr>
        <p:spPr>
          <a:xfrm flipV="1">
            <a:off x="5429160" y="3642840"/>
            <a:ext cx="0" cy="430200"/>
          </a:xfrm>
          <a:prstGeom prst="line">
            <a:avLst/>
          </a:prstGeom>
          <a:ln w="47880">
            <a:solidFill>
              <a:srgbClr val="40c6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Rectangle 4" descr=""/>
          <p:cNvPicPr/>
          <p:nvPr/>
        </p:nvPicPr>
        <p:blipFill>
          <a:blip r:embed="rId5"/>
          <a:stretch/>
        </p:blipFill>
        <p:spPr>
          <a:xfrm>
            <a:off x="2828880" y="4578480"/>
            <a:ext cx="3479760" cy="2077920"/>
          </a:xfrm>
          <a:prstGeom prst="rect">
            <a:avLst/>
          </a:prstGeom>
          <a:ln w="0">
            <a:noFill/>
          </a:ln>
        </p:spPr>
      </p:pic>
      <p:pic>
        <p:nvPicPr>
          <p:cNvPr id="690" name="Rectangle 4" descr=""/>
          <p:cNvPicPr/>
          <p:nvPr/>
        </p:nvPicPr>
        <p:blipFill>
          <a:blip r:embed="rId6"/>
          <a:stretch/>
        </p:blipFill>
        <p:spPr>
          <a:xfrm>
            <a:off x="6261120" y="3151080"/>
            <a:ext cx="2833560" cy="3584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5:23:08Z</dcterms:created>
  <dc:creator>Олеся</dc:creator>
  <dc:description/>
  <dc:language>en-US</dc:language>
  <cp:lastModifiedBy>Admin</cp:lastModifiedBy>
  <dcterms:modified xsi:type="dcterms:W3CDTF">2012-02-15T01:13:20Z</dcterms:modified>
  <cp:revision>29</cp:revision>
  <dc:subject/>
  <dc:title>Слайд 1</dc:title>
</cp:coreProperties>
</file>