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wmf" ContentType="image/x-wmf"/>
  <Override PartName="/ppt/media/image10.jpeg" ContentType="image/jpe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090E-37A0-4734-B76B-9BB9BD25FD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CDBB-ACCA-45D5-A4FE-0E841E9695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AECE-D855-4055-99AD-893B06135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404C-C42E-47EA-86ED-E6B5C476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EFD0-D415-4617-B341-CACBEF8AB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6FEB-272D-4E41-B67F-D459DF086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A44D-B06E-4AA4-8140-C24C4AA0F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5C19-CDEF-4232-8D4D-A6ED23FE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6A94-455F-44BC-8003-62B14633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B6FF-420B-494D-8B31-1037D1ED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F651-E908-493C-B016-CA56C206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6CBA-485E-46E2-9C18-8937B693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7D80-174A-4F94-B02F-327332F6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C796-D6A6-4E57-8AB9-BA5435D9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DD33-6649-4B83-9F0F-9FA6E2F7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0CBD-0BA6-4A74-8490-645AA38E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75C3-ABF8-47EE-A99E-878C6B03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82F7-99CA-45A3-9BCB-AA6F89235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AD1F-3973-4129-AB88-83953AC22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5727-0145-46FE-B8E0-5565FF11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5E4D-7495-4DC1-93EE-A0C15FAA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30AC-1196-46EF-BD5D-4C24DAB4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AFC5-C816-46BF-A4C9-3739E15B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F72C-B7F9-4916-9C1E-69E7CB02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5E3E-601E-4353-9E89-B7167DBB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831B-D374-4D40-8239-50125982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33DE-3E47-43CB-A755-9A6B6E8FA505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A085-FE58-43D4-BE70-18D7A9ADDB1F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1692360" y="1197000"/>
            <a:ext cx="66927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102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ТЕХНОЛОГИЯ РАЗВИТИЯ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КРИТИЧЕСКОГО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МЫШЛЕНИЯ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96" name="Picture 6" descr="und43"/>
          <p:cNvPicPr/>
          <p:nvPr/>
        </p:nvPicPr>
        <p:blipFill>
          <a:blip r:embed="rId8"/>
          <a:stretch/>
        </p:blipFill>
        <p:spPr>
          <a:xfrm>
            <a:off x="2857680" y="5072040"/>
            <a:ext cx="4033800" cy="457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снова ТРКМ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–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ехфазная структура урок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1258920" y="2492280"/>
            <a:ext cx="2592360" cy="720720"/>
          </a:xfrm>
          <a:prstGeom prst="roundRect">
            <a:avLst>
              <a:gd name="adj" fmla="val 16667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ы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3203640" y="3573360"/>
            <a:ext cx="2592360" cy="720720"/>
          </a:xfrm>
          <a:prstGeom prst="roundRect">
            <a:avLst>
              <a:gd name="adj" fmla="val 16667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мыс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5724360" y="4437000"/>
            <a:ext cx="2592720" cy="792360"/>
          </a:xfrm>
          <a:prstGeom prst="roundRect">
            <a:avLst>
              <a:gd name="adj" fmla="val 16667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флекс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40"/>
                            </p:stCondLst>
                            <p:childTnLst>
                              <p:par>
                                <p:cTn id="1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40"/>
                            </p:stCondLst>
                            <p:childTnLst>
                              <p:par>
                                <p:cTn id="1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40"/>
                            </p:stCondLst>
                            <p:childTnLst>
                              <p:par>
                                <p:cTn id="1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Задачи фазы вызова</a:t>
            </a:r>
            <a:br>
              <a:rPr sz="4000"/>
            </a:b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82400"/>
                </a:solidFill>
                <a:latin typeface="Times New Roman"/>
              </a:rPr>
              <a:t>( пробуждение интереса к предмету)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ктуализирова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меющиеся у учащихся знания и смыслы в связи с изучаемым материал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буди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ознавательный интерес к изучаемому материал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моч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учащимся самим определить направление в изучении 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Задачи фазы реализации смысла –</a:t>
            </a:r>
            <a:br>
              <a:rPr sz="4000"/>
            </a:b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(осмысление материала во времени работы над ним)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моч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ктивно воспринимать изучаемый материа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моч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оотнести старые знания с новы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Задачи фазы рефлексии –</a:t>
            </a:r>
            <a:br>
              <a:rPr sz="4000"/>
            </a:b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(обобщение материала, подведение итогов)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моч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ащимся самостоятельно обобщить изучаемый материа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моч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амостоятельно определить направления в дальнейшем изучении материа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Формы и средства развития КМ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бор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ализ текс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поставление альтернативных точек зр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лективное обсужд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ные виды парной и групповой рабо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ба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скусс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бликации письменных работ учащих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М – письменная раб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82400"/>
                </a:solidFill>
                <a:latin typeface="Times New Roman"/>
              </a:rPr>
              <a:t>Роль учителя в ТРКМ: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равляет усилия учеников в определенное русл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алкивает различные сужд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ет условия, побуждающие к принятию самостоятельных реш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ет учащимся возможность самостоятельно делать выв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готавливает новые познавательные ситуации внутри уже существующи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Современный выпускник умеет: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ть собственное мн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ершать обдуманный выбор между различными мнени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ать пробл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ргументировано спори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нить совместную работу, в которой возникает общее реш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меть оценить чужую точку зрения и сознавать, что восприятие человека и его отношение к любому вопросу формируется под влиянием многих факто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82400"/>
                </a:solidFill>
                <a:latin typeface="Times New Roman"/>
              </a:rPr>
              <a:t>Основные приемы ТРКМ</a:t>
            </a:r>
            <a:br>
              <a:rPr sz="3600"/>
            </a:b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Приемы по развитию навыков составления вопросов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42920" y="1773000"/>
            <a:ext cx="73454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блица «толстых» и «тонких» вопро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258920" y="2565360"/>
          <a:ext cx="7058160" cy="3575160"/>
        </p:xfrm>
        <a:graphic>
          <a:graphicData uri="http://schemas.openxmlformats.org/drawingml/2006/table">
            <a:tbl>
              <a:tblPr/>
              <a:tblGrid>
                <a:gridCol w="3600360"/>
                <a:gridCol w="3457800"/>
              </a:tblGrid>
              <a:tr h="55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йте три объяснения, почему…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ясните, почему…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чему вы думает6е…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чему Вы считаете…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чем различие…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положите, что будет, если…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, если…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то…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…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гда…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жет…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дет…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г ли…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 звать…? Было ли…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гласны ли Вы…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рно ли…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d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475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74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Ромашка Блума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Oval 22"/>
          <p:cNvSpPr/>
          <p:nvPr/>
        </p:nvSpPr>
        <p:spPr>
          <a:xfrm rot="17934600">
            <a:off x="4080600" y="2664360"/>
            <a:ext cx="2467080" cy="880920"/>
          </a:xfrm>
          <a:prstGeom prst="ellipse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сто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23"/>
          <p:cNvSpPr/>
          <p:nvPr/>
        </p:nvSpPr>
        <p:spPr>
          <a:xfrm rot="21547200">
            <a:off x="4728960" y="3750840"/>
            <a:ext cx="2530440" cy="858960"/>
          </a:xfrm>
          <a:prstGeom prst="ellipse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очняющи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24"/>
          <p:cNvSpPr/>
          <p:nvPr/>
        </p:nvSpPr>
        <p:spPr>
          <a:xfrm rot="3547200">
            <a:off x="4114800" y="4852800"/>
            <a:ext cx="2530440" cy="860400"/>
          </a:xfrm>
          <a:prstGeom prst="ellipse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очны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25"/>
          <p:cNvSpPr/>
          <p:nvPr/>
        </p:nvSpPr>
        <p:spPr>
          <a:xfrm rot="17947200">
            <a:off x="2862720" y="4850280"/>
            <a:ext cx="2467080" cy="880920"/>
          </a:xfrm>
          <a:prstGeom prst="ellipse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ворчески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26"/>
          <p:cNvSpPr/>
          <p:nvPr/>
        </p:nvSpPr>
        <p:spPr>
          <a:xfrm rot="21547200">
            <a:off x="2084040" y="3785760"/>
            <a:ext cx="2530440" cy="860400"/>
          </a:xfrm>
          <a:prstGeom prst="ellipse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прет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27"/>
          <p:cNvSpPr/>
          <p:nvPr/>
        </p:nvSpPr>
        <p:spPr>
          <a:xfrm rot="3547200">
            <a:off x="2775600" y="2664360"/>
            <a:ext cx="2530440" cy="858960"/>
          </a:xfrm>
          <a:prstGeom prst="ellipse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ктически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28"/>
          <p:cNvSpPr/>
          <p:nvPr/>
        </p:nvSpPr>
        <p:spPr>
          <a:xfrm rot="21415200">
            <a:off x="4329000" y="3814920"/>
            <a:ext cx="765360" cy="745920"/>
          </a:xfrm>
          <a:prstGeom prst="ellipse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80"/>
                            </p:stCondLst>
                            <p:childTnLst>
                              <p:par>
                                <p:cTn id="3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680"/>
                            </p:stCondLst>
                            <p:childTnLst>
                              <p:par>
                                <p:cTn id="3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400"/>
                            </p:stCondLst>
                            <p:childTnLst>
                              <p:par>
                                <p:cTn id="3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4240"/>
                            </p:stCondLst>
                            <p:childTnLst>
                              <p:par>
                                <p:cTn id="3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4920"/>
                            </p:stCondLst>
                            <p:childTnLst>
                              <p:par>
                                <p:cTn id="4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640"/>
                            </p:stCondLst>
                            <p:childTnLst>
                              <p:par>
                                <p:cTn id="4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82400"/>
                </a:solidFill>
                <a:latin typeface="Times New Roman"/>
              </a:rPr>
              <a:t>Ромашка Блума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стые вопрос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фактические вопросы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требуют знания фактического материала т ориентированы на работу памя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точняющие вопрос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«насколько я понял….», «правильно ли я Вас поняла, что…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терпретирующ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прос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объясняющие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буждая учеников к интерпретации, мы учим их навыкам осознания причин тех или иных поступков или мнений (почему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ценочные вопрос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сравнение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еобходимо использовать, когда вы слышите, что кто-либо из учеников выражает соседу по парте свое недовольство или удовольствие от произошедшего на урок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ворческие вопрос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прогноз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«Как вы думает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произойдет дальше…?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ктические вопросы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«Как мы можем…?» «Как поступили бы вы…?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042560" y="98100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ИТИЧЕСКОЕ МЫШЛЕНИЕ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естественный способ взаимодействия с идеями и информаци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еобходимо умение не только овладеть информацией, но и критически ее оценить, осмыслить, примени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82400"/>
                </a:solidFill>
                <a:latin typeface="Times New Roman"/>
              </a:rPr>
              <a:t>Кластеры (гроздья)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4" name="Oval 27"/>
          <p:cNvSpPr/>
          <p:nvPr/>
        </p:nvSpPr>
        <p:spPr>
          <a:xfrm>
            <a:off x="3100320" y="3624120"/>
            <a:ext cx="3525840" cy="1121040"/>
          </a:xfrm>
          <a:prstGeom prst="ellipse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Group 28"/>
          <p:cNvGrpSpPr/>
          <p:nvPr/>
        </p:nvGrpSpPr>
        <p:grpSpPr>
          <a:xfrm>
            <a:off x="1901880" y="4684320"/>
            <a:ext cx="2194920" cy="1766880"/>
            <a:chOff x="1901880" y="4684320"/>
            <a:chExt cx="2194920" cy="1766880"/>
          </a:xfrm>
        </p:grpSpPr>
        <p:grpSp>
          <p:nvGrpSpPr>
            <p:cNvPr id="146" name="Group 29"/>
            <p:cNvGrpSpPr/>
            <p:nvPr/>
          </p:nvGrpSpPr>
          <p:grpSpPr>
            <a:xfrm>
              <a:off x="1901880" y="5509440"/>
              <a:ext cx="1728720" cy="941760"/>
              <a:chOff x="1901880" y="5509440"/>
              <a:chExt cx="1728720" cy="941760"/>
            </a:xfrm>
          </p:grpSpPr>
          <p:sp>
            <p:nvSpPr>
              <p:cNvPr id="147" name="Oval 30"/>
              <p:cNvSpPr/>
              <p:nvPr/>
            </p:nvSpPr>
            <p:spPr>
              <a:xfrm flipV="1">
                <a:off x="1901880" y="5509440"/>
                <a:ext cx="1728720" cy="529920"/>
              </a:xfrm>
              <a:prstGeom prst="ellipse">
                <a:avLst/>
              </a:pr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31"/>
              <p:cNvSpPr/>
              <p:nvPr/>
            </p:nvSpPr>
            <p:spPr>
              <a:xfrm flipV="1">
                <a:off x="2100960" y="6039360"/>
                <a:ext cx="665640" cy="41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32"/>
              <p:cNvSpPr/>
              <p:nvPr/>
            </p:nvSpPr>
            <p:spPr>
              <a:xfrm>
                <a:off x="2766600" y="6040080"/>
                <a:ext cx="332640" cy="29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Line 33"/>
            <p:cNvSpPr/>
            <p:nvPr/>
          </p:nvSpPr>
          <p:spPr>
            <a:xfrm flipV="1">
              <a:off x="2766960" y="4684320"/>
              <a:ext cx="1329840" cy="82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Group 34"/>
          <p:cNvGrpSpPr/>
          <p:nvPr/>
        </p:nvGrpSpPr>
        <p:grpSpPr>
          <a:xfrm>
            <a:off x="5761080" y="4686120"/>
            <a:ext cx="2195280" cy="1766880"/>
            <a:chOff x="5761080" y="4686120"/>
            <a:chExt cx="2195280" cy="1766880"/>
          </a:xfrm>
        </p:grpSpPr>
        <p:grpSp>
          <p:nvGrpSpPr>
            <p:cNvPr id="152" name="Group 35"/>
            <p:cNvGrpSpPr/>
            <p:nvPr/>
          </p:nvGrpSpPr>
          <p:grpSpPr>
            <a:xfrm>
              <a:off x="6227640" y="5511240"/>
              <a:ext cx="1728720" cy="941760"/>
              <a:chOff x="6227640" y="5511240"/>
              <a:chExt cx="1728720" cy="941760"/>
            </a:xfrm>
          </p:grpSpPr>
          <p:sp>
            <p:nvSpPr>
              <p:cNvPr id="153" name="Oval 36"/>
              <p:cNvSpPr/>
              <p:nvPr/>
            </p:nvSpPr>
            <p:spPr>
              <a:xfrm flipH="1" flipV="1">
                <a:off x="6227640" y="5511240"/>
                <a:ext cx="1728720" cy="529920"/>
              </a:xfrm>
              <a:prstGeom prst="ellipse">
                <a:avLst/>
              </a:pr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37"/>
              <p:cNvSpPr/>
              <p:nvPr/>
            </p:nvSpPr>
            <p:spPr>
              <a:xfrm flipH="1" flipV="1">
                <a:off x="7091640" y="6041160"/>
                <a:ext cx="665640" cy="41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38"/>
              <p:cNvSpPr/>
              <p:nvPr/>
            </p:nvSpPr>
            <p:spPr>
              <a:xfrm flipH="1">
                <a:off x="6759000" y="6041880"/>
                <a:ext cx="332640" cy="29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Line 39"/>
            <p:cNvSpPr/>
            <p:nvPr/>
          </p:nvSpPr>
          <p:spPr>
            <a:xfrm flipH="1" flipV="1">
              <a:off x="5761080" y="4686120"/>
              <a:ext cx="1330200" cy="82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Group 40"/>
          <p:cNvGrpSpPr/>
          <p:nvPr/>
        </p:nvGrpSpPr>
        <p:grpSpPr>
          <a:xfrm>
            <a:off x="1835280" y="1916640"/>
            <a:ext cx="2194920" cy="1766880"/>
            <a:chOff x="1835280" y="1916640"/>
            <a:chExt cx="2194920" cy="1766880"/>
          </a:xfrm>
        </p:grpSpPr>
        <p:grpSp>
          <p:nvGrpSpPr>
            <p:cNvPr id="158" name="Group 41"/>
            <p:cNvGrpSpPr/>
            <p:nvPr/>
          </p:nvGrpSpPr>
          <p:grpSpPr>
            <a:xfrm>
              <a:off x="1835280" y="1916640"/>
              <a:ext cx="1728720" cy="941760"/>
              <a:chOff x="1835280" y="1916640"/>
              <a:chExt cx="1728720" cy="941760"/>
            </a:xfrm>
          </p:grpSpPr>
          <p:sp>
            <p:nvSpPr>
              <p:cNvPr id="159" name="Oval 42"/>
              <p:cNvSpPr/>
              <p:nvPr/>
            </p:nvSpPr>
            <p:spPr>
              <a:xfrm>
                <a:off x="1835280" y="2328480"/>
                <a:ext cx="1728720" cy="529920"/>
              </a:xfrm>
              <a:prstGeom prst="ellipse">
                <a:avLst/>
              </a:pr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43"/>
              <p:cNvSpPr/>
              <p:nvPr/>
            </p:nvSpPr>
            <p:spPr>
              <a:xfrm>
                <a:off x="2034360" y="1916640"/>
                <a:ext cx="665640" cy="41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44"/>
              <p:cNvSpPr/>
              <p:nvPr/>
            </p:nvSpPr>
            <p:spPr>
              <a:xfrm flipV="1">
                <a:off x="2700000" y="2032920"/>
                <a:ext cx="332640" cy="29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Line 45"/>
            <p:cNvSpPr/>
            <p:nvPr/>
          </p:nvSpPr>
          <p:spPr>
            <a:xfrm>
              <a:off x="2700360" y="2858760"/>
              <a:ext cx="1329840" cy="82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46"/>
          <p:cNvGrpSpPr/>
          <p:nvPr/>
        </p:nvGrpSpPr>
        <p:grpSpPr>
          <a:xfrm>
            <a:off x="5694840" y="1918080"/>
            <a:ext cx="2194920" cy="1766880"/>
            <a:chOff x="5694840" y="1918080"/>
            <a:chExt cx="2194920" cy="1766880"/>
          </a:xfrm>
        </p:grpSpPr>
        <p:grpSp>
          <p:nvGrpSpPr>
            <p:cNvPr id="164" name="Group 47"/>
            <p:cNvGrpSpPr/>
            <p:nvPr/>
          </p:nvGrpSpPr>
          <p:grpSpPr>
            <a:xfrm>
              <a:off x="6161040" y="1918080"/>
              <a:ext cx="1728720" cy="941760"/>
              <a:chOff x="6161040" y="1918080"/>
              <a:chExt cx="1728720" cy="941760"/>
            </a:xfrm>
          </p:grpSpPr>
          <p:sp>
            <p:nvSpPr>
              <p:cNvPr id="165" name="Oval 48"/>
              <p:cNvSpPr/>
              <p:nvPr/>
            </p:nvSpPr>
            <p:spPr>
              <a:xfrm flipH="1">
                <a:off x="6161040" y="2329920"/>
                <a:ext cx="1728720" cy="529920"/>
              </a:xfrm>
              <a:prstGeom prst="ellipse">
                <a:avLst/>
              </a:pr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Line 49"/>
              <p:cNvSpPr/>
              <p:nvPr/>
            </p:nvSpPr>
            <p:spPr>
              <a:xfrm flipH="1">
                <a:off x="7025040" y="1918080"/>
                <a:ext cx="665640" cy="41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Line 50"/>
              <p:cNvSpPr/>
              <p:nvPr/>
            </p:nvSpPr>
            <p:spPr>
              <a:xfrm flipH="1" flipV="1">
                <a:off x="6692400" y="2034360"/>
                <a:ext cx="332640" cy="29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Line 51"/>
            <p:cNvSpPr/>
            <p:nvPr/>
          </p:nvSpPr>
          <p:spPr>
            <a:xfrm flipH="1">
              <a:off x="5694840" y="2860200"/>
              <a:ext cx="1329840" cy="82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400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60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80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Визуальные формы организации изучения материала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6823080" cy="79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ем «Выглядит, как…», «Звучит, как…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116000" y="2708280"/>
          <a:ext cx="7632720" cy="3673440"/>
        </p:xfrm>
        <a:graphic>
          <a:graphicData uri="http://schemas.openxmlformats.org/drawingml/2006/table">
            <a:tbl>
              <a:tblPr/>
              <a:tblGrid>
                <a:gridCol w="3816360"/>
                <a:gridCol w="381636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глядит, как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учит как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Ча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Конвейе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Ступеньки лестниц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Яркая карт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Это ново!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Это интересно!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сня: куплет, припе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d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4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82400"/>
                </a:solidFill>
                <a:latin typeface="Times New Roman"/>
              </a:rPr>
              <a:t>КРИТИЧЕСКОЕ МЫШЛЕНИЕ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1640" y="2420640"/>
            <a:ext cx="776916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ОРНЫЕ СИГНАЛ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Х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ГИКО-СМЫСЛОВЫЕ МОДЕ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15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15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5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625"/>
                            </p:stCondLst>
                            <p:childTnLst>
                              <p:par>
                                <p:cTn id="50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15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15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15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75"/>
                            </p:stCondLst>
                            <p:childTnLst>
                              <p:par>
                                <p:cTn id="51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15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15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15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1699920"/>
            <a:ext cx="8129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М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это «ствол дерев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Листочки» - это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ГНО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Веточки» - это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РГУМЕНТ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обоснования                           прогнозо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3706920" y="5445000"/>
            <a:ext cx="2270160" cy="1152720"/>
          </a:xfrm>
          <a:prstGeom prst="rect">
            <a:avLst/>
          </a:prstGeom>
          <a:blipFill rotWithShape="0">
            <a:blip r:embed="rId4">
              <a:alphaModFix amt="50000"/>
            </a:blip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3780000" y="2205000"/>
            <a:ext cx="2269800" cy="792360"/>
          </a:xfrm>
          <a:prstGeom prst="rect">
            <a:avLst/>
          </a:prstGeom>
          <a:blipFill rotWithShape="0">
            <a:blip r:embed="rId5">
              <a:alphaModFix amt="50000"/>
            </a:blip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861840" y="3500280"/>
            <a:ext cx="2270160" cy="792360"/>
          </a:xfrm>
          <a:prstGeom prst="rect">
            <a:avLst/>
          </a:prstGeom>
          <a:blipFill rotWithShape="0">
            <a:blip r:embed="rId6">
              <a:alphaModFix amt="50000"/>
            </a:blip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6588000" y="3500280"/>
            <a:ext cx="2270160" cy="792360"/>
          </a:xfrm>
          <a:prstGeom prst="rect">
            <a:avLst/>
          </a:prstGeom>
          <a:blipFill rotWithShape="0">
            <a:blip r:embed="rId7">
              <a:alphaModFix amt="50000"/>
            </a:blip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8"/>
          <p:cNvSpPr/>
          <p:nvPr/>
        </p:nvSpPr>
        <p:spPr>
          <a:xfrm flipH="1" flipV="1">
            <a:off x="1727280" y="4292280"/>
            <a:ext cx="2016000" cy="115236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9"/>
          <p:cNvSpPr/>
          <p:nvPr/>
        </p:nvSpPr>
        <p:spPr>
          <a:xfrm flipV="1">
            <a:off x="5975280" y="4292280"/>
            <a:ext cx="2016360" cy="115236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0"/>
          <p:cNvSpPr/>
          <p:nvPr/>
        </p:nvSpPr>
        <p:spPr>
          <a:xfrm>
            <a:off x="4896000" y="2997360"/>
            <a:ext cx="0" cy="244764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«ДЕРЕВО ПРЕДСКАЗАНИЙ»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40"/>
                            </p:stCondLst>
                            <p:childTnLst>
                              <p:par>
                                <p:cTn id="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8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88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760"/>
                            </p:stCondLst>
                            <p:childTnLst>
                              <p:par>
                                <p:cTn id="5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82400"/>
                </a:solidFill>
                <a:latin typeface="Times New Roman"/>
              </a:rPr>
              <a:t>Прием «ФИШБОУН»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4" name="AutoShape 4"/>
          <p:cNvSpPr/>
          <p:nvPr/>
        </p:nvSpPr>
        <p:spPr>
          <a:xfrm rot="10800000">
            <a:off x="1403280" y="2781360"/>
            <a:ext cx="1944720" cy="201600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2016000"/>
              <a:gd name="textAreaBottom" fmla="*/ 201636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2843280" y="3716280"/>
            <a:ext cx="3889440" cy="144360"/>
          </a:xfrm>
          <a:prstGeom prst="flowChartTerminator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6"/>
          <p:cNvSpPr/>
          <p:nvPr/>
        </p:nvSpPr>
        <p:spPr>
          <a:xfrm rot="10800000">
            <a:off x="6659640" y="3357720"/>
            <a:ext cx="1295280" cy="863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3851280" y="1989000"/>
            <a:ext cx="576360" cy="360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5219640" y="1989000"/>
            <a:ext cx="576360" cy="360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1547640" y="35733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бл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3564000" y="2060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чи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5076720" y="2565360"/>
            <a:ext cx="11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чи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3492360" y="50133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ак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5005440" y="443700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ак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6732720" y="35733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в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Oval 16"/>
          <p:cNvSpPr/>
          <p:nvPr/>
        </p:nvSpPr>
        <p:spPr>
          <a:xfrm>
            <a:off x="1908000" y="3141720"/>
            <a:ext cx="287640" cy="287280"/>
          </a:xfrm>
          <a:prstGeom prst="ellipse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82400"/>
                </a:solidFill>
                <a:latin typeface="Times New Roman"/>
              </a:rPr>
              <a:t>«Оценочное окно»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1692360" y="1916280"/>
            <a:ext cx="5759280" cy="4464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азу могу  примени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сем непонятно           Хорошо понят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когда не смогу   примени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1"/>
          <p:cNvSpPr/>
          <p:nvPr/>
        </p:nvSpPr>
        <p:spPr>
          <a:xfrm flipV="1">
            <a:off x="4572000" y="1916280"/>
            <a:ext cx="0" cy="44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12"/>
          <p:cNvSpPr/>
          <p:nvPr/>
        </p:nvSpPr>
        <p:spPr>
          <a:xfrm>
            <a:off x="1692360" y="4149720"/>
            <a:ext cx="575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ПМИ (Плюс –Минус –Интересно)</a:t>
            </a:r>
            <a:br>
              <a:rPr sz="4000"/>
            </a:b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автор Эдвард де Боно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2560" y="227628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Плюс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+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писываем те факты, которые могут отвечать на вопрос «Что хорошего?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Минус» (-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записываем все те факты и мысли, которые могут отвечать на вопрос «Что в этом плохого?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?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редназначается для записи различных интересующих ученика фактов и мысле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Что в этом интересного?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4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8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800"/>
                            </p:stCondLst>
                            <p:childTnLst>
                              <p:par>
                                <p:cTn id="6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8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82400"/>
                </a:solidFill>
                <a:latin typeface="Times New Roman"/>
              </a:rPr>
              <a:t>Таблица Донны Огл</a:t>
            </a:r>
            <a:br>
              <a:rPr sz="3600"/>
            </a:br>
            <a:r>
              <a:rPr b="0" lang="ru-RU" sz="3600" spc="-1" strike="noStrike">
                <a:solidFill>
                  <a:srgbClr val="482400"/>
                </a:solidFill>
                <a:latin typeface="Times New Roman"/>
              </a:rPr>
              <a:t>«Знаю – Хочу знать – Узнал» (ЗХУ)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258920" y="2133720"/>
          <a:ext cx="7326360" cy="1189080"/>
        </p:xfrm>
        <a:graphic>
          <a:graphicData uri="http://schemas.openxmlformats.org/drawingml/2006/table">
            <a:tbl>
              <a:tblPr/>
              <a:tblGrid>
                <a:gridCol w="2127240"/>
                <a:gridCol w="2471760"/>
                <a:gridCol w="27273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что мы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что мы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отим узн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что мы узнали и что нам осталось узн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1258920" y="3716280"/>
          <a:ext cx="7343640" cy="2779920"/>
        </p:xfrm>
        <a:graphic>
          <a:graphicData uri="http://schemas.openxmlformats.org/drawingml/2006/table">
            <a:tbl>
              <a:tblPr/>
              <a:tblGrid>
                <a:gridCol w="1693800"/>
                <a:gridCol w="1978200"/>
                <a:gridCol w="3671640"/>
              </a:tblGrid>
              <a:tr h="1008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тегории информации, которыми мы намерены пользоваться    /Главные слова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, из которых мы намерены получить информац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d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82400"/>
                </a:solidFill>
                <a:latin typeface="Times New Roman"/>
              </a:rPr>
              <a:t>«Бортовые журналы»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042920" y="2421000"/>
          <a:ext cx="7769160" cy="3963960"/>
        </p:xfrm>
        <a:graphic>
          <a:graphicData uri="http://schemas.openxmlformats.org/drawingml/2006/table">
            <a:tbl>
              <a:tblPr/>
              <a:tblGrid>
                <a:gridCol w="3884760"/>
                <a:gridCol w="3884400"/>
              </a:tblGrid>
              <a:tr h="19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 мне извест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данной теме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 нового я узнал из текста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d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82400"/>
                </a:solidFill>
                <a:latin typeface="Times New Roman"/>
              </a:rPr>
              <a:t>«Двухчастный дневник»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042920" y="2492280"/>
          <a:ext cx="7769160" cy="3857760"/>
        </p:xfrm>
        <a:graphic>
          <a:graphicData uri="http://schemas.openxmlformats.org/drawingml/2006/table">
            <a:tbl>
              <a:tblPr/>
              <a:tblGrid>
                <a:gridCol w="3884760"/>
                <a:gridCol w="3884400"/>
              </a:tblGrid>
              <a:tr h="115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проситель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ые понятия те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ой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м отличается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чему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 д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d"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42560" y="97128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ИТИЧЕСКОЕ МЫШЛЕНИЕ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разумный, взвешенный подход к принятию  сложных решений, как следует поступать и во что вери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82400"/>
                </a:solidFill>
                <a:latin typeface="Times New Roman"/>
              </a:rPr>
              <a:t>«Концептуальная таблица»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042920" y="2060640"/>
          <a:ext cx="7769160" cy="4354560"/>
        </p:xfrm>
        <a:graphic>
          <a:graphicData uri="http://schemas.openxmlformats.org/drawingml/2006/table">
            <a:tbl>
              <a:tblPr/>
              <a:tblGrid>
                <a:gridCol w="2589120"/>
                <a:gridCol w="2590920"/>
                <a:gridCol w="25891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нии сравн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берт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от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а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мундс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ан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наря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ы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дач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d"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82400"/>
                </a:solidFill>
                <a:latin typeface="Times New Roman"/>
              </a:rPr>
              <a:t>Сюжетные таблицы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042920" y="2205000"/>
          <a:ext cx="7769160" cy="278136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2680"/>
                <a:gridCol w="1297080"/>
                <a:gridCol w="1811160"/>
              </a:tblGrid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то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гда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де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чему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d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Инсерт</a:t>
            </a:r>
            <a:br>
              <a:rPr sz="4000"/>
            </a:b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(условные значки)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900000" y="1989000"/>
          <a:ext cx="7993080" cy="4587840"/>
        </p:xfrm>
        <a:graphic>
          <a:graphicData uri="http://schemas.openxmlformats.org/drawingml/2006/table">
            <a:tbl>
              <a:tblPr/>
              <a:tblGrid>
                <a:gridCol w="1587600"/>
                <a:gridCol w="2155680"/>
                <a:gridCol w="2173320"/>
                <a:gridCol w="2076480"/>
              </a:tblGrid>
              <a:tr h="16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осознать новые знан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исправить неверные предположен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исправить неверные предполо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побудить дальнейший интерес к тем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 это зн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о для меня абсолютно нов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о противоречит тому, что я зн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 хочу знать об этом бол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d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82400"/>
                </a:solidFill>
                <a:latin typeface="Times New Roman"/>
              </a:rPr>
              <a:t>Почему «6 </a:t>
            </a: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W</a:t>
            </a:r>
            <a:r>
              <a:rPr b="1" lang="ru-RU" sz="4400" spc="-1" strike="noStrike">
                <a:solidFill>
                  <a:srgbClr val="482400"/>
                </a:solidFill>
                <a:latin typeface="Times New Roman"/>
              </a:rPr>
              <a:t>»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42560" y="227628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изошел от английского слов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с которого начинается вопрос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чему? Зачем? По какой причине?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туация «Почему?»,  «Почему?», «Почему?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Да потому…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82400"/>
                </a:solidFill>
                <a:latin typeface="Times New Roman"/>
              </a:rPr>
              <a:t>Перепутанные логические цепочки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42064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тель предлагает учащимся ряд утверждений, среди которых есть верные, а есть и неверны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ащиеся работают индивидуально, читают текст, отмечают перепутанные цепоч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суждают свои результаты в группе, уточняют, исправляю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82400"/>
                </a:solidFill>
                <a:latin typeface="Times New Roman"/>
              </a:rPr>
              <a:t>Прием составления глоссария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55280" y="1844640"/>
            <a:ext cx="82090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водится игра с интригующим названием «Таинственные значк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 списка слов – каждый из играющих выбирает одно или два и рисует их в виде символов –глос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этом никто не знает о выборе другого игро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ется выставк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все отгадывают рисунки друг дру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ле того как значение какого-либо из рисунков отгадано, автор поясняет е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жно составить словарь – глоссари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82400"/>
                </a:solidFill>
                <a:latin typeface="Times New Roman"/>
              </a:rPr>
              <a:t>Приемы по развитию навыков прогнозирования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71280" y="1955520"/>
            <a:ext cx="776916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рные и неверные утвержд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начале урока даются утверждения по новой теме, которые нужно оценить как верные или неверные и обосновать свои реш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стадии рефлексии можно предложить ребятам составить самим утверждения и обменятся ими для оценки их правильно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Стратегия</a:t>
            </a:r>
            <a:br>
              <a:rPr sz="4000"/>
            </a:b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 «Отсюда – сюда»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4" name="Oval 4"/>
          <p:cNvSpPr/>
          <p:nvPr/>
        </p:nvSpPr>
        <p:spPr>
          <a:xfrm>
            <a:off x="1403280" y="1773360"/>
            <a:ext cx="2879640" cy="792000"/>
          </a:xfrm>
          <a:prstGeom prst="ellipse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руппа получает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щее задание по тем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5"/>
          <p:cNvSpPr/>
          <p:nvPr/>
        </p:nvSpPr>
        <p:spPr>
          <a:xfrm>
            <a:off x="5292720" y="1989000"/>
            <a:ext cx="3166920" cy="1079640"/>
          </a:xfrm>
          <a:prstGeom prst="ellipse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ждый член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руппы получа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свой» объект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1332000" y="2781360"/>
            <a:ext cx="2879640" cy="865080"/>
          </a:xfrm>
          <a:prstGeom prst="ellipse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бор информаци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 объект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val 7"/>
          <p:cNvSpPr/>
          <p:nvPr/>
        </p:nvSpPr>
        <p:spPr>
          <a:xfrm>
            <a:off x="5364000" y="3357720"/>
            <a:ext cx="3024360" cy="934920"/>
          </a:xfrm>
          <a:prstGeom prst="ellipse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мен информацией в групп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val 8"/>
          <p:cNvSpPr/>
          <p:nvPr/>
        </p:nvSpPr>
        <p:spPr>
          <a:xfrm>
            <a:off x="1403280" y="3789360"/>
            <a:ext cx="2808360" cy="1008000"/>
          </a:xfrm>
          <a:prstGeom prst="ellipse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деление общег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ля запоминани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новной части таблиц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5292720" y="4653000"/>
            <a:ext cx="3166920" cy="863640"/>
          </a:xfrm>
          <a:prstGeom prst="ellipse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полнение таблиц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Oval 12"/>
          <p:cNvSpPr/>
          <p:nvPr/>
        </p:nvSpPr>
        <p:spPr>
          <a:xfrm>
            <a:off x="1476360" y="5013360"/>
            <a:ext cx="2664000" cy="1008000"/>
          </a:xfrm>
          <a:prstGeom prst="ellipse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писание совместног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сследования по тем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Oval 13"/>
          <p:cNvSpPr/>
          <p:nvPr/>
        </p:nvSpPr>
        <p:spPr>
          <a:xfrm>
            <a:off x="5076720" y="5734080"/>
            <a:ext cx="3456000" cy="836640"/>
          </a:xfrm>
          <a:prstGeom prst="ellipse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езентация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5"/>
          <p:cNvSpPr/>
          <p:nvPr/>
        </p:nvSpPr>
        <p:spPr>
          <a:xfrm>
            <a:off x="4284720" y="2205000"/>
            <a:ext cx="100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6"/>
          <p:cNvSpPr/>
          <p:nvPr/>
        </p:nvSpPr>
        <p:spPr>
          <a:xfrm flipH="1">
            <a:off x="4211280" y="2708280"/>
            <a:ext cx="1152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7"/>
          <p:cNvSpPr/>
          <p:nvPr/>
        </p:nvSpPr>
        <p:spPr>
          <a:xfrm>
            <a:off x="4211640" y="3284640"/>
            <a:ext cx="1152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8"/>
          <p:cNvSpPr/>
          <p:nvPr/>
        </p:nvSpPr>
        <p:spPr>
          <a:xfrm flipH="1">
            <a:off x="4140000" y="3933720"/>
            <a:ext cx="122364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9"/>
          <p:cNvSpPr/>
          <p:nvPr/>
        </p:nvSpPr>
        <p:spPr>
          <a:xfrm>
            <a:off x="4140360" y="4437000"/>
            <a:ext cx="1223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20"/>
          <p:cNvSpPr/>
          <p:nvPr/>
        </p:nvSpPr>
        <p:spPr>
          <a:xfrm flipH="1">
            <a:off x="4140000" y="5157720"/>
            <a:ext cx="1152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21"/>
          <p:cNvSpPr/>
          <p:nvPr/>
        </p:nvSpPr>
        <p:spPr>
          <a:xfrm>
            <a:off x="4140360" y="5589720"/>
            <a:ext cx="936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3"/>
          <p:cNvSpPr/>
          <p:nvPr/>
        </p:nvSpPr>
        <p:spPr>
          <a:xfrm>
            <a:off x="1619280" y="1916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4"/>
          <p:cNvSpPr/>
          <p:nvPr/>
        </p:nvSpPr>
        <p:spPr>
          <a:xfrm>
            <a:off x="1547640" y="299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5364000" y="3645000"/>
            <a:ext cx="3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6"/>
          <p:cNvSpPr/>
          <p:nvPr/>
        </p:nvSpPr>
        <p:spPr>
          <a:xfrm>
            <a:off x="1619280" y="40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7"/>
          <p:cNvSpPr/>
          <p:nvPr/>
        </p:nvSpPr>
        <p:spPr>
          <a:xfrm>
            <a:off x="5508720" y="486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9"/>
          <p:cNvSpPr/>
          <p:nvPr/>
        </p:nvSpPr>
        <p:spPr>
          <a:xfrm>
            <a:off x="5364000" y="22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1"/>
          <p:cNvSpPr/>
          <p:nvPr/>
        </p:nvSpPr>
        <p:spPr>
          <a:xfrm>
            <a:off x="1547640" y="5300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2"/>
          <p:cNvSpPr/>
          <p:nvPr/>
        </p:nvSpPr>
        <p:spPr>
          <a:xfrm>
            <a:off x="5292720" y="5950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0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3000"/>
                            </p:stCondLst>
                            <p:childTnLst>
                              <p:par>
                                <p:cTn id="7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4000"/>
                            </p:stCondLst>
                            <p:childTnLst>
                              <p:par>
                                <p:cTn id="7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6000"/>
                            </p:stCondLst>
                            <p:childTnLst>
                              <p:par>
                                <p:cTn id="8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7000"/>
                            </p:stCondLst>
                            <p:childTnLst>
                              <p:par>
                                <p:cTn id="8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8000"/>
                            </p:stCondLst>
                            <p:childTnLst>
                              <p:par>
                                <p:cTn id="8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9000"/>
                            </p:stCondLst>
                            <p:childTnLst>
                              <p:par>
                                <p:cTn id="8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1000"/>
                            </p:stCondLst>
                            <p:childTnLst>
                              <p:par>
                                <p:cTn id="8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3000"/>
                            </p:stCondLst>
                            <p:childTnLst>
                              <p:par>
                                <p:cTn id="8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8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8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6000"/>
                            </p:stCondLst>
                            <p:childTnLst>
                              <p:par>
                                <p:cTn id="8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7000"/>
                            </p:stCondLst>
                            <p:childTnLst>
                              <p:par>
                                <p:cTn id="8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8000"/>
                            </p:stCondLst>
                            <p:childTnLst>
                              <p:par>
                                <p:cTn id="8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9000"/>
                            </p:stCondLst>
                            <p:childTnLst>
                              <p:par>
                                <p:cTn id="8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20000"/>
                            </p:stCondLst>
                            <p:childTnLst>
                              <p:par>
                                <p:cTn id="8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21000"/>
                            </p:stCondLst>
                            <p:childTnLst>
                              <p:par>
                                <p:cTn id="8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22000"/>
                            </p:stCondLst>
                            <p:childTnLst>
                              <p:par>
                                <p:cTn id="8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Приемы по развитию навыков решения проблем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15640" y="2133720"/>
            <a:ext cx="77691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озговой штур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русель. Групповая работа.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облемные вопросы или задания по количеству групп. Каждая пишет свое решение и передает по кругу дальш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Приемы по развитию навыков ведения дискуссии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олевая иг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екрестная дискусс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пор-диало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тод угл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учащиеся расходятся по углам в соответствии с определенной позицией. Аргумент одной группы – контраргумент другой. Учащиеся могут переходить в другой угол. Колеблющиеся сидят в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центре класса, в  процессе дискуссии могут присоединиться к той или иной групп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 шляп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(чтобы мыслить – в соответствии с цветом шляпы, ученик доказывает ту или иную точку зрен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квариу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061640" y="104436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ИТИЧЕСКОЕ МЫШЛЕНИЕ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особый вид деятельности позволяющий ученику вынести здравое суждение о предложенной ему точке зрения или модели поведе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82400"/>
                </a:solidFill>
                <a:latin typeface="Times New Roman"/>
              </a:rPr>
              <a:t>АКВАРИУМ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42920" y="1766880"/>
            <a:ext cx="77882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2843280" y="2924280"/>
            <a:ext cx="3960720" cy="1728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5"/>
          <p:cNvSpPr/>
          <p:nvPr/>
        </p:nvSpPr>
        <p:spPr>
          <a:xfrm>
            <a:off x="3780000" y="3573360"/>
            <a:ext cx="431640" cy="216000"/>
          </a:xfrm>
          <a:prstGeom prst="flowChartDecision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AutoShape 6"/>
          <p:cNvSpPr/>
          <p:nvPr/>
        </p:nvSpPr>
        <p:spPr>
          <a:xfrm>
            <a:off x="4500720" y="4005360"/>
            <a:ext cx="431640" cy="215640"/>
          </a:xfrm>
          <a:prstGeom prst="flowChartDecision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AutoShape 7"/>
          <p:cNvSpPr/>
          <p:nvPr/>
        </p:nvSpPr>
        <p:spPr>
          <a:xfrm>
            <a:off x="5219640" y="3573360"/>
            <a:ext cx="432000" cy="216000"/>
          </a:xfrm>
          <a:prstGeom prst="flowChartDecision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4211640" y="3068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ыб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11"/>
          <p:cNvSpPr/>
          <p:nvPr/>
        </p:nvSpPr>
        <p:spPr>
          <a:xfrm>
            <a:off x="3780000" y="5013360"/>
            <a:ext cx="2087280" cy="647640"/>
          </a:xfrm>
          <a:prstGeom prst="ellipse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дущ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Oval 15"/>
          <p:cNvSpPr/>
          <p:nvPr/>
        </p:nvSpPr>
        <p:spPr>
          <a:xfrm>
            <a:off x="6948360" y="3645000"/>
            <a:ext cx="1800360" cy="576000"/>
          </a:xfrm>
          <a:prstGeom prst="ellipse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16"/>
          <p:cNvSpPr/>
          <p:nvPr/>
        </p:nvSpPr>
        <p:spPr>
          <a:xfrm>
            <a:off x="971640" y="3573360"/>
            <a:ext cx="1655640" cy="647640"/>
          </a:xfrm>
          <a:prstGeom prst="ellipse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7"/>
          <p:cNvSpPr/>
          <p:nvPr/>
        </p:nvSpPr>
        <p:spPr>
          <a:xfrm>
            <a:off x="971640" y="371628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блюдате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9"/>
          <p:cNvSpPr/>
          <p:nvPr/>
        </p:nvSpPr>
        <p:spPr>
          <a:xfrm>
            <a:off x="7093080" y="3716280"/>
            <a:ext cx="17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блюдате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20"/>
          <p:cNvSpPr/>
          <p:nvPr/>
        </p:nvSpPr>
        <p:spPr>
          <a:xfrm>
            <a:off x="6804000" y="39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21"/>
          <p:cNvSpPr/>
          <p:nvPr/>
        </p:nvSpPr>
        <p:spPr>
          <a:xfrm flipH="1">
            <a:off x="2627280" y="386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22"/>
          <p:cNvSpPr/>
          <p:nvPr/>
        </p:nvSpPr>
        <p:spPr>
          <a:xfrm>
            <a:off x="4788000" y="465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24"/>
          <p:cNvSpPr/>
          <p:nvPr/>
        </p:nvSpPr>
        <p:spPr>
          <a:xfrm>
            <a:off x="6372360" y="292428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25"/>
          <p:cNvSpPr/>
          <p:nvPr/>
        </p:nvSpPr>
        <p:spPr>
          <a:xfrm flipH="1">
            <a:off x="6372000" y="4221000"/>
            <a:ext cx="4316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26"/>
          <p:cNvSpPr/>
          <p:nvPr/>
        </p:nvSpPr>
        <p:spPr>
          <a:xfrm flipV="1">
            <a:off x="2843280" y="2924280"/>
            <a:ext cx="50472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27"/>
          <p:cNvSpPr/>
          <p:nvPr/>
        </p:nvSpPr>
        <p:spPr>
          <a:xfrm>
            <a:off x="2843280" y="4221000"/>
            <a:ext cx="4334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28"/>
          <p:cNvSpPr/>
          <p:nvPr/>
        </p:nvSpPr>
        <p:spPr>
          <a:xfrm>
            <a:off x="6877080" y="2565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спе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29"/>
          <p:cNvSpPr/>
          <p:nvPr/>
        </p:nvSpPr>
        <p:spPr>
          <a:xfrm>
            <a:off x="6804000" y="4653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спе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0"/>
          <p:cNvSpPr/>
          <p:nvPr/>
        </p:nvSpPr>
        <p:spPr>
          <a:xfrm>
            <a:off x="1619280" y="256536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спе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1"/>
          <p:cNvSpPr/>
          <p:nvPr/>
        </p:nvSpPr>
        <p:spPr>
          <a:xfrm>
            <a:off x="1619280" y="4581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спе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2400"/>
                </a:solidFill>
                <a:latin typeface="Times New Roman"/>
              </a:rPr>
              <a:t>Приемы по развитию навыков представления своего мнения</a:t>
            </a:r>
            <a:r>
              <a:rPr b="1" lang="ru-RU" sz="2800" spc="-1" strike="noStrike">
                <a:solidFill>
                  <a:srgbClr val="4824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ru-RU" sz="3200" spc="-1" strike="noStrike">
                <a:solidFill>
                  <a:srgbClr val="482400"/>
                </a:solidFill>
                <a:latin typeface="Times New Roman"/>
              </a:rPr>
              <a:t>и учета иного мнения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минары совместного редактирования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втор текста (реферата) раздает ксерокопии всем участникам семинара. Каждый указывает три момента (по содержанию, стилю, сюжету), которые понравились и три, которые не понравились. Автор тихо записывает и в конце делает отчет о том, что принимает, а что н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ние цепочки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(синквейнов хайку, рисунков) передавая друг другу их по кругу. Каждый пишет свой синквейн, развивая мысли предыдущих автор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ободное письмо, эсс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игзаг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взаимообучение) работа в группах сменного соста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одики КС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6" dur="1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82400"/>
                </a:solidFill>
                <a:latin typeface="Times New Roman"/>
              </a:rPr>
              <a:t>СИНКВЕЙН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первой строчк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ема называется одним словом (обычно существительным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торая строч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это описание темы в двух словах (двумя прилагательным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етья строч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это описание действия в рамках этой темы тремя слов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твертая строч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это фраза из четырех слов, показывающая отношение к тем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ледняя стро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это синоним из одного слова, который повторяет суть тем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4" dur="8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5" dur="8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6" dur="8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1" dur="8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2" dur="8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3" dur="8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8" dur="8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9" dur="8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0" dur="8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5" dur="8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6" dur="8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7" dur="8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2" dur="8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3" dur="8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4" dur="8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Прием «перекрестная дискуссия»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042920" y="1916280"/>
          <a:ext cx="7769160" cy="4735440"/>
        </p:xfrm>
        <a:graphic>
          <a:graphicData uri="http://schemas.openxmlformats.org/drawingml/2006/table">
            <a:tbl>
              <a:tblPr/>
              <a:tblGrid>
                <a:gridCol w="3884760"/>
                <a:gridCol w="3884400"/>
              </a:tblGrid>
              <a:tr h="1241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 готов применить технологию развития критического мышления на своих урока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олните левую и правую колонку таблицы, приведя 3-4 аргумента «за» и «против» тезиса, приведенного в заголовке таблицы, обменяйтесь мнениями со своими коллегами, используя их аргументы, которые покажутся вам убедительными, продолжите заполнение таблицы, когда аргументы иссякнут, сделайте вывод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d"/>
  </p:transition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82400"/>
                </a:solidFill>
                <a:latin typeface="Times New Roman"/>
              </a:rPr>
              <a:t>Критическое мышление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281" name="Picture 4" descr="und42"/>
          <p:cNvPicPr/>
          <p:nvPr/>
        </p:nvPicPr>
        <p:blipFill>
          <a:blip r:embed="rId1"/>
          <a:stretch/>
        </p:blipFill>
        <p:spPr>
          <a:xfrm>
            <a:off x="2124000" y="5445000"/>
            <a:ext cx="5472360" cy="438120"/>
          </a:xfrm>
          <a:prstGeom prst="rect">
            <a:avLst/>
          </a:prstGeom>
          <a:ln w="0">
            <a:noFill/>
          </a:ln>
        </p:spPr>
      </p:pic>
      <p:sp>
        <p:nvSpPr>
          <p:cNvPr id="282" name="WordArt 5"/>
          <p:cNvSpPr txBox="1"/>
          <p:nvPr/>
        </p:nvSpPr>
        <p:spPr>
          <a:xfrm>
            <a:off x="1258920" y="2060640"/>
            <a:ext cx="7273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Размышляйте над этим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83" name="WordArt 7"/>
          <p:cNvSpPr txBox="1"/>
          <p:nvPr/>
        </p:nvSpPr>
        <p:spPr>
          <a:xfrm>
            <a:off x="1835280" y="3573360"/>
            <a:ext cx="604836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Только критичес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slow">
    <p:pull dir="d"/>
  </p:transition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0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2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42560" y="105228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ИТИЧЕСКОЕ МЫШЛЕНИЕ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правная точка для развит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рческого мыш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82400"/>
                </a:solidFill>
                <a:latin typeface="Times New Roman"/>
              </a:rPr>
              <a:t>КРИТИЧЕСКОЕ МЫШЛЕНИЕ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971640" y="1773360"/>
            <a:ext cx="7632720" cy="936360"/>
          </a:xfrm>
          <a:prstGeom prst="roundRect">
            <a:avLst>
              <a:gd name="adj" fmla="val 16667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ды интеллектуальной деятельност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торые нельзя назвать критически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1187280" y="2852640"/>
            <a:ext cx="2160720" cy="6476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помин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1187280" y="3860640"/>
            <a:ext cx="5400720" cy="936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нимание простых и сложный ид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1187280" y="5157720"/>
            <a:ext cx="6697800" cy="936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ворческое, интуитивное мышл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ортсмена, художника, музыкан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Критическое мышление имеет </a:t>
            </a:r>
            <a:br>
              <a:rPr sz="4000"/>
            </a:b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5 характеристик (Д. Клустер)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о-первых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это мышлени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амостоятельн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о-вторы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это мышлени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общенн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-третьи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это мышлени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блемное и оценочн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 четвертых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это мышлени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ргументированн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 пятых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критическое мышление есть мышлени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циальн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124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82400"/>
                </a:solidFill>
                <a:latin typeface="Times New Roman"/>
              </a:rPr>
              <a:t>В программе РКМЧП</a:t>
            </a:r>
            <a:br>
              <a:rPr sz="2800"/>
            </a:br>
            <a:r>
              <a:rPr b="1" lang="ru-RU" sz="2800" spc="-1" strike="noStrike">
                <a:solidFill>
                  <a:srgbClr val="482400"/>
                </a:solidFill>
                <a:latin typeface="Times New Roman"/>
              </a:rPr>
              <a:t>определение критического мышления </a:t>
            </a:r>
            <a:br>
              <a:rPr sz="2800"/>
            </a:br>
            <a:r>
              <a:rPr b="1" lang="ru-RU" sz="2800" spc="-1" strike="noStrike">
                <a:solidFill>
                  <a:srgbClr val="482400"/>
                </a:solidFill>
                <a:latin typeface="Times New Roman"/>
              </a:rPr>
              <a:t>состоит из 6 компонентов.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тический мыслитель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ует собственное мн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ершает обдуманный выбор между различными мнени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ает пробл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ргументировано спор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нит совместную работу, в которой возникает общее реш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меет ценить чужую точку зрения и сознает, что восприятие человека и его отношение к любому вопросу формируется под влиянием многих факто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82400"/>
                </a:solidFill>
                <a:latin typeface="Times New Roman"/>
              </a:rPr>
              <a:t>Основные контуры ТРКМ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227628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ь данной технологии 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азвитие мыслительных навыков учащихся, необходимых не только в учебе, но и в обычной жизни (умение принимать взвешенные решения, работать с информацией, анализировать различные стороны явлений и т.п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3T19:33:14Z</dcterms:created>
  <dc:creator>Ирландец</dc:creator>
  <dc:description/>
  <dc:language>en-US</dc:language>
  <cp:lastModifiedBy>Левина</cp:lastModifiedBy>
  <dcterms:modified xsi:type="dcterms:W3CDTF">2011-01-14T07:18:00Z</dcterms:modified>
  <cp:revision>66</cp:revision>
  <dc:subject/>
  <dc:title>ТЕХНОЛОГИЯ РАЗВИТИЯ КРИТИЧЕСКОГО МЫШЛЕНИЯ</dc:title>
</cp:coreProperties>
</file>