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865F-104A-45A6-B191-A3BF7E73C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3A23-78DA-49BF-9417-DC2F1F6E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34AF-574C-4B4D-96A6-E0EDC5A3E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7058-37CF-4EFC-B4B1-5B1E6EBF2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05C5-4D11-4087-A20D-4FAEDEA8A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D419-B2BF-46B1-80B1-3234F681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6A25-B2A0-49F0-BEC1-E4103AD7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B156-8FE7-4682-BF83-061A650B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C4A8-C60F-48B9-B9F1-E0E15AD1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5446-F269-4A06-89DE-E15778EA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AB51-A1FB-4323-9998-88F7095F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DB6C-19E2-47C6-923B-2F00219A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E4A2-5351-4DD2-870C-43B4AF6B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09F0-DEB8-4C04-A458-8A68446E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16FD-789B-492D-AC93-76D22B30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0013-34A0-4209-BEC6-FFDC91AF1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75B3-3F69-4A4C-BC8E-A2971625F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5525-2530-4F10-9A91-0A53B895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09BC-43A8-4C01-A3BE-9B386D1B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E882-8C65-4F21-95CF-D8544D79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C6A4-CE11-4E14-B533-CBBF4A10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CC25-AC97-48D9-9DAA-0A45E3D5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79F2-BCD4-433F-AD7A-A83F779D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2796-DE99-4376-9D81-B23DB5C8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63CD-8099-4DDB-89FE-A77B6D11AFB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5B83-88CA-4AD2-A996-3CDEDADB626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1511280"/>
            <a:ext cx="6369120" cy="3070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Arial Black"/>
              </a:rPr>
              <a:t>Учебная мотивация</a:t>
            </a:r>
            <a:br>
              <a:rPr sz="4400"/>
            </a:br>
            <a:r>
              <a:rPr b="1" lang="en-US" sz="4400" spc="-1" strike="noStrike">
                <a:solidFill>
                  <a:srgbClr val="703dff"/>
                </a:solidFill>
                <a:latin typeface="Arial Black"/>
              </a:rPr>
              <a:t> как показатель качества обучения</a:t>
            </a:r>
            <a:br>
              <a:rPr sz="4400"/>
            </a:br>
            <a:r>
              <a:rPr b="1" lang="en-US" sz="4400" spc="-1" strike="noStrike">
                <a:solidFill>
                  <a:srgbClr val="703dff"/>
                </a:solidFill>
                <a:latin typeface="Arial Black"/>
              </a:rPr>
              <a:t> младших школьников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476000" y="544464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Выполнила: учитель начальных классов  МОУ СОШ с. Родничок  Кострикина Е.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620280"/>
            <a:ext cx="76248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Учебный труд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как и всякий другой,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интересен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огда, когда он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разнообразен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Однообразная информация и однообразные способы действия быстро вызывают скук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вязь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нового материала  с усвоенными ранее знаниями, с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жизнью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итуация успех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475920"/>
            <a:ext cx="83469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5059080" cy="56754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003640" y="476280"/>
            <a:ext cx="314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buClr>
                <a:srgbClr val="703d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dff"/>
                </a:solidFill>
                <a:latin typeface="Arial Black"/>
              </a:rPr>
              <a:t>загад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6" name="Picture 9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6913440" cy="21463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132000" y="26028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Arial Black"/>
              </a:rPr>
              <a:t>ребу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0" descr=""/>
          <p:cNvPicPr/>
          <p:nvPr/>
        </p:nvPicPr>
        <p:blipFill>
          <a:blip r:embed="rId2"/>
          <a:stretch/>
        </p:blipFill>
        <p:spPr>
          <a:xfrm>
            <a:off x="2340000" y="3573360"/>
            <a:ext cx="417672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092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000" y="620280"/>
            <a:ext cx="762300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 Black"/>
              </a:rPr>
              <a:t>Приём «Фантастическая добавка».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Учащимся предлагается представить себя прутиком, при помощи которого путешествовала лягушка из сказки В. М. Гаршина «Лягушка-путешественница», и попытаться пересказать эту историю с позиции прутик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000" y="-45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Arial Black"/>
              </a:rPr>
              <a:t>иллюстра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16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612144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0920" y="-11080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842240" cy="45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Развитие учебной мотивации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—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это процесс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длительный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кропотливый 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целенаправленны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4000" y="-13240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9280" y="620640"/>
            <a:ext cx="7696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«Мы не можем делать великие дела. Мы можем делать только маленькие дела, но с великой Любовью». Мать Терез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Эта   мысль должна стать путеводной звездой каждого учителя в решении вопросов мотивации учения младшего школьника, воспитания интереса и любви к получению знаний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0000" y="-800280"/>
            <a:ext cx="6870960" cy="16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7913880" cy="501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Мотивация – это внутренняя психологическая       характеристика личности, которая находит выражение во внешних проявлениях, в отношении человека к окружающему миру, различным видам деятельности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00000" y="-103500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4920" y="765000"/>
            <a:ext cx="7769160" cy="56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Учебно-познавательная мотивация младших школьников</a:t>
            </a: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 – это их деятельностный подход к учёбе, реализация желания хорошо учиться. Чтобы у ребёнка возникла стойкая внутренняя мотивация «хочу учиться хорошо», надо, чтобы каждый говорил себе: «Я смогу! Я добьюсь!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-132408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620280"/>
            <a:ext cx="7840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Учение имеет ряд мотивов различного свойства. Все мотивы можно разбить  на следующие группы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- учебно – познавательные  ( интерес к знаниям, познавательная потребность, любознательность и др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-  непосредственно-побуждающие (яркость, новизна, занимательность, страх перед наказанием и др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- перспективно - побуждающие (чувство долга и ответственность и др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87280" y="-481320"/>
            <a:ext cx="6369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4920" y="764640"/>
            <a:ext cx="7769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Залог успешности обучения младших школьников – это наличие устойчивой учебной мотивации и познавательной активности. Учитель должен нести в себе жизнеутверждающее начало, радость и успех!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092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640" y="691920"/>
            <a:ext cx="784224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формирование мотивов учения - это создание таких условий, при которых появятся внутренние побуждения (мотивы, цели, эмоции) к учению; осознание их учеником и дальнейшего саморазвития им своей мотивационной сферы.</a:t>
            </a: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-160020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3640" y="404280"/>
            <a:ext cx="78404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Важную роль в стимулировании познавательного интереса имеет позитивная психологическая атмосфера урока, обеспечение гуманных отношений между учителем и учеником, выбор демократического стиля педагогического взаимодействия: принятие своих учеников независимо от их учебных успехов, преобладание побуждения, поощрения, понимания и поддержки. Психологическое поглаживание учеников: приветствие, проявления внимания к возможно большему числу детей – взглядом, улыбкой, кивк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000" y="-1395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78422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формы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стимулирования познавательной активности учащихся, формирования мотивации учения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дидактические игры и упражнения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личностно-ориентированный подход в обучении и воспитании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внеклассные мероприятия по предметам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творческие работы учащихся по разным предметам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проведение предметных олимпиад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использование различных педагогических технологий (проблемное обучение, игровые формы, развивающие задания и т. д.)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интеграция обучения (проведение интегрированных уроков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-125100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0920" y="475920"/>
            <a:ext cx="77706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Условия, при которых возникает и развивается интерес к учению, т.е. внутренняя мотивация учебной деятельности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Понимание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нужности, важности ,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целесообразност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изучения данного предмета в целом и отдельных его раздел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Организация обучения, при которой ученик вовлекается в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процесс самостоятельного поиска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 «открытия» новых знаний, решает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задачи проблемного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характер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5:52:50Z</dcterms:created>
  <dc:creator>user</dc:creator>
  <dc:description/>
  <dc:language>en-US</dc:language>
  <cp:lastModifiedBy>user</cp:lastModifiedBy>
  <dcterms:modified xsi:type="dcterms:W3CDTF">2012-02-15T11:30:15Z</dcterms:modified>
  <cp:revision>4</cp:revision>
  <dc:subject/>
  <dc:title>Учебная мотивация  как показатель качества обучения  младших школьников </dc:title>
</cp:coreProperties>
</file>