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83A7-6CF1-40E1-BDCA-BEBD9F8D6E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7AD8-FA12-4257-8411-A8F066D4783A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F1C-BB62-4D2F-A834-873D472B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D78-4371-4145-A7C4-F5851289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275-885B-4681-BBA9-B5D1B0C5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B01A-905D-4399-B09D-7A131609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5949-DF2B-45D1-8941-2A8C7F9B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D395-832E-466F-A503-2EF95CAA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4D7E-E453-4B78-8B50-D298CCC2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0D71-56E6-4334-8E42-B0C020CE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9591-CE2B-4CBA-8A71-A8032BFF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4080-7804-4A84-AA11-4CE2D0DF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AF1E-E38B-4DE8-BECB-C5D81483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CA9-01C6-4E53-BC17-C22DF901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493A-B014-414C-9881-01B5DB5E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0AB8-7B9D-4073-82D4-E9884A84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5ACA-0368-4525-914C-A9745E63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BB6E-5DD2-4E09-B831-D2339853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BD70-C910-4E92-A8EE-625E6BAB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FBC-7FB3-4FAC-B7AD-D01F9AEB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226-AB36-440E-9116-263F4C24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DB41-0B15-411D-B064-8BF259BB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F778-82CB-4BB3-8C18-0E0ACCC6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08F-A99C-4C97-B75A-2A01CD74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836-804F-41C2-856F-3D70602C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A1E-7831-4EA4-8CBB-EF2A9139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9cc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D37F-CCE3-4ABF-9B15-964D116EFAC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313680"/>
            <a:ext cx="2895480" cy="5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подаватель-организатор ОБЖ Котлов В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512D-8781-434C-8BF0-5A4EFD3EA68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9cc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3BB9-F47D-4A5B-A739-E68C8B957A44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337440"/>
            <a:ext cx="3279960" cy="5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подаватель-организатор ОБЖ Котлов В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77CE-577E-4145-A0E1-96933A589D3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773c"/>
                </a:solidFill>
                <a:latin typeface="Arial"/>
              </a:rPr>
              <a:t>Производственные аварии и катастроф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Краткая характеристика основных типов чрезвычайных ситуаций техногенного характера и их последств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Основные причины техногенных аварий и катастроф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a85ff"/>
                </a:solidFill>
                <a:latin typeface="Arial"/>
              </a:rPr>
              <a:t>8 класс, урок 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a85ff"/>
                </a:solidFill>
                <a:latin typeface="Arial"/>
              </a:rPr>
              <a:t>Преподаватель Котлов В.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a85ff"/>
                </a:solidFill>
                <a:latin typeface="Arial"/>
              </a:rPr>
              <a:t>Зареченская СОШ  № 2, п.Тоцкое-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Дата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3208-F3D6-4CB9-8930-DDD5AA184D7B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2936880" y="6527160"/>
            <a:ext cx="449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подаватель-организатор ОБЖ Котлов В.В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Аварии на промышленных очистных сооружениях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огут принести немалые беды. Это связано не только с их тяжелым воздействием на обслуживающий персонал объектов и жителей близлежащих населенных пунктов, но и с залповыми выбросами в окружающую среду токсических веществ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6" descr="oruzhie_bakter"/>
          <p:cNvPicPr/>
          <p:nvPr/>
        </p:nvPicPr>
        <p:blipFill>
          <a:blip r:embed="rId1"/>
          <a:stretch/>
        </p:blipFill>
        <p:spPr>
          <a:xfrm>
            <a:off x="1285920" y="257184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148" name="Дата 4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58D8-D7D8-404A-9789-CA0113B9D719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2936880" y="6550920"/>
            <a:ext cx="48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подаватель-организатор ОБЖ Котлов В.В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резвычайные ситуации экологического характе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Ситуации, связанные с изменением атмосферы: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зкие изменения погоды или климата в результате антропогенной деятельност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пасные концентрации вредных примесей в атмосфер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емпературные инверсии и кислородный голод в города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начительное превышение предельно допустимого уровня городского шум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ислотные осад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зрушение озонового слоя атмосферы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Содержимое 4" descr="post-19-1138221935.jpg"/>
          <p:cNvPicPr/>
          <p:nvPr/>
        </p:nvPicPr>
        <p:blipFill>
          <a:blip r:embed="rId1"/>
          <a:stretch/>
        </p:blipFill>
        <p:spPr>
          <a:xfrm>
            <a:off x="4991040" y="2760840"/>
            <a:ext cx="3924360" cy="2936520"/>
          </a:xfrm>
          <a:prstGeom prst="rect">
            <a:avLst/>
          </a:prstGeom>
          <a:ln w="0">
            <a:noFill/>
          </a:ln>
        </p:spPr>
      </p:pic>
      <p:sp>
        <p:nvSpPr>
          <p:cNvPr id="153" name="Дата 4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9BE4-98AB-4C74-8241-31B3559B6BE2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Нижний колонтитул 5"/>
          <p:cNvSpPr/>
          <p:nvPr/>
        </p:nvSpPr>
        <p:spPr>
          <a:xfrm>
            <a:off x="2936880" y="6550920"/>
            <a:ext cx="470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подаватель-организатор ОБЖ Котлов В.В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785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резвычайные ситуации экологического характе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Содержимое 4" descr="post-19-1141403847.jpg"/>
          <p:cNvPicPr/>
          <p:nvPr/>
        </p:nvPicPr>
        <p:blipFill>
          <a:blip r:embed="rId1"/>
          <a:stretch/>
        </p:blipFill>
        <p:spPr>
          <a:xfrm>
            <a:off x="914400" y="2919240"/>
            <a:ext cx="3924360" cy="3224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Ситуации, связанные с изменением гидросферы (водной среды):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зкая нехватка питьевой воды, истощение водоисточников или их загрязнени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стощение водных ресурсов, необходимых для хозяйственно-бытового водоснабжения и обеспечения технологических процесс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рушение хозяйственной деятельности и экологического равновесия вследствие загрязнения внутренних морей и Мирового океан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Дата 4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9722-BF70-4B3C-AEA8-6A14B45ADBD1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Нижний колонтитул 5"/>
          <p:cNvSpPr/>
          <p:nvPr/>
        </p:nvSpPr>
        <p:spPr>
          <a:xfrm>
            <a:off x="2936880" y="6550920"/>
            <a:ext cx="47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подаватель-организатор ОБЖ Котлов В.В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резвычайные ситуации экологического характе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Ситуации, связанные с изменением состояния суши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атастрофические  просадки, оползни, обвалы земной поверхности из-за выработки недр и другой деятельности человека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Наличие тяжелых металлов, радионуклидов и других вредных веществ в почве сверх допустимых концентраций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еградация почвы, их опустынивание, эрозия, засоление, заболачивание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Истощение невозобновляемых ископаемых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ереполнение хранилищ (свалок) промышленными и бытовыми отходами, загрязнение ими окружающей среды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Содержимое 4" descr="02.jpg"/>
          <p:cNvPicPr/>
          <p:nvPr/>
        </p:nvPicPr>
        <p:blipFill>
          <a:blip r:embed="rId1"/>
          <a:stretch/>
        </p:blipFill>
        <p:spPr>
          <a:xfrm>
            <a:off x="4991040" y="2843280"/>
            <a:ext cx="3924360" cy="3657600"/>
          </a:xfrm>
          <a:prstGeom prst="rect">
            <a:avLst/>
          </a:prstGeom>
          <a:ln w="0">
            <a:noFill/>
          </a:ln>
        </p:spPr>
      </p:pic>
      <p:sp>
        <p:nvSpPr>
          <p:cNvPr id="163" name="Дата 4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38A4-FC10-4D92-9103-C1A7ECF7D518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Нижний колонтитул 5"/>
          <p:cNvSpPr/>
          <p:nvPr/>
        </p:nvSpPr>
        <p:spPr>
          <a:xfrm>
            <a:off x="2936880" y="6550920"/>
            <a:ext cx="48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подаватель-организатор ОБЖ Котлов В.В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резвычайные ситуации экологического характе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Содержимое 4" descr="__4.jpg"/>
          <p:cNvPicPr/>
          <p:nvPr/>
        </p:nvPicPr>
        <p:blipFill>
          <a:blip r:embed="rId1"/>
          <a:stretch/>
        </p:blipFill>
        <p:spPr>
          <a:xfrm>
            <a:off x="914400" y="2757600"/>
            <a:ext cx="3924360" cy="2943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5000760" y="2357280"/>
            <a:ext cx="392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Ситуации, связанные с изменением биосферы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счезновение видов животных, растений, наиболее чувствительных к изменению условий среды обита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ибель растительности на обширной территори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зкое изменение способности биосферы к воспроизводству возобновляемых ресурс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ссовая гибель животны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Дата 4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C8BF-46C6-446F-AEFF-D9DE0B23CE96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Нижний колонтитул 5"/>
          <p:cNvSpPr/>
          <p:nvPr/>
        </p:nvSpPr>
        <p:spPr>
          <a:xfrm>
            <a:off x="2936880" y="6550920"/>
            <a:ext cx="492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подаватель-организатор ОБЖ Котлов В.В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новные причины техногенных аварий и катастроф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Содержимое 3" descr=""/>
          <p:cNvPicPr/>
          <p:nvPr/>
        </p:nvPicPr>
        <p:blipFill>
          <a:blip r:embed="rId1"/>
          <a:stretch/>
        </p:blipFill>
        <p:spPr>
          <a:xfrm>
            <a:off x="895320" y="2328840"/>
            <a:ext cx="8040600" cy="3790800"/>
          </a:xfrm>
          <a:prstGeom prst="rect">
            <a:avLst/>
          </a:prstGeom>
          <a:ln w="0">
            <a:noFill/>
          </a:ln>
        </p:spPr>
      </p:pic>
      <p:sp>
        <p:nvSpPr>
          <p:cNvPr id="172" name="Дата 4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A5BE-B492-458D-86DB-1F18242EA414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Нижний колонтитул 5"/>
          <p:cNvSpPr/>
          <p:nvPr/>
        </p:nvSpPr>
        <p:spPr>
          <a:xfrm>
            <a:off x="2936880" y="6550920"/>
            <a:ext cx="48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подаватель-организатор ОБЖ Котлов В.В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ы для повторен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Приведите примеры транспортных аварий (катастроф). Есть ли подобные аварии в нашем регионе проживания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При каких  условиях авария (катастрофа) может перерасти в чрезвычайную ситуацию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Дата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B298-9F5F-49E3-B3C4-A62D6FFF55F3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Нижний колонтитул 4"/>
          <p:cNvSpPr/>
          <p:nvPr/>
        </p:nvSpPr>
        <p:spPr>
          <a:xfrm>
            <a:off x="2936880" y="6550920"/>
            <a:ext cx="47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подаватель-организатор ОБЖ Котлов В.В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Домашнее задание: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9" name="Содержимое 5" descr=""/>
          <p:cNvPicPr/>
          <p:nvPr/>
        </p:nvPicPr>
        <p:blipFill>
          <a:blip r:embed="rId1"/>
          <a:stretch/>
        </p:blipFill>
        <p:spPr>
          <a:xfrm>
            <a:off x="895320" y="2328840"/>
            <a:ext cx="8040600" cy="3803760"/>
          </a:xfrm>
          <a:prstGeom prst="rect">
            <a:avLst/>
          </a:prstGeom>
          <a:ln w="0">
            <a:noFill/>
          </a:ln>
        </p:spPr>
      </p:pic>
      <p:sp>
        <p:nvSpPr>
          <p:cNvPr id="180" name="Дата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FBAA-1B12-4A1C-87CE-CA0A7528584B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Нижний колонтитул 4"/>
          <p:cNvSpPr/>
          <p:nvPr/>
        </p:nvSpPr>
        <p:spPr>
          <a:xfrm>
            <a:off x="2936880" y="6550920"/>
            <a:ext cx="449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подаватель-организатор ОБЖ Котлов В.В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анспортные аварии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  (катастрофы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гут быть двух видов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На производственных объектах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(депо, станции, порты, аэровокзалы,  иные сооружения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Во время движения транспортных средст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х особенность заключается чаще всего в отдаленности места аварии от аварийно-спасательных служб и населенных пунктов, в трудности доставки спасателей, большом числе пострадавших, нуждающихся в срочной медицинской помощ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i-main-pic" descr="Картинка 23 из 981"/>
          <p:cNvPicPr/>
          <p:nvPr/>
        </p:nvPicPr>
        <p:blipFill>
          <a:blip r:embed="rId1"/>
          <a:stretch/>
        </p:blipFill>
        <p:spPr>
          <a:xfrm>
            <a:off x="4991040" y="2908440"/>
            <a:ext cx="3924360" cy="2641320"/>
          </a:xfrm>
          <a:prstGeom prst="rect">
            <a:avLst/>
          </a:prstGeom>
          <a:ln w="0">
            <a:noFill/>
          </a:ln>
        </p:spPr>
      </p:pic>
      <p:sp>
        <p:nvSpPr>
          <p:cNvPr id="108" name="Дата 4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B37B-3FFD-4098-9049-D694778A947E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2936880" y="6550920"/>
            <a:ext cx="420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подаватель-организатор ОБЖ Котлов В.В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жары и взрыв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Содержимое 4" descr="780_28_1_2.jpg"/>
          <p:cNvPicPr/>
          <p:nvPr/>
        </p:nvPicPr>
        <p:blipFill>
          <a:blip r:embed="rId1"/>
          <a:stretch/>
        </p:blipFill>
        <p:spPr>
          <a:xfrm>
            <a:off x="1547640" y="2800440"/>
            <a:ext cx="2657520" cy="2857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амые распространенные причины ЧС в современном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дустриальном  мире. В нашей стране свыше 8 тысяч пожаро-взрывоопасных объектов: используют взрывчатые, легковоспламеняющиеся и горючие вещества, железнодорожный и трубопроводный транспорт, жилой сектор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Дата 4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C6DA-01D2-4CB6-851A-778950D01246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Нижний колонтитул 5"/>
          <p:cNvSpPr/>
          <p:nvPr/>
        </p:nvSpPr>
        <p:spPr>
          <a:xfrm>
            <a:off x="2936880" y="6550920"/>
            <a:ext cx="442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подаватель-организатор ОБЖ Котлов В.В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варии с выбросом химически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опасных вещест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чреваты тяжелыми последствиями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человеческие жертвы, расстройства здоровья населения и резкое ухудшение общей экологической ситуации в местах расположения  химически опасных объектов, где возможна утечка вредных химических веществ в процессе их производства, переработки и транспортиров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6" descr="Изображение 084"/>
          <p:cNvPicPr/>
          <p:nvPr/>
        </p:nvPicPr>
        <p:blipFill>
          <a:blip r:embed="rId1"/>
          <a:stretch/>
        </p:blipFill>
        <p:spPr>
          <a:xfrm>
            <a:off x="928800" y="2928960"/>
            <a:ext cx="3997080" cy="2987640"/>
          </a:xfrm>
          <a:prstGeom prst="rect">
            <a:avLst/>
          </a:prstGeom>
          <a:ln w="0">
            <a:noFill/>
          </a:ln>
        </p:spPr>
      </p:pic>
      <p:sp>
        <p:nvSpPr>
          <p:cNvPr id="118" name="Дата 4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8428-1FA5-4970-A379-1F1103BCAC48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Нижний колонтитул 5"/>
          <p:cNvSpPr/>
          <p:nvPr/>
        </p:nvSpPr>
        <p:spPr>
          <a:xfrm>
            <a:off x="2936880" y="6550920"/>
            <a:ext cx="48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подаватель-организатор ОБЖ Котлов В.В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варии с выбросом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радиоактивных вещест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возможны на радиационно опасных объектах, в числе которых атомные электростанции, промышленные предприятия по изготовлению, переработке ядерного топлива, захоронению радиоактивных отходов, исследовательские ядерные установки, атомные суда с объектами их обеспечения. Эти аварии могут сопровождаться  выбросом радиоактивности, что приводит к облучению людей, загрязнению  радионуклидами и выводу из производства значительных площадей сельскохозяйственных угодий, остановке на длительное время промышленных предприяти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7" descr="Radiacia_AES"/>
          <p:cNvPicPr/>
          <p:nvPr/>
        </p:nvPicPr>
        <p:blipFill>
          <a:blip r:embed="rId1"/>
          <a:stretch/>
        </p:blipFill>
        <p:spPr>
          <a:xfrm>
            <a:off x="5000760" y="2500200"/>
            <a:ext cx="3857400" cy="335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3" name="Дата 5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7765-C2BC-4D4E-8640-D6BF4E7C5F28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Нижний колонтитул 6"/>
          <p:cNvSpPr/>
          <p:nvPr/>
        </p:nvSpPr>
        <p:spPr>
          <a:xfrm>
            <a:off x="2936880" y="655092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подаватель-организатор ОБЖ Котлов В.В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варии с выбросом биологически опасных вещест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к свидетельствует опыт, подобные аварии – нечастое явление. В то же время выброс даже малых количеств возбудителей болезней может привести к эпидемиям среди людей и животны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7" descr="Изображение 107"/>
          <p:cNvPicPr/>
          <p:nvPr/>
        </p:nvPicPr>
        <p:blipFill>
          <a:blip r:embed="rId1"/>
          <a:stretch/>
        </p:blipFill>
        <p:spPr>
          <a:xfrm>
            <a:off x="4929120" y="2643120"/>
            <a:ext cx="4086360" cy="3024360"/>
          </a:xfrm>
          <a:prstGeom prst="rect">
            <a:avLst/>
          </a:prstGeom>
          <a:ln w="0">
            <a:noFill/>
          </a:ln>
        </p:spPr>
      </p:pic>
      <p:sp>
        <p:nvSpPr>
          <p:cNvPr id="128" name="Дата 4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8EE8-B1FA-4AFA-BC2A-7B43B79D5D36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Нижний колонтитул 5"/>
          <p:cNvSpPr/>
          <p:nvPr/>
        </p:nvSpPr>
        <p:spPr>
          <a:xfrm>
            <a:off x="2936880" y="6550920"/>
            <a:ext cx="470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подаватель-организатор ОБЖ Котлов В.В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езапные обрушения зданий,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  сооруже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Содержимое 4" descr="84317.jpg"/>
          <p:cNvPicPr/>
          <p:nvPr/>
        </p:nvPicPr>
        <p:blipFill>
          <a:blip r:embed="rId1"/>
          <a:stretch/>
        </p:blipFill>
        <p:spPr>
          <a:xfrm>
            <a:off x="1542960" y="2405160"/>
            <a:ext cx="3029040" cy="3647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оисходят не сами по себе, а иниции руются побочными факторами, например большим скоплением людей на ограниченной площади, сильной вибрацией, вызванной проходящими железнодорожными составами, чрезмерными нагрузками на верхние этажи зданий. Все это приводит к человеческим жертвам, необходимости сноса аварийных зданий, большим затратам на строительство новых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Дата 4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4505-FD73-49BF-ADA7-C75FA41404C8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2936880" y="6550920"/>
            <a:ext cx="48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подаватель-организатор ОБЖ Котлов В.В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Аварии на электроэнергетических и коммунальных системах жизнеобеспече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дко сопровождаются гибелью людей, однако создают существенные затруднения в жизнедеятельности населения, особенно в холодное время года, а также могут служить причиной серьезных нарушений и даже приостановке работы объектов сельского хозяйства и промышленнос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Picture 7" descr="зажиг смесь1"/>
          <p:cNvPicPr/>
          <p:nvPr/>
        </p:nvPicPr>
        <p:blipFill>
          <a:blip r:embed="rId1"/>
          <a:stretch/>
        </p:blipFill>
        <p:spPr>
          <a:xfrm>
            <a:off x="857160" y="2714760"/>
            <a:ext cx="3996000" cy="2984400"/>
          </a:xfrm>
          <a:prstGeom prst="rect">
            <a:avLst/>
          </a:prstGeom>
          <a:ln w="0">
            <a:noFill/>
          </a:ln>
        </p:spPr>
      </p:pic>
      <p:sp>
        <p:nvSpPr>
          <p:cNvPr id="138" name="Дата 4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FC7C-CBB8-4655-8DE4-5060139632B7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2936880" y="6550920"/>
            <a:ext cx="48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подаватель-организатор ОБЖ Котлов В.В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идродинамические авар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озникают в основном при разрушении (прорыве) гидротехнических сооружений, прежде всего плоти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х последствия -повреждение и разрушение гидроузлов, других сооружений, гибель людей, затопление обширных территори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5" descr="C:\Documents and Settings\Администратор\Мои документы\Рисунки\nature\0292.jpg"/>
          <p:cNvPicPr/>
          <p:nvPr/>
        </p:nvPicPr>
        <p:blipFill>
          <a:blip r:embed="rId1"/>
          <a:stretch/>
        </p:blipFill>
        <p:spPr>
          <a:xfrm>
            <a:off x="4991040" y="2757600"/>
            <a:ext cx="3924360" cy="2943000"/>
          </a:xfrm>
          <a:prstGeom prst="rect">
            <a:avLst/>
          </a:prstGeom>
          <a:ln w="0">
            <a:noFill/>
          </a:ln>
        </p:spPr>
      </p:pic>
      <p:sp>
        <p:nvSpPr>
          <p:cNvPr id="143" name="Дата 4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1894-E33D-4112-AC6E-1DD2676BB1CE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2936880" y="6550920"/>
            <a:ext cx="48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подаватель-организатор ОБЖ Котлов В.В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5:31:16Z</dcterms:created>
  <dc:creator>Bukina</dc:creator>
  <dc:description/>
  <dc:language>en-US</dc:language>
  <cp:lastModifiedBy>Admin</cp:lastModifiedBy>
  <dcterms:modified xsi:type="dcterms:W3CDTF">2012-02-14T14:00:57Z</dcterms:modified>
  <cp:revision>28</cp:revision>
  <dc:subject/>
  <dc:title>МОДЕЛЬ ПРОЕК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