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601-9C7C-48EE-AF5B-6203959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D37-73C0-4715-93D4-40AC147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51F-DAFE-492E-AB1A-E4120E75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773-216C-4B9F-BAA4-8CEF6E3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DD1-73AF-41CD-92D5-C2AF43F5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73ED-76B2-4B85-AA28-4DFDCA4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9D7-50C5-4A4C-95C9-8F5FD2F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7AA2-CF79-47CE-A65D-F385078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4B3A-B7C6-4854-8B31-B97F8AAF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055-6F32-4921-9AA4-E75769A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74F-4433-4C66-B414-9E522EE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01B-C6E3-4533-B12E-742A979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F2C-AE67-4557-B5C8-C9E1505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9E7-A1DD-4B2B-9A4E-D851C68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C2B-648B-40A2-B31D-5493EE15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B93-A853-496C-B73A-E16493E0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0A0C-8F92-4D67-B029-E34EEAE1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BDD8-111A-40C2-B0D6-725C7E4C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D147-8F5E-4310-81CE-49765A5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11B9-52CB-4050-87FD-05DE63AA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C16B-E9DE-44C3-A701-B074E143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53B1-57A2-4BCA-A356-0F5CB31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9CB-4BC9-4E7E-92E5-CB4B5132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58CF-3E87-4121-8805-E58751CC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5516-8F9F-462A-B4AD-561274A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3866-145F-4391-B2B3-D8B5CFB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B4DE-C6A9-4483-B765-9F1D876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FA38-A4A9-4B52-B753-B5A28B4E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80C4-C893-496E-8448-F5045C33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F4F9-947B-4AA0-93A0-E2A552C3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104D-D9E5-490F-8016-BA4DB37B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6976-D203-408D-9E88-B88386B3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95CB-7238-4B3D-8786-F183D00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6ED-3E19-4CEC-9BBA-5959C70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C875-3B80-4D62-B6DE-8CDDC04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3CC3-3506-444D-8EFB-B42BB5D5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A7A4-9AC2-416E-A4B6-84469C9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E528-7985-4EC0-85B8-9583D56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511B-730B-4430-8144-1F8837D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FD6D-2771-44EA-904B-5D29ECA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73E6-5B1B-4DCB-8E61-26F78DD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E11A-587A-413A-9B1F-95184E53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186F-13C0-4396-8511-4D7454B7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2E9C4D-1DB2-4A15-BDF3-EDD3B0EA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102-0B6B-4293-A2BE-EEEAEA37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AAF01-28D0-4A4C-BC75-D4686480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90B1E-2597-4F79-B884-6521C2D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6D37E-FD6D-4C65-95B3-EBF37556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69BE55-6803-4136-8F81-80E9861F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F0C10-D508-4F6A-8863-657A39C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CEC33-C709-428A-84E9-7DC49B77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242D7-A896-4B88-8C59-71A0740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CF5E4-ADBE-4466-A5F3-243CF4D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99A41-E92B-483E-8C01-8E6DF151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13EB0-E61C-4D47-9D48-0239E97F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F3F-9E93-4682-AD8B-119940F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A7132-C73B-41D5-8FAB-E3DCEFD3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59A-C6E3-4780-BBCE-9570C2FC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A7C-E667-4D4E-86E5-EB41396E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1C5-3CB0-4624-8C1F-3F544A5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38B-E033-4FD2-AB0A-8C3261D2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6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93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AFE-8806-4537-99D5-F69772C48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60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207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ECC-DD0A-4F7D-B738-4BD991099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210-625C-4DDD-BCD5-F4F0ACC12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ldNum" idx="13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D49C-0021-459D-9C61-1A97E2BB9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dt" idx="15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commons/3/36/William_Herschel01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ru.wikipedia.org/wiki/&#1060;&#1072;&#1081;&#1083;:William_Herschel01.jp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ru.wikipedia.org/wiki/&#1060;&#1072;&#1081;&#1083;:Wollaston_William_Hyde_Jackson_color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rism_rainbow_schema.png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171879main_LimbFlareJan12_lg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0;&#1072;&#1081;&#1083;:&#1044;&#1056;&#1051;250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ru.wikipedia.org/wiki/&#1060;&#1072;&#1081;&#1083;:Leuchtstofflampen-chtaube050409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u.wikipedia.org/wiki/&#1060;&#1072;&#1081;&#1083;:UV-ontsmetting_laminaire-vloeikast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ru.wikipedia.org/wiki/&#1060;&#1072;&#1081;&#1083;:715px-Sunbedoff_large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9/Roentgen-Roehre.sv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ru.wikipedia.org/wiki/&#1060;&#1072;&#1081;&#1083;:Roentgen-x-ray-von-kollikers-hand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Урок физики в 11 классе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Narrow"/>
              </a:rPr>
              <a:t>Учитель высшей категории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Narrow"/>
              </a:rPr>
              <a:t>Карпинская Светлана Михайловн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Narrow"/>
              </a:rPr>
              <a:t>Карачаево-Черкесская Республик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ентгеновские лу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нтгеновское излучение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 10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й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окая химическая и биологическая актив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онизирует возду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окая проникающая способ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чение газ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зывает мутацию организм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Файл:Wilhelm Conrad Röntgen (1845--1923).jpg"/>
          <p:cNvPicPr/>
          <p:nvPr/>
        </p:nvPicPr>
        <p:blipFill>
          <a:blip r:embed="rId1"/>
          <a:stretch/>
        </p:blipFill>
        <p:spPr>
          <a:xfrm>
            <a:off x="609480" y="1219320"/>
            <a:ext cx="297684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2280" y="5867280"/>
            <a:ext cx="441972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льгельм Конрад Рёнтген 189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Применение 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дицина          Рентгеноспектромет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ектоск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изображение"/>
          <p:cNvPicPr/>
          <p:nvPr/>
        </p:nvPicPr>
        <p:blipFill>
          <a:blip r:embed="rId1"/>
          <a:stretch/>
        </p:blipFill>
        <p:spPr>
          <a:xfrm>
            <a:off x="380880" y="243828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667240" cy="296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1447920" y="5334120"/>
            <a:ext cx="3809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Применение 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иц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вление дефектов в издели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рельсах, сварочных швах и т. д.)) с помощью рентгеновского излучения называется рентгеновской дефектоскоп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атериаловедении, кристаллографии, химии и биохим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ентгеновские лучи используются для выяснения структуры веществ на атомном уровне при помощи дифракционного рассеяния рентгеновского излучения (рентгеноструктурный анализ). Известным примером является определение структуры ДН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того, при помощи рентгеновских лучей может быть определён химический состав ве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эропортах активно применяются рентгенотелевизионные интроскопы, позволяющие просматривать содержимое ручной клади и багажа в целях визуального обнаружения на экране монитора предметов, представляющих опас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3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Виды излучений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Инфракрасное          излучение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Ультрафиолетовое  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Рентгеновское          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нфракрасное излучение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52880" y="1371240"/>
            <a:ext cx="3733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ёрдые и жидкие тела, нагретые до определённой температу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λ=0,74 - 2000 мк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й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ло поглощаются воздухом, пыл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зывают нагревание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3520" y="220932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38862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481400">
            <a:off x="710280" y="1252080"/>
            <a:ext cx="198000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4382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Файл:William Herschel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1523880"/>
            <a:ext cx="2876760" cy="396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19384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4920" y="5638680"/>
            <a:ext cx="4952880" cy="685800"/>
          </a:xfrm>
          <a:prstGeom prst="rect">
            <a:avLst/>
          </a:prstGeom>
          <a:solidFill>
            <a:srgbClr val="00808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ильям Гершель  (нем)    18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пользование инфракрасного излуч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 (инфракрасные) диоды и фотодиоды повсеместно применяются в пультах дистанционного управления, системах автоматики, охранных системах и т. п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ракрасные излучатели применяют в промышленности для сушки лакокрасочных поверхностей, стерилизация пищевых проду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стью применения ИК-излучения в пищевой промышленности является возможность проникновения электромагнитной волны в такие капиллярно-пористые продукты, как зерно, крупа, мука. Излучение оказывает не только термическое, но и биологическое воздействие на продукт, способствует ускорению биохимических превращений в биологических полимерах (крахмал, белок, липид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Ультрафиолетовое излуч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8840" y="1371240"/>
            <a:ext cx="3956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льтрафиолетовое излуч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380 нм -  10 нм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ν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: от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7,9×1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14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 — 3×10</a:t>
            </a:r>
            <a:r>
              <a:rPr b="1" lang="ru-RU" sz="2000" spc="-1" strike="noStrike" baseline="30000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Гц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нсивно поглощается атмосферой и исследуется только вакуумными прибо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ладает высокой химической и биологической актив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онизирует возд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981080"/>
            <a:ext cx="3230640" cy="40388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1447920"/>
            <a:ext cx="1944720" cy="171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1371600" y="2742840"/>
            <a:ext cx="9144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6172200"/>
            <a:ext cx="472464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ьям Хайд Волластон (англ.) 18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ФИ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ает тонус живого организ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рует защитные механиз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ает уровень  иммунитета, а также увеличивает секрецию ряда гормон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ются  вещества, которые обладают сосудорасширяющим действием, повышают проницаемость кожных сосуд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яется углеводный и белковый обмен веществ в организм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яет легочную вентиляцию — частоту и ритм дыхания; повышается газооб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ется в организме витамин Д, укрепляющий костно-мышечную систему и обладающий антирахитным действ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Ф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рицательно действу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кож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тчатку гла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сточники УФ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тутно-кварцевые лам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6672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минесцент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ам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варцевание инструмен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лаборато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яр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78200"/>
            <a:ext cx="2819520" cy="1831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4495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20574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25909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4419720"/>
            <a:ext cx="2590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Х- лучи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нтгеновская фотография (рентгенограмма) руки своей жены, сделанная В. К. Рентг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Файл:Roentgen-Roehr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2880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447920"/>
            <a:ext cx="1714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пинская С.М.</dc:creator>
  <dc:description/>
  <dc:language>en-US</dc:language>
  <cp:lastModifiedBy>Светлана Михайловна</cp:lastModifiedBy>
  <dcterms:modified xsi:type="dcterms:W3CDTF">2010-09-22T08:33:10Z</dcterms:modified>
  <cp:revision>5</cp:revision>
  <dc:subject/>
  <dc:title>виды излучений 11 к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