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0BA-248F-485D-8DE2-73B96695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6D8-91DA-441D-89C7-4327F48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68F-2380-40F2-927A-C6422162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016-7002-4F3E-94BA-4DB05EF9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DE73-93BF-4D57-BA0F-38D3BCF5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2854-01ED-4894-9B43-1E9ACD7B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6C53-43E8-4D9E-8DD8-F496DEFA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095-C4D3-4BD6-A84A-FED9531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672F-AF55-4CFE-A841-398097A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1482-769D-470A-BE4A-8876C3BF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680-7B98-4083-B54F-4230EDF7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E42-4144-440F-9564-9C524EE3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F17E-6014-4826-B8CE-461C20E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ADA8-F1CC-416D-8100-52660353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E053-2A33-4D76-8114-DE063B76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7BEC-4001-432A-9FF9-92C3FCB9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86FF-C64C-4DE1-8B9A-C7A00A6E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899-5066-45BA-A248-DBF30EF0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CD5-D74D-4A87-AA1F-51A06A98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C7D-50BF-4F9A-AB6C-E7B176BA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C48-9A46-4E15-99EE-D4CB86A1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A92-A860-4A92-9A6C-3E89FC0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4EA-FA87-4CAC-8891-360C653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4FD-DE38-4D13-A2E9-7B9311F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0D4B-FD87-4041-86E1-963D45CEB9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79F-D7EF-48C8-8026-4F517C8547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sikhologija.com/img/1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501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rebuchet MS"/>
              </a:rPr>
              <a:t>В</a:t>
            </a: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оспитание личности школьника – важнейшее условие оптимизации учебного процесса.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10 заповедей успешного воспитания: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Любовь к детям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Уважительное отношен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 подавлять личность ребенка, инициативу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ть и работать интересами ребен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спитывать способность преодолевать трудност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орожить доверием дет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спитание должно быть системным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ети должны быть лучше нас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Уметь жить в ногу со временем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Быть искренним, не обманывать, иметь чистые  и справедливые мысли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Воспитывающая  деятельность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18" name="i-main-pic" descr="Картинка 15 из 11891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050920" y="1989000"/>
            <a:ext cx="5864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20" name="Picture 4" descr="2"/>
          <p:cNvPicPr/>
          <p:nvPr/>
        </p:nvPicPr>
        <p:blipFill>
          <a:blip r:embed="rId1"/>
          <a:stretch/>
        </p:blipFill>
        <p:spPr>
          <a:xfrm>
            <a:off x="1214280" y="357120"/>
            <a:ext cx="68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11280" y="692280"/>
          <a:ext cx="8286480" cy="5740200"/>
        </p:xfrm>
        <a:graphic>
          <a:graphicData uri="http://schemas.openxmlformats.org/drawingml/2006/table">
            <a:tbl>
              <a:tblPr/>
              <a:tblGrid>
                <a:gridCol w="4654440"/>
                <a:gridCol w="3632040"/>
              </a:tblGrid>
              <a:tr h="82368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ность процессов обучения и восп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ительные особенности процессов обучения и вос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488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заимовлияние и обратимость процессов обучения и воспитания, т.к. процесс обучения является воспитательной функцией, в то же самое время нельзя представить воспитательный процесс ,не занимаясь обучени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ительные особенности выявляются на уровне содержания: содержание обучения  – это, прежде всего, все научные представления и знания об окружающей действительности. В свою очередь в содержании воспитания на первое место выходят такие понятия, как нормы, правила и идеа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164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боюдное влияние на сознание, поведение, эмоции ли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ительные особенности также отчетливо выявляются на уровне определения основных форм и методов, которые помогают реализовать задачи и достигать поставленные цели. В то время как в обучении применяется  классно-  урочная система проведения занятий, воспитание – это процесс применения   чередование достаточно свободных форм различного характе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Ученик – это не сосуд, который надо заполнить, а факел, который надо зажечь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ревняя мудр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49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Личность ученика можно охарактеризовать пятью основными  потенциалами (они играют основную роль и задают   направление процессу воспитания личности). 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Познавательный потенциал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ределяется объемом и количеством информации, которой располагает ученик. Включает психологические качества, обеспечивающие продуктивность познавательной деятельности учени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Морально –нравственный потенциал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ределяется приобретенными нравственно- этическими нормами, жизненными целями, убеждениями, устремлениями. Реализуется в мировоззрении, мироустремлениях, мироощущениях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Творческий потенциал 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ределяется  умениями и навыками, способностью к действию. Реализуется в деятельности и общени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Коммуникативный потенциал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ределяется общительностью, характером и прочностью контактов с другими людьми. Выражается в разнообразии социальных ролей, которые играет лич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Эстетический потенциал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ределяется содержанием и интенсивностью потребностей в прекрасном. Реализуется в творчестве и в « потреблении» произведений искусств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Семь « не» педагога:</a:t>
            </a:r>
            <a:endParaRPr b="0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е унижа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е оскорбля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е отражать свои отрицательные эмоции на ребенк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е быть безразличным к проблемам учени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е отказывать в помощ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е быть пассивным по отношению к ученика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е лга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23:40Z</dcterms:created>
  <dc:creator>завуч</dc:creator>
  <dc:description/>
  <dc:language>en-US</dc:language>
  <cp:lastModifiedBy>User</cp:lastModifiedBy>
  <dcterms:modified xsi:type="dcterms:W3CDTF">2012-02-15T08:59:55Z</dcterms:modified>
  <cp:revision>10</cp:revision>
  <dc:subject/>
  <dc:title>    Воспитание личности школьника – важнейшее условие оптимизации учебного процесса.</dc:title>
</cp:coreProperties>
</file>