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5B1-2A12-4333-8345-EDC465A4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59F-3A66-44DD-A798-3507571A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988-16CA-4F9E-8AC2-A877E16F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F5B-7762-4733-A3FE-C8C74E26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E34C-86F3-4056-BABD-C9630BFC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BC43-620A-4089-9CC1-464092EC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CE65-7271-4478-A073-A0AF766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C1E9-D7CD-4E25-AAF5-DBC34B43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026D-0E96-495E-9497-124BC34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F844-D810-440A-A885-735B0FFD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0573-10B4-4CFF-ADF7-E5CB428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2EB-C7D3-4EA0-A74A-5F670264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B14E-F231-4368-8295-D07FAE5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5A1E-E2DB-4DCC-BC46-08346D1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2380-406E-4660-8F39-83872239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7E4E-1B1A-4908-9758-26B29F10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7590-3A09-4599-A4B9-7B59A757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377-6E56-49C5-835F-A1044BE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565-6E1F-4729-85F2-CDD1748A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611-9C09-470A-870D-E25007AE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D69-7EFE-46AE-AB9F-66CF5F55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AD0-BA95-46BD-B7D9-4DB63D0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365-31BD-4A90-B03C-7CE2123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E69-D34F-42A9-8A89-CB63A26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BC4E-03B8-4072-A914-5BCFDD479B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36F2-AFAB-46E3-8098-30DB182AF6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mic Sans MS"/>
              </a:rPr>
              <a:t>Комитет по образованию и делам молодежи г. Подольс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Антистрессовая подготовка учащихся в образовательном процес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едагог-психолог Емелина Е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ДОУ д/с № 17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Упражнения на релаксаци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Мышечная релаксация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Кинезиологическое упражнени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Дыхательная релаксация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Упражнение «Концентрация на нейтральном предмет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Упражнение   «Ресурсные образы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6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корая помощь при остром стресс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мойтесь холодной водой. Выпейте воды или лучше сок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йдите в теле напряженные мышцы и расслабьте их. Потрясите кистями, руками, ногам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ожмите кисти в кулак что есть силы и продержите их так 10 секунд. Сбросьте напряжение. То же самое проделайте с локтями, плечами, ногами, животом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дохните животом и медленно выпускайте воздух. Мычите при этом, как будто вы стонет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5. Переведите нервное напряжение в мускульное - пробегитесь и помашите рукам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массируйте тело - прогладьте себя с ног до головы, похлопайте и пощипите руки, ноги, тело, разотрите шею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7. Сделайте себе массаж лица и головы. Помассируйте мышцы радости, которые находятся в верхней части щек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ереключите внимание на посторонний объект. Это может быть блестящий шарик, на котором можно сконцентрировать внимание, или простая безделушка. Внимательно рассмотрите их. Найдите в них что-то ново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рисуйте вашу стрессовую ситуацию. Сожгите рисунок. Уменьшите значение события. Скажите себе: «Это не конец света! Мы еще поживем! Бывали дни и похуже! Я все равно себя люблю!» Пошлите все к чертям и прогуляйтесь без спешки, смотря на толпу и красивых люде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10.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акройте глаза. Мысленно представьте себе тихое место, в котором вам было хорошо и комфортно. Это то место, которое психологи называют «Безопасное место, в котором восстанавливаются ресурсы». Побудьте в нем несколько мину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11.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умайте о ваших друзьях и близких, которые вас любят несмотря ни на что.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лыбнитесь им. Вы в полном порядк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Comic Sans MS"/>
              </a:rPr>
              <a:t>Антистрессовый комплекс упражнений для уч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mic Sans MS"/>
              </a:rPr>
              <a:t>«Кнопки мозга».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ите ладони перед грудью пальцами вверх, не дышите, сдавите изо всех сил основания ладоней. Напряжены мускулы плеч и груди. Теперь втяните живот и потянитесь вверх. Как будто, опираясь на руки, выглядываете из окна. Всего 10-15 с и стало жарко. Повторите 3 раз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ите руки в замок, обхватите ими затылок, направьте локти вперед. Потяните голову к локтям. Не сопротивляйтесь, растягивайте шейный отдел позвоночника. Тяните ровно - так, чтобы было приятно, 10-15 с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Минутный массаж ушных ракови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осторожно поворачивайте уши три раза снизу вверх. Делайте упражнение, когда вы рассеяны. Разотрите хорошенько уши - вначале только мочки, а потом все ухо целиком ладонями: вверх - вниз, вперед - назад, при этом поцокайте языком 15-20 с. Упражнение подготовит к напряженной работ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«Ленивая восьмерк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тянуть вперед руку, сжатую в кулак и с поднятым вверх большим пальцем. Затем начать медленно описывать в воздухе большой знак бесконечности (в виде лежащей восьмерки). Далее следует повторить это упражнение по 4 раза каждой рукой, потом - сцепив обе руки. На последнем этапе необходимо включить все тело, описывая эту восьмерку уже всем корпусом. Упражнение не только «заряжает мозги» - это отличное коррекционное упражнение после работы на компьютер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«Перекаты головы».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е выполнения этого упражнения голос начинает звучать гораздо громче. Наклоните голову вперед и медленно перекатывайте ее от одного плеча к другому. Опустив плечи, повторите то же самое. Наклоните голову назад и снова делайте перекаты. Эта зарядка для тех, кто решил вернуть себя в рабочее состояние, стать инициатором и творцом, уравновешенным, жизнерадостным человеком, полным идей и вдохнов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Массаж стрессозависимых зо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 всех случаях чрезмерного напряжения и спазмов мышц и переутомления действенную и быструю помощь могут оказать массаж и акупрессур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ссаж области задней поверхности шеи, включая затылочные бугры (круговыми движениями, в течение 1 минуты). Массаж области трапециевидной мышцы. Массаж межлопаточного пространства, углов лопаток и поверхности лопаточной области. Массаж грудинно-реберного сочленения, мечевидного отрост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Звуковая гимнастик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6858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вуковая гимнастика действует по принципу вибрационного массажа с тренировкой дыхательной мускулатуры и диафраг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вук «А» заставляет вибрировать грудь и приводит в действие всю звуковую гамму в организме, дает команду всем его клеточкам настроиться на работ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вук «Н» заставляет вибрировать головной мозг, активизирует его правую половину и лечит болезни мозга, а также улучшает интуицию и развивает творческие способност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вук «В» исправляет неполадки в нервной систем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вуки «РЭ» помогают снять стрессы, страхи, заика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обенностью методики является дыха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дох через нос - пауза, активный выдох через рот - пауз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должительность выдоха должна быть вдвое больше, чем вдох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Дыхание плача»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ставьте себе, что вы плачете - делаете вдох, на всхлипе. После вдоха - паузы нет, сразу делаете продолжительный выдох (можно произносить звук «хооо», «фууу», «фффф»). После выдоха следует естественная пауза 1-2 с (в это время не дышать). После этого снова сделать короткий вдо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Чтобы избежать лишних волнений, чаще обращайте внимание на своего ребенка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28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следования, проведенные среди учащихся средних школ, показали, что в связи с неудачами в школе, к концу первого класса количество постоянно возбужденных детей увеличивается в полтора раза. В 11-15 лет число детей, ощущающих себя неудачниками, возрастает до 50%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тресс – обширный круг состояний психического напряжения, обусловленных выполнением деятельности в особенно сложных условиях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Рисунок 3" descr="&lt;IMG SRC=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Стресс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сихологический стресс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зывают факторы, действующие своим сигнальным значением, например, когда школьника обманули, обидели, угрожали физически или морально, если он испытывает сильные информационные перегруз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стресс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никает при информационных перегрузках, когда ребенок, несущий большую ответственность за последствия своих действий, не успевает принимать верные реш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моциональный стресс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ет место в ситуациях, угрожающих безопасности школьника, его социальному статусу, экономическому благополучию, межличностным отношениям (семейные проблемы, ссоры и т. п.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ммуникативный стресс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ен при неспособности ребенка общаться с одноклассниками или учителями, при неумении налаживать межличностные отнош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к же определить состояние стресса у младшего школьник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Продолж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Если состояние нервозности и напряжения длится на протяжении недели, а то и бол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Симптома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тресса могут быть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томляемость, вялость, беспокойный сон или повышенная сонливость, головная боль или боль в животе, что является показателем переживания стресса на телесном уровне, а отнюдь не притворством, как считают некоторые родител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ет появиться капризность, плаксивость, снижается аппетит, обостряются хронические заболевания, ослабляется иммунная систем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520" y="24382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бенок, находящийся в состоянии стресса, может отказаться не только делать уроки, но и вообще идти в школу, причем отказ может выражаться в форме бурного протест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ребенку не удается преодолеть школьный стресс, то он может перерасти в невроз, с такими проявлениями как истерика, повышенное упрямство, мышечные подергивания, заикание и т.д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3" descr="&lt;IMG SRC="/>
          <p:cNvPicPr/>
          <p:nvPr/>
        </p:nvPicPr>
        <p:blipFill>
          <a:blip r:embed="rId1"/>
          <a:stretch/>
        </p:blipFill>
        <p:spPr>
          <a:xfrm>
            <a:off x="228600" y="27432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писок стрессоров, который встречается в жизни младшего школьника в учебно-воспитательном процесс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502640"/>
            <a:ext cx="8458200" cy="521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идные высказывания со стороны однокласс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идные высказывания со стороны старшекласс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гативная оценка со стороны учител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в соревнования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соры с одноклассник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ход в другой класс или другую школ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ольная или тестовая работ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бщение дома о плохой отметк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ход к доске или любое публичное выступлени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оздание в школ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фликтное общение с учителе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пуск уроков по болезн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язнь быть отстающи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«Антистрессовая скорая помощь»: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тренинг навыков преодоления стресса для участников образовательного процесс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первом выполнении сядем, примем наиболее удобную поз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полагаем одну руку в области пупка, а другую кладем на грудь (эту часть нужно делать только в начале освоения техники, при первом выполнении для того, чтобы запомнить правильную последовательность дыхательных движений и верные ощущения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лаем глубокий вдох, в начале которого немного выпячиваем живот вперед, а затем поднимаем грудь (совершая таким образом подобие волнообразного движения). Вдох длится не менее 2 се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ерживаем дыхание на 1–2 сек., то есть делаем пауз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ыхаем медленно и плавно не менее, чем в течение 3 сек. Выдох обязательно должен быть длиннее вдоха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тем снова, без всякой паузы, следует глубокий волнообразный вдох, и цикл начинает повторятьс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бходимо осуществить 2–3 подобных цикла дыхания (предел – 5 циклов за один подход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пособы снятия нервно-психического напряж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9140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жно разрядить свои эмоции, высказавшись тем людям, которые поймут и посочувствую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сли ты один, можешь поколотить подушку или выжать мокрое полотенце – это поможет расслабиться, так как обычно при негативных эмоциях большая часть энергии копится в мышцах плеч, в верхней части рук и в пальц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изводи любые спонтанные звуки – напряжение может быть «заперто» в горл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ое напряжение вложить в комканье газетного листа, сделать этот комок как можно меньше и закинуть подальше. Другую газету порвать на мелкие кусочки, затем выбросить. Из другой газеты слепить свое настроение. Закрасить газетный разворот (рисование кляксами, пальчиковое рисование гуашью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танцевать под музыку, громко спеть свою любимую песню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гулять в тихом месте на природ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93680"/>
            <a:ext cx="687060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равила составления формулы аутотренин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утверждения должны быть сформулированы в утвердительной форме. Употребление частицы «не» запрещае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утверждения должны быть сформулированы в настоящем времен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пример, удачной будет такая формула: «Все хорошо в моем мире. Я уверен и спокоен. Я быстро вспоминаю весь материал. Я сосредоточен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</cp:lastModifiedBy>
  <dcterms:modified xsi:type="dcterms:W3CDTF">2012-02-14T19:59:24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