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DDA-2F47-4B1F-AB8C-D7D3A0FE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587-8399-4332-A35F-DCE0C1C4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9B2-9891-4EBF-B467-3B6C3AEC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133-9338-4CB2-8948-CEF1F332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FB0-F6FF-4696-8FCE-C5E5A3B1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DB7-831A-43EC-ABC0-AD0E13EF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CDD-6857-4BF6-8519-26D1FA32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2BC-3AF0-450E-8B70-0927EE0D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EAC-930C-4ADC-9532-E0AD454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2A9-E6A4-442C-A136-37FBEBF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D60-E352-47E4-8F0B-E04F22BA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762-D96D-4852-A729-C79BBFC1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C656-49B3-4865-8F48-10CBB4237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1000"/>
            <a:ext cx="4176720" cy="4321080"/>
          </a:xfrm>
          <a:custGeom>
            <a:avLst/>
            <a:gdLst>
              <a:gd name="textAreaLeft" fmla="*/ 1044000 w 4176720"/>
              <a:gd name="textAreaRight" fmla="*/ 3132720 w 4176720"/>
              <a:gd name="textAreaTop" fmla="*/ 1044000 h 4321080"/>
              <a:gd name="textAreaBottom" fmla="*/ 3277080 h 4321080"/>
            </a:gdLst>
            <a:ahLst/>
            <a:rect l="textAreaLeft" t="textAreaTop" r="textAreaRight" b="textAreaBottom"/>
            <a:pathLst>
              <a:path w="21600" h="22346">
                <a:moveTo>
                  <a:pt x="0" y="0"/>
                </a:moveTo>
                <a:lnTo>
                  <a:pt x="0" y="22346"/>
                </a:lnTo>
                <a:lnTo>
                  <a:pt x="21600" y="22346"/>
                </a:lnTo>
                <a:lnTo>
                  <a:pt x="21600" y="0"/>
                </a:lnTo>
                <a:close/>
                <a:moveTo>
                  <a:pt x="5400" y="5400"/>
                </a:moveTo>
                <a:lnTo>
                  <a:pt x="5400" y="16946"/>
                </a:lnTo>
                <a:lnTo>
                  <a:pt x="16200" y="16946"/>
                </a:lnTo>
                <a:lnTo>
                  <a:pt x="16200" y="5400"/>
                </a:lnTo>
                <a:close/>
              </a:path>
            </a:pathLst>
          </a:custGeom>
          <a:gradFill rotWithShape="0">
            <a:gsLst>
              <a:gs pos="0">
                <a:srgbClr val="0047ff">
                  <a:alpha val="64313"/>
                </a:srgbClr>
              </a:gs>
              <a:gs pos="100000">
                <a:srgbClr val="000082">
                  <a:alpha val="45098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МОУ Михневская средняя общеобразовательная школа с углубленным изучением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773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а работ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ЗАГАДКА ДРЕВНЕГО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ОДЧЕ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03640" y="4437000"/>
            <a:ext cx="352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:  Белоусов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:  Курбатов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0997" t="0" r="16798" b="0"/>
          <a:stretch/>
        </p:blipFill>
        <p:spPr>
          <a:xfrm>
            <a:off x="826920" y="2708280"/>
            <a:ext cx="3578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2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2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333360"/>
            <a:ext cx="8353440" cy="1943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765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 структуру древнерусских саженей заложено пропорционирование по золотому се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4437000"/>
            <a:ext cx="8280360" cy="18734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4941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Отношение двух соседних чисел приближается к золотому числу 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2637000"/>
            <a:ext cx="813600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3141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 структуру древнерусской системы мер заложены свойства числового ряда Фибонач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333360"/>
            <a:ext cx="8064360" cy="1079640"/>
          </a:xfrm>
          <a:custGeom>
            <a:avLst/>
            <a:gdLst>
              <a:gd name="textAreaLeft" fmla="*/ 2016000 w 8064360"/>
              <a:gd name="textAreaRight" fmla="*/ 6048360 w 8064360"/>
              <a:gd name="textAreaTop" fmla="*/ 13500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0047ff">
                  <a:alpha val="68235"/>
                </a:srgbClr>
              </a:gs>
              <a:gs pos="100000">
                <a:srgbClr val="000082">
                  <a:alpha val="72156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Получение А.А Пилецким «Древнерусского всемер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оказывается важнейшим архитектур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открытием XX века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06040" y="-3916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рица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8000" y="1773360"/>
          <a:ext cx="8928000" cy="4608360"/>
        </p:xfrm>
        <a:graphic>
          <a:graphicData uri="http://schemas.openxmlformats.org/drawingml/2006/table">
            <a:tbl>
              <a:tblPr/>
              <a:tblGrid>
                <a:gridCol w="482400"/>
                <a:gridCol w="613080"/>
                <a:gridCol w="644400"/>
                <a:gridCol w="641160"/>
                <a:gridCol w="650880"/>
                <a:gridCol w="646200"/>
                <a:gridCol w="636480"/>
                <a:gridCol w="644760"/>
                <a:gridCol w="642960"/>
                <a:gridCol w="642960"/>
                <a:gridCol w="642960"/>
                <a:gridCol w="645840"/>
                <a:gridCol w="642960"/>
                <a:gridCol w="75096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ипетск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ск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до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ао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,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,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,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,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,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,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,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,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ff"/>
                      </a:solidFill>
                    </a:lnL>
                    <a:lnR w="9360">
                      <a:solidFill>
                        <a:srgbClr val="3333ff"/>
                      </a:solidFill>
                    </a:lnR>
                    <a:lnT w="9360">
                      <a:solidFill>
                        <a:srgbClr val="3333ff"/>
                      </a:solidFill>
                    </a:lnT>
                    <a:lnB w="9360">
                      <a:solidFill>
                        <a:srgbClr val="33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08000" y="1773360"/>
            <a:ext cx="0" cy="460836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197000"/>
            <a:ext cx="4897440" cy="5400720"/>
          </a:xfrm>
          <a:custGeom>
            <a:avLst/>
            <a:gdLst>
              <a:gd name="textAreaLeft" fmla="*/ 1224360 w 4897440"/>
              <a:gd name="textAreaRight" fmla="*/ 3673080 w 4897440"/>
              <a:gd name="textAreaTop" fmla="*/ 1224360 h 5400720"/>
              <a:gd name="textAreaBottom" fmla="*/ 4176360 h 5400720"/>
            </a:gdLst>
            <a:ahLst/>
            <a:rect l="textAreaLeft" t="textAreaTop" r="textAreaRight" b="textAreaBottom"/>
            <a:pathLst>
              <a:path w="21600" h="23820">
                <a:moveTo>
                  <a:pt x="0" y="0"/>
                </a:moveTo>
                <a:lnTo>
                  <a:pt x="0" y="23820"/>
                </a:lnTo>
                <a:lnTo>
                  <a:pt x="21600" y="23820"/>
                </a:lnTo>
                <a:lnTo>
                  <a:pt x="21600" y="0"/>
                </a:lnTo>
                <a:close/>
                <a:moveTo>
                  <a:pt x="5400" y="5400"/>
                </a:moveTo>
                <a:lnTo>
                  <a:pt x="5400" y="18420"/>
                </a:lnTo>
                <a:lnTo>
                  <a:pt x="16200" y="18420"/>
                </a:lnTo>
                <a:lnTo>
                  <a:pt x="16200" y="54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3794040" cy="482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84360" y="115920"/>
            <a:ext cx="799128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церкви Успения Х!! века в Старой Ладог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1989000"/>
            <a:ext cx="3671640" cy="4176720"/>
          </a:xfrm>
          <a:prstGeom prst="leftArrowCallout">
            <a:avLst>
              <a:gd name="adj1" fmla="val 28442"/>
              <a:gd name="adj2" fmla="val 28439"/>
              <a:gd name="adj3" fmla="val 16667"/>
              <a:gd name="adj4" fmla="val 66673"/>
            </a:avLst>
          </a:prstGeom>
          <a:gradFill rotWithShape="0">
            <a:gsLst>
              <a:gs pos="0">
                <a:srgbClr val="15c364">
                  <a:alpha val="88235"/>
                </a:srgbClr>
              </a:gs>
              <a:gs pos="100000">
                <a:srgbClr val="11afaf">
                  <a:alpha val="53333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2781360"/>
            <a:ext cx="215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ff66"/>
                </a:solidFill>
                <a:latin typeface="Arial"/>
              </a:rPr>
              <a:t>Фигура ангела является эталоном построения саженей и показывает асимметричное построение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76360" y="620640"/>
            <a:ext cx="6121440" cy="6048360"/>
          </a:xfrm>
          <a:custGeom>
            <a:avLst/>
            <a:gdLst>
              <a:gd name="textAreaLeft" fmla="*/ 1512000 w 6121440"/>
              <a:gd name="textAreaRight" fmla="*/ 4609440 w 6121440"/>
              <a:gd name="textAreaTop" fmla="*/ 1512000 h 6048360"/>
              <a:gd name="textAreaBottom" fmla="*/ 4536360 h 6048360"/>
            </a:gdLst>
            <a:ahLst/>
            <a:rect l="textAreaLeft" t="textAreaTop" r="textAreaRight" b="textAreaBottom"/>
            <a:pathLst>
              <a:path w="21861" h="21600">
                <a:moveTo>
                  <a:pt x="0" y="0"/>
                </a:moveTo>
                <a:lnTo>
                  <a:pt x="0" y="21600"/>
                </a:lnTo>
                <a:lnTo>
                  <a:pt x="21861" y="21600"/>
                </a:lnTo>
                <a:lnTo>
                  <a:pt x="21861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16461" y="16200"/>
                </a:lnTo>
                <a:lnTo>
                  <a:pt x="16461" y="5400"/>
                </a:lnTo>
                <a:close/>
              </a:path>
            </a:pathLst>
          </a:custGeom>
          <a:solidFill>
            <a:srgbClr val="00808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272200" cy="51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0" y="-2584440"/>
          <a:ext cx="182520" cy="4914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800" y="2329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3246480"/>
          <a:ext cx="182520" cy="5554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800" y="8800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89000"/>
            <a:ext cx="8064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хневский Преображенский храм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48360" y="6021360"/>
            <a:ext cx="3828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70 год постройки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1700280"/>
            <a:ext cx="7704000" cy="4537080"/>
          </a:xfrm>
          <a:custGeom>
            <a:avLst/>
            <a:gdLst>
              <a:gd name="textAreaLeft" fmla="*/ 1926000 w 7704000"/>
              <a:gd name="textAreaRight" fmla="*/ 5778000 w 7704000"/>
              <a:gd name="textAreaTop" fmla="*/ 134280 h 4537080"/>
              <a:gd name="textAreaBottom" fmla="*/ 340308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1916280"/>
            <a:ext cx="331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азмеры Михневского Преображенского храма полностью соответствуют пропорциям, применяемым древнерусскими зодчими при постройке архитектурных соор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981000"/>
            <a:ext cx="5796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009999"/>
                    </a:gs>
                    <a:gs pos="100000">
                      <a:srgbClr val="bbe0e3"/>
                    </a:gs>
                  </a:gsLst>
                  <a:lin ang="13500000"/>
                </a:gradFill>
                <a:latin typeface="Impact"/>
              </a:rPr>
              <a:t>ЗАКЛЮЧЕНИЕ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009999"/>
                  </a:gs>
                  <a:gs pos="100000">
                    <a:srgbClr val="bbe0e3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3068640"/>
            <a:ext cx="4248360" cy="3240000"/>
          </a:xfrm>
          <a:prstGeom prst="flowChartInputOutput">
            <a:avLst/>
          </a:prstGeom>
          <a:gradFill rotWithShape="0">
            <a:gsLst>
              <a:gs pos="0">
                <a:srgbClr val="0047ff"/>
              </a:gs>
              <a:gs pos="100000">
                <a:srgbClr val="000082">
                  <a:alpha val="63137"/>
                </a:srgbClr>
              </a:gs>
            </a:gsLst>
            <a:lin ang="135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5453600">
            <a:off x="4167720" y="2322720"/>
            <a:ext cx="4892760" cy="4170240"/>
          </a:xfrm>
          <a:prstGeom prst="flowChartInputOutput">
            <a:avLst/>
          </a:prstGeom>
          <a:gradFill rotWithShape="0">
            <a:gsLst>
              <a:gs pos="0">
                <a:srgbClr val="0047ff"/>
              </a:gs>
              <a:gs pos="100000">
                <a:srgbClr val="000082">
                  <a:alpha val="67058"/>
                </a:srgbClr>
              </a:gs>
            </a:gsLst>
            <a:lin ang="19644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260280"/>
            <a:ext cx="5832360" cy="1513080"/>
          </a:xfrm>
          <a:prstGeom prst="flowChartPreparation">
            <a:avLst/>
          </a:prstGeom>
          <a:gradFill rotWithShape="0">
            <a:gsLst>
              <a:gs pos="0">
                <a:srgbClr val="0047ff">
                  <a:alpha val="51372"/>
                </a:srgbClr>
              </a:gs>
              <a:gs pos="100000">
                <a:srgbClr val="000082">
                  <a:alpha val="53333"/>
                </a:srgbClr>
              </a:gs>
            </a:gsLst>
            <a:lin ang="135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43280" y="549360"/>
            <a:ext cx="35812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задач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0000" y="3357720"/>
            <a:ext cx="288144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учение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евне-русской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ы мер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88000" y="2924280"/>
            <a:ext cx="3600360" cy="30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ть значение 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актическое применение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ы мер саженей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строительстве храмов 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Руси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27280" y="1773360"/>
            <a:ext cx="1944720" cy="1224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773360"/>
            <a:ext cx="158436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3284640"/>
            <a:ext cx="7705800" cy="3097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3d4a8">
                  <a:alpha val="48235"/>
                </a:srgbClr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89000"/>
            <a:ext cx="8137440" cy="33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62064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В древнерусской системе архитектурного пропорционирования в качестве единиц измерения использовался набор инструментов под общим названием "сажени".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371628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Система саженей имеет почтенный возраст, который уходит за пределы нашего исторического восприятия.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4149720"/>
            <a:ext cx="8209080" cy="2519280"/>
          </a:xfrm>
          <a:prstGeom prst="rightArrow">
            <a:avLst>
              <a:gd name="adj1" fmla="val 50000"/>
              <a:gd name="adj2" fmla="val 814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924280"/>
            <a:ext cx="7777080" cy="2160360"/>
          </a:xfrm>
          <a:custGeom>
            <a:avLst/>
            <a:gdLst>
              <a:gd name="textAreaLeft" fmla="*/ 1215000 w 7777080"/>
              <a:gd name="textAreaRight" fmla="*/ 6805080 w 777708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197000"/>
            <a:ext cx="8280360" cy="2448000"/>
          </a:xfrm>
          <a:prstGeom prst="rightArrow">
            <a:avLst>
              <a:gd name="adj1" fmla="val 50000"/>
              <a:gd name="adj2" fmla="val 84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773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Зачем использовать  две неодинаковые длины для проведения одной и той же операции измерени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500280"/>
            <a:ext cx="69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Чем объясняется такое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измерительных инстр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797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Какие закономерности в них зашифрованы и какая методика использовалась при замерах объек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68360" y="692280"/>
            <a:ext cx="4191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никают вопросы: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03280" y="333360"/>
            <a:ext cx="6769080" cy="863640"/>
          </a:xfrm>
          <a:prstGeom prst="downArrowCallout">
            <a:avLst>
              <a:gd name="adj1" fmla="val 195964"/>
              <a:gd name="adj2" fmla="val 19594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59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Таблица саженей по Рыбакову Б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63640" y="1268280"/>
          <a:ext cx="6337440" cy="5040360"/>
        </p:xfrm>
        <a:graphic>
          <a:graphicData uri="http://schemas.openxmlformats.org/drawingml/2006/table">
            <a:tbl>
              <a:tblPr/>
              <a:tblGrid>
                <a:gridCol w="905040"/>
                <a:gridCol w="904680"/>
                <a:gridCol w="905040"/>
                <a:gridCol w="907920"/>
                <a:gridCol w="905040"/>
                <a:gridCol w="904680"/>
                <a:gridCol w="90504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Виды саже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Сажень, с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Доли саже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/2 пол-саже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/4 локо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/8 пяд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/16 пя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/32 верш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Прост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52,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76,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38,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9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9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4,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Махов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76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88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44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2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1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5,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Морс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91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45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2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1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5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Тру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93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46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3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1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5,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Без ч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97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98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49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4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2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6,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Кос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54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7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3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6,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Вели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49,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24,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62,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31,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5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7,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4797360"/>
            <a:ext cx="8425080" cy="2060640"/>
          </a:xfrm>
          <a:prstGeom prst="leftArrow">
            <a:avLst>
              <a:gd name="adj1" fmla="val 67796"/>
              <a:gd name="adj2" fmla="val 1017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179280" y="2852280"/>
            <a:ext cx="8785440" cy="2448000"/>
          </a:xfrm>
          <a:custGeom>
            <a:avLst/>
            <a:gdLst>
              <a:gd name="textAreaLeft" fmla="*/ 1372680 w 8785440"/>
              <a:gd name="textAreaRight" fmla="*/ 7360200 w 8785440"/>
              <a:gd name="textAreaTop" fmla="*/ 466560 h 2448000"/>
              <a:gd name="textAreaBottom" fmla="*/ 1981440 h 2448000"/>
            </a:gdLst>
            <a:ahLst/>
            <a:rect l="textAreaLeft" t="textAreaTop" r="textAreaRight" b="textAreaBottom"/>
            <a:pathLst>
              <a:path w="21600" h="21600">
                <a:moveTo>
                  <a:pt x="3375" y="4118"/>
                </a:moveTo>
                <a:lnTo>
                  <a:pt x="15936" y="4118"/>
                </a:lnTo>
                <a:lnTo>
                  <a:pt x="15936" y="0"/>
                </a:lnTo>
                <a:lnTo>
                  <a:pt x="21600" y="10800"/>
                </a:lnTo>
                <a:lnTo>
                  <a:pt x="15936" y="21600"/>
                </a:lnTo>
                <a:lnTo>
                  <a:pt x="15936" y="17482"/>
                </a:lnTo>
                <a:lnTo>
                  <a:pt x="3375" y="17482"/>
                </a:lnTo>
                <a:close/>
              </a:path>
              <a:path w="21600" h="21600">
                <a:moveTo>
                  <a:pt x="0" y="4118"/>
                </a:moveTo>
                <a:lnTo>
                  <a:pt x="675" y="4118"/>
                </a:lnTo>
                <a:lnTo>
                  <a:pt x="675" y="17482"/>
                </a:lnTo>
                <a:lnTo>
                  <a:pt x="0" y="17482"/>
                </a:lnTo>
                <a:close/>
              </a:path>
              <a:path w="21600" h="21600">
                <a:moveTo>
                  <a:pt x="1350" y="4118"/>
                </a:moveTo>
                <a:lnTo>
                  <a:pt x="2700" y="4118"/>
                </a:lnTo>
                <a:lnTo>
                  <a:pt x="2700" y="17482"/>
                </a:lnTo>
                <a:lnTo>
                  <a:pt x="1350" y="1748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5000"/>
            <a:ext cx="8893080" cy="2808360"/>
          </a:xfrm>
          <a:prstGeom prst="leftArrow">
            <a:avLst>
              <a:gd name="adj1" fmla="val 43324"/>
              <a:gd name="adj2" fmla="val 818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03640" y="549360"/>
            <a:ext cx="4209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никают вопросы: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628640"/>
            <a:ext cx="7993080" cy="48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Каким образом индивидуальные длины частей тела множества людей были усреднены до    стандартной дл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Каким образом эта длина сохранялась  в течение тысячелетий при отсутствии общегосударственных    стандартных эталон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Какие обстоятельства превратили  разрозненные несоизмеримые инструменты в  систему и в чем это единство заключается?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3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3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3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3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836640"/>
            <a:ext cx="5113080" cy="5545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35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41936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268360" y="6021360"/>
            <a:ext cx="499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993300">
                    <a:alpha val="7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ис. 2 Вавилоны русские</a:t>
            </a:r>
            <a:endParaRPr b="0" lang="en-US" sz="1800" spc="1" strike="noStrike">
              <a:ln w="31680">
                <a:solidFill>
                  <a:srgbClr val="ff00ff"/>
                </a:solidFill>
                <a:miter/>
              </a:ln>
              <a:solidFill>
                <a:srgbClr val="993300">
                  <a:alpha val="7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5364000" y="1125000"/>
            <a:ext cx="3780000" cy="3743640"/>
          </a:xfrm>
          <a:custGeom>
            <a:avLst/>
            <a:gdLst>
              <a:gd name="textAreaLeft" fmla="*/ 0 w 3780000"/>
              <a:gd name="textAreaRight" fmla="*/ 3780360 w 3780000"/>
              <a:gd name="textAreaTop" fmla="*/ 0 h 3743640"/>
              <a:gd name="textAreaBottom" fmla="*/ 3744000 h 37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8200" y="1484280"/>
            <a:ext cx="302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Б.А. Рыбаков строит "вавилон" по системе вписанных и описанных размеров саженей</a:t>
            </a: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333360"/>
            <a:ext cx="5688000" cy="6120000"/>
          </a:xfrm>
          <a:custGeom>
            <a:avLst/>
            <a:gdLst>
              <a:gd name="textAreaLeft" fmla="*/ 1422000 w 5688000"/>
              <a:gd name="textAreaRight" fmla="*/ 4266000 w 5688000"/>
              <a:gd name="textAreaTop" fmla="*/ 1422000 h 6120000"/>
              <a:gd name="textAreaBottom" fmla="*/ 4698000 h 6120000"/>
            </a:gdLst>
            <a:ahLst/>
            <a:rect l="textAreaLeft" t="textAreaTop" r="textAreaRight" b="textAreaBottom"/>
            <a:pathLst>
              <a:path w="21600" h="23240">
                <a:moveTo>
                  <a:pt x="0" y="0"/>
                </a:moveTo>
                <a:lnTo>
                  <a:pt x="0" y="23240"/>
                </a:lnTo>
                <a:lnTo>
                  <a:pt x="21600" y="23240"/>
                </a:lnTo>
                <a:lnTo>
                  <a:pt x="21600" y="0"/>
                </a:lnTo>
                <a:close/>
                <a:moveTo>
                  <a:pt x="5400" y="5400"/>
                </a:moveTo>
                <a:lnTo>
                  <a:pt x="5400" y="17840"/>
                </a:lnTo>
                <a:lnTo>
                  <a:pt x="16200" y="17840"/>
                </a:lnTo>
                <a:lnTo>
                  <a:pt x="16200" y="5400"/>
                </a:lnTo>
                <a:close/>
              </a:path>
            </a:pathLst>
          </a:custGeom>
          <a:gradFill rotWithShape="0">
            <a:gsLst>
              <a:gs pos="0">
                <a:srgbClr val="0047ff">
                  <a:alpha val="63137"/>
                </a:srgbClr>
              </a:gs>
              <a:gs pos="100000">
                <a:srgbClr val="000082">
                  <a:alpha val="41176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" descr=""/>
          <p:cNvPicPr/>
          <p:nvPr/>
        </p:nvPicPr>
        <p:blipFill>
          <a:blip r:embed="rId1"/>
          <a:stretch/>
        </p:blipFill>
        <p:spPr>
          <a:xfrm>
            <a:off x="530280" y="765000"/>
            <a:ext cx="4959360" cy="525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rot="10800000">
            <a:off x="5867280" y="188640"/>
            <a:ext cx="3276720" cy="2448000"/>
          </a:xfrm>
          <a:custGeom>
            <a:avLst/>
            <a:gdLst>
              <a:gd name="textAreaLeft" fmla="*/ 409320 w 3276720"/>
              <a:gd name="textAreaRight" fmla="*/ 2867400 w 3276720"/>
              <a:gd name="textAreaTop" fmla="*/ 612000 h 2448000"/>
              <a:gd name="textAreaBottom" fmla="*/ 18360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2">
                  <a:alpha val="22352"/>
                </a:srgbClr>
              </a:gs>
            </a:gsLst>
            <a:lin ang="27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90792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Геометрическая система древнерусских саже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95280" y="189000"/>
            <a:ext cx="8569080" cy="6408000"/>
            <a:chOff x="395280" y="189000"/>
            <a:chExt cx="8569080" cy="6408000"/>
          </a:xfrm>
        </p:grpSpPr>
        <p:sp>
          <p:nvSpPr>
            <p:cNvPr id="84" name="Pyr1"/>
            <p:cNvSpPr/>
            <p:nvPr/>
          </p:nvSpPr>
          <p:spPr>
            <a:xfrm>
              <a:off x="3729600" y="189000"/>
              <a:ext cx="1920600" cy="14205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yr2"/>
            <p:cNvSpPr/>
            <p:nvPr/>
          </p:nvSpPr>
          <p:spPr>
            <a:xfrm>
              <a:off x="2617560" y="1609560"/>
              <a:ext cx="4134960" cy="16664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yr3"/>
            <p:cNvSpPr/>
            <p:nvPr/>
          </p:nvSpPr>
          <p:spPr>
            <a:xfrm>
              <a:off x="1517400" y="3276000"/>
              <a:ext cx="6334560" cy="16642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yr4"/>
            <p:cNvSpPr/>
            <p:nvPr/>
          </p:nvSpPr>
          <p:spPr>
            <a:xfrm>
              <a:off x="395280" y="4931280"/>
              <a:ext cx="8569080" cy="1665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3564000" y="83664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15c364"/>
                    </a:gs>
                  </a:gsLst>
                  <a:lin ang="5400000"/>
                </a:gradFill>
                <a:latin typeface="Times New Roman"/>
              </a:rPr>
              <a:t>недоста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15c36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844640"/>
            <a:ext cx="36716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- не соотнося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жду собой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золотому сечени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3284640"/>
            <a:ext cx="539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- метод не объясняет, почему возникла необходимость в использовании при замере объектов нескольких длин-сажен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486900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- древние зодчие не знали сантиметров и миллиметров и не имели представления о дробях и корнях, а потому математическими методами для восстановления саженей пользоваться не мог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7:15:00Z</dcterms:created>
  <dc:creator>User</dc:creator>
  <dc:description/>
  <dc:language>en-US</dc:language>
  <cp:lastModifiedBy>User</cp:lastModifiedBy>
  <dcterms:modified xsi:type="dcterms:W3CDTF">2008-03-25T15:42:11Z</dcterms:modified>
  <cp:revision>7</cp:revision>
  <dc:subject/>
  <dc:title>Слайд 1</dc:title>
</cp:coreProperties>
</file>