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F27-5C47-4DAA-AF92-152C1351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2F0-89D9-400A-8712-8D340FD8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572-4965-48DD-A3D6-B3980499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256-E274-4167-85E2-0E2F3FAE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F0B-75D0-4EFE-97A6-960EA379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D1A-4045-4E2C-BC3B-EFDE7D8E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D52-2DCB-4A47-B082-013EC50F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62E-3614-4BDD-B797-0C5A33F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69A-0F34-4EB1-9589-C475369B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FDE-DF6A-4B2A-A210-4FA9F8A1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611-3D59-4EDD-A3C8-1AE584FB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D4A-2E6A-47C8-BA72-29CFCA5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E29C-9A65-4E99-9D71-046FADD8D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рирода 1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863720" y="0"/>
            <a:ext cx="72802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овская обла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коламский муниципальный рай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«Спасская средняя общеобразовательная школа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чельникова Арин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ученица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Учитель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ченков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Мари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геевна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Спасс,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6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16000" y="549360"/>
            <a:ext cx="720108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ТЧ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ышь полевая и мышь городская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95280" y="4365720"/>
            <a:ext cx="3816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аль притч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енская мышь (человек) более щедра, любит покой и безопаснос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572000" y="4437000"/>
            <a:ext cx="410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аль притч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ская мышь (человек) более скупа, любит шум и стремительную жизн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3002040" y="1844640"/>
            <a:ext cx="290520" cy="298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2"/>
          <a:stretch/>
        </p:blipFill>
        <p:spPr>
          <a:xfrm>
            <a:off x="7777080" y="1844640"/>
            <a:ext cx="10800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468360" y="189000"/>
            <a:ext cx="8351640" cy="71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равственный смысл христианских прит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равстве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носящийся к внутренней, духовной жизни человека («Словарь русского языка» С.И.Ожегова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тча о блудном сыне.                Притча о милосердном самарянине.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равственный смысл:                                  Нравственный смысл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 и стремление помочь                 В любой ситуации человек должен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м, позволяет понять                     помочь другому человеку, несмотр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ошибок, учит умению                на внутренние убеждения, веру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щать                                                     национальность   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69840" cy="8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7572240" y="1844640"/>
            <a:ext cx="16200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6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179280" y="260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тча о потерянной овц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79280" y="4508640"/>
            <a:ext cx="4032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равственный смысл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нуждается в покаянии, так как ни один человек не может жить без грехов и ошибок. Не только Бог, а каждый человек просто обязан протянуть руку помощи потерянному человеку (грешнику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716360" y="4508640"/>
            <a:ext cx="4427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равственный смысл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не должен возвышать себя, чтоб потом не быть униженным, а раскаиваться в грехах, чтоб быть оправданным Богом и возвыситься перед людьми и в его глазах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643280" y="18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572000" y="260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тча о фарисее и мытар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1"/>
          <a:stretch/>
        </p:blipFill>
        <p:spPr>
          <a:xfrm>
            <a:off x="3317760" y="692280"/>
            <a:ext cx="136800" cy="164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7715160" y="620640"/>
            <a:ext cx="208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3500280"/>
            <a:ext cx="66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притчи века не изживёш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 по литерату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755640" y="620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24000" y="1052640"/>
            <a:ext cx="84960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особенности жанра притчи и исследовать эти черты на материале притч Эзопа и библейских прит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знакомиться с литературой по теме «притча как жанр мировой литературы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следить историю жанра, изучив творчество Эзопа и текст Библ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анализировать две притчи Эзопа с точки зрения морали и особенности язы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пределить нравственный смысл нескольких евангельских прит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476280"/>
            <a:ext cx="792144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 греческого «парабола» - сравнение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лизкий басне небольшой рассказ, содержащий поучение в иносказательной форм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поучение в примере» (В.И.Даль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195640" y="26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знаки притч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84360" y="1916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мораль (поучительный вывод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364000" y="184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жи обычно безымянны, схематич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4360" y="364500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открывается не сразу, требует размышлений, сопоставлен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5292720" y="350028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пределены время и территория, не названы исторические им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2050920" y="5013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ость, высокая и разговорная лекс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4788000" y="5157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ысл не в изображении человека, а в этическом выборе, который он дела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1979640" y="105264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2555640" y="981000"/>
            <a:ext cx="158436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4859280" y="907920"/>
            <a:ext cx="1297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4572000" y="1052640"/>
            <a:ext cx="122400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>
            <a:off x="4500720" y="1052640"/>
            <a:ext cx="863280" cy="38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4284720" y="119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4"/>
          <p:cNvSpPr/>
          <p:nvPr/>
        </p:nvSpPr>
        <p:spPr>
          <a:xfrm flipH="1">
            <a:off x="3995280" y="1052640"/>
            <a:ext cx="289080" cy="41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6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211640" y="3860640"/>
            <a:ext cx="4608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зоп (Эсоп)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 до н. э.) – древнегреческий баснописец. Был рабом; когда попал в Дельфы, был обвинён в святотатстве  и сброшен со скалы 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сборник его притч был составлен в Средние века. Притчи Эзопа малы по объёму, язык их прост, близок к разговорном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825720" y="189000"/>
            <a:ext cx="21600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50920" y="260280"/>
            <a:ext cx="2017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блия- «книга книг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её книг называется «Книга Притчей Соломоновых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тчи -  поучительные рассказы Иисуса Христ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588000" y="333360"/>
            <a:ext cx="223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ы притч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дрость, праведность, страх Божий, знание, мораль, воздержание, усердие, сочувствие к бедным, милосердие к врагам, воспитание детей, честность, справедливость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929200" y="620640"/>
            <a:ext cx="22536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6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260280"/>
            <a:ext cx="84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аль прит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р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огический, поучительный вывод из чего-нибудь («Словарь русского языка» С.И.Ожегов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2852640"/>
            <a:ext cx="8351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тчи Эзопа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еловек, животные и Зевс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ышь полевая и мышь городская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иблейские притч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тча о блудном сыне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тча милосердном самарянине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тча о потерянной овце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тча о фарисее и мытаре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2340000" y="765000"/>
            <a:ext cx="460836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ИТЧ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, животное и Зевс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ОРА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которые люди, наделённые разумом и речью, завидуют животным, которые не обладают этим даром. Мы должны быть благодарны Богу за честь мыслить и говори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9:22:01Z</dcterms:created>
  <dc:creator>Hamm</dc:creator>
  <dc:description/>
  <dc:language>en-US</dc:language>
  <cp:lastModifiedBy>User</cp:lastModifiedBy>
  <dcterms:modified xsi:type="dcterms:W3CDTF">2012-02-15T19:15:41Z</dcterms:modified>
  <cp:revision>22</cp:revision>
  <dc:subject/>
  <dc:title>МОУ Басимская средняя общеобразовательная школа.                                                    Белова Ирина,                                                                        ученица 7 класса                                                                               Учитель: Янченкова                                                                              Марина Сергеевна             Басим, 2008</dc:title>
</cp:coreProperties>
</file>