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B64-0EDA-4D0C-8910-F831BF73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F1F-E531-4756-A3D6-FD5AE20F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E09-93CB-4408-AF82-3F49FF38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636-16AB-437E-8423-C1962CF7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196B-3FDF-4A09-8CDD-2479CAAA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309E-5AC2-4911-AA8E-5C6124C1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E51C-F5D9-4677-BE5E-801A0ABD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751D-90BE-42A2-8166-845F822E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5BCD-56E7-4310-B84B-166EFD2B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BEC8-801B-484F-BBC9-E9534E96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E598-7D41-4800-B0E4-78F07551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144-4D2E-4879-ABCA-22393DAF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5974-043F-4D65-BD5E-D450AEB2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9DB1-CF71-4482-AC59-74AC78CA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D7A8-5C32-474F-BE57-5C50B39D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6498-EB00-4F82-9523-95AA8F53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1A8A-B1B4-4D93-8964-FFC1A2DC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B76F-6505-49CD-8E15-97C18AC3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F556-9EA1-4FBB-A955-156FD003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076A-0E90-4F23-8A23-A091AB21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8C3B-91E9-444F-A986-02D945CE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62BA-DF53-4C01-8A7E-F3A453F9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C1A-29B5-459D-8648-56903721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912C-76B8-473B-929F-0BC96323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82BD-FCF3-4156-9B0B-C2E816F0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B5CD-41E2-4E11-AE1B-BC34B1EA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6C49-9914-4117-B3D5-97F94C5B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4D1C-ED83-4456-9602-4E8295F8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9E0B-C94E-4190-A73B-BE38EC45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66AB-9127-4E10-B106-319C74F0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A3F3-8FF0-4F81-9BFB-9B9FAFD7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4A9AC-EE85-4D37-9F46-F2062748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F6E9C-51ED-4E4D-A435-DB83B7BC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D54-5A79-4306-8BAC-FBAA6551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D42D8-A03C-4837-8FD9-77E3EF8E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07869-B29B-44D7-934B-2226903A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1D949-769A-47C7-B3E9-ACAAF382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F1018-33CC-4BF0-B752-108BF473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86901-C9E6-412B-8841-E3B0AE0F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0647-A796-4143-BDDB-AF8A9D73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A9CDD-051B-4ACA-938A-BFC66559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917B-6EBD-49A0-BC98-220783BF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18A2-13EB-4F5C-854E-3367C788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CBFAF-319E-45AE-A4B5-32741570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4B5-0D36-423A-984B-818CCEEF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4A57D-7CAC-45D1-AE71-EA7FA29E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D5032-8C44-4E48-87C1-58081017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AE3CD-B18E-4334-941F-94A99493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7F699-E9FC-49F1-819B-E504F9F0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536F-EC1C-4C10-BE1C-FBCF7E58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ABC60-5023-4C7F-9DF6-67BF2B96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77350-F095-4AEF-884C-47CC73BB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2F893-4C6B-4288-A65F-564EE3F2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B74D0-60AC-4DE4-A392-FC465F33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2A0F8-581C-449D-9DF9-94FE5612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822-9075-42DB-A626-785B5651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441C9-D5A0-4DAC-8319-F13FC168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19A2E-2D61-43BD-830C-6E26FF77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7FD40-CE88-44B5-B438-684316B2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09985-6614-403E-8AA9-0E244FB0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CB2AE-7C48-487F-811F-43110BF0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2FA53-6B94-4813-BBC8-4143C9F4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658E7-5E65-4DD7-BCF3-E25C42A5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D7FDA-8614-4207-BB08-B01146D3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D721A-C73D-41B6-AAFC-96AA668C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222E9-BF8E-4059-A6A0-B0CFBA2A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204-2D17-4AF7-9DF9-1CB628F6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C7B94-399A-46B0-B375-5BDA414E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96AFA-6539-4F13-8421-F1D0BC59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1E2CE-2B0B-4929-AD9E-6316C994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13FDF-4E4C-4C62-AF44-3387F385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3AB52-D8F1-494A-A7FD-A5DE31E5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DDCD7-59AC-4B21-9B5F-E4FE0AB1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6CB91-2CBD-4E9E-A01B-42DE47F7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46A8B-E866-4CF9-9EA2-2E6565A1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CE84F-AFA9-4E07-BCC4-C0110414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3A54A-0C15-4914-B635-ACABFA98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27D-998C-4979-A0E3-D190CFBE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49A98-425B-4088-85A7-EF159FD1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2FE04-853A-444A-844A-6B6108FE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F7E25-A77A-429F-87CA-936DF181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9A973-FF63-43BB-9CA6-6ECF0730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FC0FF-C8FD-4A20-B3B1-3995E80B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39C-C04B-4DD0-845A-CAE16721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5142-957B-494D-88F6-8DFEC1C185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8F30-AD1C-4651-857A-B7E478023CB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56A0-384C-4183-9842-2FC8A2B8FC8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72A2-4580-426E-B08B-0C00BBD0D41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65D2-235A-4A96-B394-0685EF7CC4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B645-AAA9-4548-9FB6-DD93A05BCB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BA38-085F-4CC7-8D43-817F90E2BD2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28920" y="1571760"/>
            <a:ext cx="6495840" cy="27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572314"/>
                </a:solidFill>
                <a:latin typeface="Corbel"/>
              </a:rPr>
              <a:t>Комнатные</a:t>
            </a:r>
            <a:br>
              <a:rPr sz="8600"/>
            </a:br>
            <a:r>
              <a:rPr b="1" lang="ru-RU" sz="8600" spc="-1" strike="noStrike">
                <a:solidFill>
                  <a:srgbClr val="572314"/>
                </a:solidFill>
                <a:latin typeface="Corbel"/>
              </a:rPr>
              <a:t>цветы</a:t>
            </a:r>
            <a:endParaRPr b="0" lang="en-US" sz="8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615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екоративнолистные растения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43000" y="928800"/>
            <a:ext cx="78580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Составляют неотъемлемую часть интерьера. Как правило, цветут мелкими и не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декоративными цветками. Выращиваются из-за своих красивых листьев обычно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зеленого цвета или других необычных расцветок: желтые, красные, некоторые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растения имеют листья, меняющие цвет осенью. Формы листьев бывают: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лопастные, рассеченные, линейные, овальные, и др. Большинство листовых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пластинок имеют зубчатые кра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E:\ТУСУР 2012\Olympiada_5-7_PPO\Обеспечение\Офис\комнатные цветы\Авокадо.jpg"/>
          <p:cNvPicPr/>
          <p:nvPr/>
        </p:nvPicPr>
        <p:blipFill>
          <a:blip r:embed="rId1"/>
          <a:stretch/>
        </p:blipFill>
        <p:spPr>
          <a:xfrm>
            <a:off x="4065480" y="2712960"/>
            <a:ext cx="2390760" cy="3548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E:\ТУСУР 2012\Olympiada_5-7_PPO\Обеспечение\Офис\комнатные цветы\Ардизия.jpg"/>
          <p:cNvPicPr/>
          <p:nvPr/>
        </p:nvPicPr>
        <p:blipFill>
          <a:blip r:embed="rId2"/>
          <a:stretch/>
        </p:blipFill>
        <p:spPr>
          <a:xfrm>
            <a:off x="1066680" y="2438280"/>
            <a:ext cx="3176640" cy="3870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E:\ТУСУР 2012\Olympiada_5-7_PPO\Обеспечение\Офис\комнатные цветы\Монстера.jpg"/>
          <p:cNvPicPr/>
          <p:nvPr/>
        </p:nvPicPr>
        <p:blipFill>
          <a:blip r:embed="rId3"/>
          <a:stretch/>
        </p:blipFill>
        <p:spPr>
          <a:xfrm>
            <a:off x="6261120" y="2225520"/>
            <a:ext cx="3230640" cy="394992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6"/>
          <p:cNvSpPr/>
          <p:nvPr/>
        </p:nvSpPr>
        <p:spPr>
          <a:xfrm>
            <a:off x="4536720" y="62150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вакад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Прямоугольник 7"/>
          <p:cNvSpPr/>
          <p:nvPr/>
        </p:nvSpPr>
        <p:spPr>
          <a:xfrm>
            <a:off x="2040120" y="61437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рдиз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Прямоугольник 8"/>
          <p:cNvSpPr/>
          <p:nvPr/>
        </p:nvSpPr>
        <p:spPr>
          <a:xfrm>
            <a:off x="7322760" y="59292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онсте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28480" y="70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екоративноцветущие растения</a:t>
            </a:r>
            <a:br>
              <a:rPr sz="16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99720" y="1999800"/>
            <a:ext cx="33577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Эта наиболее обширная групп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комнатных растений по праву считается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наиболее ценной для выращивания в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комнатах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Некоторые растения образуют ягоды 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фрукты.  Растения цветут в различные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ериоды года, некоторые – круглый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год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одолжительность цветения каждого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ида колеблется от  нескольких дней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до нескольких месяцев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реди множества цветущих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растений встречаются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однолетние, увядающие после первого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цветени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4572000" y="621504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остус огнен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Picture 3" descr="E:\ТУСУР 2012\Olympiada_5-7_PPO\Обеспечение\Офис\комнатные цветы\Акалифа.jpg"/>
          <p:cNvPicPr/>
          <p:nvPr/>
        </p:nvPicPr>
        <p:blipFill>
          <a:blip r:embed="rId1"/>
          <a:stretch/>
        </p:blipFill>
        <p:spPr>
          <a:xfrm>
            <a:off x="4429080" y="1071720"/>
            <a:ext cx="2381400" cy="2876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31" name="Picture 4" descr="E:\ТУСУР 2012\Olympiada_5-7_PPO\Обеспечение\Офис\комнатные цветы\Костус огненный.jpg"/>
          <p:cNvPicPr/>
          <p:nvPr/>
        </p:nvPicPr>
        <p:blipFill>
          <a:blip r:embed="rId2"/>
          <a:stretch/>
        </p:blipFill>
        <p:spPr>
          <a:xfrm>
            <a:off x="4286160" y="4214880"/>
            <a:ext cx="2782800" cy="1909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32" name="Picture 2" descr="E:\ТУСУР 2012\Olympiada_5-7_PPO\Обеспечение\Офис\комнатные цветы\Азалия (Рододендрон).jpg"/>
          <p:cNvPicPr/>
          <p:nvPr/>
        </p:nvPicPr>
        <p:blipFill>
          <a:blip r:embed="rId3"/>
          <a:stretch/>
        </p:blipFill>
        <p:spPr>
          <a:xfrm>
            <a:off x="7215120" y="2714760"/>
            <a:ext cx="1795680" cy="2536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33" name="Прямоугольник 7"/>
          <p:cNvSpPr/>
          <p:nvPr/>
        </p:nvSpPr>
        <p:spPr>
          <a:xfrm>
            <a:off x="7000920" y="2286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залия (Рододендрон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Прямоугольник 8"/>
          <p:cNvSpPr/>
          <p:nvPr/>
        </p:nvSpPr>
        <p:spPr>
          <a:xfrm>
            <a:off x="6692760" y="12142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калиф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Бромелиевые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28480" y="1071720"/>
            <a:ext cx="706572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ромелии представляют собой звездообразные розетки жестких, часто колючих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09960" indent="-240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листьев. Многочисленные невзрачные цветки  образуются на дне углубления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09960" indent="-240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розетки. Во время цветения участки листьев окрашиваются  в яркие цвета и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09960" indent="-240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представляют собой оригинальные украшения в течение 2 - 3 месяцев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2" descr="E:\ТУСУР 2012\Olympiada_5-7_PPO\Обеспечение\Офис\комнатные цветы\Вриезия.jpg"/>
          <p:cNvPicPr/>
          <p:nvPr/>
        </p:nvPicPr>
        <p:blipFill>
          <a:blip r:embed="rId1"/>
          <a:stretch/>
        </p:blipFill>
        <p:spPr>
          <a:xfrm>
            <a:off x="1285920" y="2428920"/>
            <a:ext cx="2463840" cy="2701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38" name="Прямоугольник 5"/>
          <p:cNvSpPr/>
          <p:nvPr/>
        </p:nvSpPr>
        <p:spPr>
          <a:xfrm>
            <a:off x="2030400" y="53578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риез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9" name="Picture 3" descr="E:\ТУСУР 2012\Olympiada_5-7_PPO\Обеспечение\Офис\комнатные цветы\Бильбергия.jpg"/>
          <p:cNvPicPr/>
          <p:nvPr/>
        </p:nvPicPr>
        <p:blipFill>
          <a:blip r:embed="rId2"/>
          <a:stretch/>
        </p:blipFill>
        <p:spPr>
          <a:xfrm>
            <a:off x="3857760" y="2928960"/>
            <a:ext cx="2857320" cy="254304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7"/>
          <p:cNvSpPr/>
          <p:nvPr/>
        </p:nvSpPr>
        <p:spPr>
          <a:xfrm>
            <a:off x="6961320" y="55008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илландс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Прямоугольник 3"/>
          <p:cNvSpPr/>
          <p:nvPr/>
        </p:nvSpPr>
        <p:spPr>
          <a:xfrm>
            <a:off x="4857840" y="53578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Бильберг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Picture 4" descr="E:\ТУСУР 2012\Olympiada_5-7_PPO\Обеспечение\Офис\комнатные цветы\Тилландсия.jpg"/>
          <p:cNvPicPr/>
          <p:nvPr/>
        </p:nvPicPr>
        <p:blipFill>
          <a:blip r:embed="rId3"/>
          <a:stretch/>
        </p:blipFill>
        <p:spPr>
          <a:xfrm>
            <a:off x="6715080" y="2786040"/>
            <a:ext cx="2286000" cy="2633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ктусы и суккулент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857480" y="1000080"/>
            <a:ext cx="40719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К этой группе относятся представител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различных семейств, сходные по внешнему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облику и биологическим особенностям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уккуленты способны запасать влагу в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воих органах, преимущественно наземных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едставители группы широко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распространены в комнатной культуре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опулярны в связи с необыкновенной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устойчивостью, неприхотливостью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компактностью и декоративным цветением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Эта группа обладает разнообразием форм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оригинальными цветками,  загадочным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ременем цветения (ночью)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оугольник 3"/>
          <p:cNvSpPr/>
          <p:nvPr/>
        </p:nvSpPr>
        <p:spPr>
          <a:xfrm>
            <a:off x="5500800" y="628668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аммиляр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6" name="Picture 2" descr="E:\ТУСУР 2012\Olympiada_5-7_PPO\Обеспечение\Офис\комнатные цветы\Зигокактус.jpg"/>
          <p:cNvPicPr/>
          <p:nvPr/>
        </p:nvPicPr>
        <p:blipFill>
          <a:blip r:embed="rId1"/>
          <a:stretch/>
        </p:blipFill>
        <p:spPr>
          <a:xfrm>
            <a:off x="1214280" y="857160"/>
            <a:ext cx="2381400" cy="2076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47" name="Прямоугольник 5"/>
          <p:cNvSpPr/>
          <p:nvPr/>
        </p:nvSpPr>
        <p:spPr>
          <a:xfrm>
            <a:off x="3467520" y="157176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Зигокакту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Picture 3" descr="E:\ТУСУР 2012\Olympiada_5-7_PPO\Обеспечение\Офис\комнатные цветы\Астрофитум.jpg"/>
          <p:cNvPicPr/>
          <p:nvPr/>
        </p:nvPicPr>
        <p:blipFill>
          <a:blip r:embed="rId2"/>
          <a:stretch/>
        </p:blipFill>
        <p:spPr>
          <a:xfrm>
            <a:off x="2571840" y="3071880"/>
            <a:ext cx="2265120" cy="2643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49" name="Прямоугольник 7"/>
          <p:cNvSpPr/>
          <p:nvPr/>
        </p:nvSpPr>
        <p:spPr>
          <a:xfrm>
            <a:off x="1058760" y="435780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строфиту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0" name="Picture 4" descr="E:\ТУСУР 2012\Olympiada_5-7_PPO\Обеспечение\Офис\комнатные цветы\Маммилярия.jpg"/>
          <p:cNvPicPr/>
          <p:nvPr/>
        </p:nvPicPr>
        <p:blipFill>
          <a:blip r:embed="rId3"/>
          <a:stretch/>
        </p:blipFill>
        <p:spPr>
          <a:xfrm>
            <a:off x="5500800" y="3929040"/>
            <a:ext cx="2714400" cy="2241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апоротники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356840" y="856800"/>
            <a:ext cx="70009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Эта группа растений обладает изящными декоративным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истьями. Папоротники никогда не цветут, размножаютс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порами, делением корневищ и выводковыми почками. Споры собраны в особых вместилищах - спорангиях –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сположенных на нижней поверхности листье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Прямоугольник 3"/>
          <p:cNvSpPr/>
          <p:nvPr/>
        </p:nvSpPr>
        <p:spPr>
          <a:xfrm>
            <a:off x="1714680" y="607212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Циртомиу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2" descr="E:\ТУСУР 2012\Olympiada_5-7_PPO\Обеспечение\Офис\комнатные цветы\Блехнум (Дербянка).jpg"/>
          <p:cNvPicPr/>
          <p:nvPr/>
        </p:nvPicPr>
        <p:blipFill>
          <a:blip r:embed="rId1"/>
          <a:stretch/>
        </p:blipFill>
        <p:spPr>
          <a:xfrm>
            <a:off x="4000680" y="2286000"/>
            <a:ext cx="2323800" cy="226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55" name="Прямоугольник 5"/>
          <p:cNvSpPr/>
          <p:nvPr/>
        </p:nvSpPr>
        <p:spPr>
          <a:xfrm>
            <a:off x="3969720" y="457200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Блехнум (Дербянк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Picture 3" descr="E:\ТУСУР 2012\Olympiada_5-7_PPO\Обеспечение\Офис\комнатные цветы\Листовик (Филлитис).jpg"/>
          <p:cNvPicPr/>
          <p:nvPr/>
        </p:nvPicPr>
        <p:blipFill>
          <a:blip r:embed="rId2"/>
          <a:stretch/>
        </p:blipFill>
        <p:spPr>
          <a:xfrm>
            <a:off x="6572160" y="3929040"/>
            <a:ext cx="2405160" cy="1803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57" name="Прямоугольник 7"/>
          <p:cNvSpPr/>
          <p:nvPr/>
        </p:nvSpPr>
        <p:spPr>
          <a:xfrm>
            <a:off x="6571800" y="585792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Листовик (Филлитис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4" descr="E:\ТУСУР 2012\Olympiada_5-7_PPO\Обеспечение\Офис\комнатные цветы\Циртомиум.jpg"/>
          <p:cNvPicPr/>
          <p:nvPr/>
        </p:nvPicPr>
        <p:blipFill>
          <a:blip r:embed="rId3"/>
          <a:stretch/>
        </p:blipFill>
        <p:spPr>
          <a:xfrm>
            <a:off x="1214280" y="3929040"/>
            <a:ext cx="2500560" cy="2009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Луковичные растения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13920" y="1143000"/>
            <a:ext cx="4071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Луковичные растения очень декоративны 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находят самое широкое применение в весеннем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оформлении цветников, парков, дают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екрасный материал для срезки, незаменим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для весенних букетов, цветочных корзин 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композиций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Луковичные растения выделяются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из группы цветочных из-за их особенных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требований к выращиванию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7429680" y="17859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Гиаци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2" name="Picture 2" descr="E:\ТУСУР 2012\Olympiada_5-7_PPO\Обеспечение\Офис\комнатные цветы\Амариллис прекрасный.jpg"/>
          <p:cNvPicPr/>
          <p:nvPr/>
        </p:nvPicPr>
        <p:blipFill>
          <a:blip r:embed="rId1"/>
          <a:stretch/>
        </p:blipFill>
        <p:spPr>
          <a:xfrm>
            <a:off x="6286680" y="3714840"/>
            <a:ext cx="2357280" cy="2343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63" name="Прямоугольник 5"/>
          <p:cNvSpPr/>
          <p:nvPr/>
        </p:nvSpPr>
        <p:spPr>
          <a:xfrm>
            <a:off x="4743360" y="435780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марилли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крас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Picture 3" descr="E:\ТУСУР 2012\Olympiada_5-7_PPO\Обеспечение\Офис\комнатные цветы\Валлота.jpg"/>
          <p:cNvPicPr/>
          <p:nvPr/>
        </p:nvPicPr>
        <p:blipFill>
          <a:blip r:embed="rId2"/>
          <a:stretch/>
        </p:blipFill>
        <p:spPr>
          <a:xfrm>
            <a:off x="1357200" y="3357720"/>
            <a:ext cx="3071880" cy="251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65" name="Прямоугольник 7"/>
          <p:cNvSpPr/>
          <p:nvPr/>
        </p:nvSpPr>
        <p:spPr>
          <a:xfrm>
            <a:off x="2281680" y="600084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алло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Picture 4" descr="E:\ТУСУР 2012\Olympiada_5-7_PPO\Обеспечение\Офис\комнатные цветы\Гиацинт.jpg"/>
          <p:cNvPicPr/>
          <p:nvPr/>
        </p:nvPicPr>
        <p:blipFill>
          <a:blip r:embed="rId3"/>
          <a:stretch/>
        </p:blipFill>
        <p:spPr>
          <a:xfrm>
            <a:off x="5429160" y="857160"/>
            <a:ext cx="1892520" cy="2522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аль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357720" y="1143000"/>
            <a:ext cx="36432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альмы благодаря выносливости 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ысокой декоративности широко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распространились в комнатной культуре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Иногда цветут, но их листья более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декоративны. По форме листьев пальм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одразделяют на перистолистные, у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которых лист по форме напоминает перо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тиц, и вееролистные, напоминающие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раскрытый  вее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оугольник 3"/>
          <p:cNvSpPr/>
          <p:nvPr/>
        </p:nvSpPr>
        <p:spPr>
          <a:xfrm>
            <a:off x="3714840" y="628668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Хамедорея, бамбуковая паль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2" descr="E:\ТУСУР 2012\Olympiada_5-7_PPO\Обеспечение\Офис\комнатные цветы\Финик.jpg"/>
          <p:cNvPicPr/>
          <p:nvPr/>
        </p:nvPicPr>
        <p:blipFill>
          <a:blip r:embed="rId1"/>
          <a:stretch/>
        </p:blipFill>
        <p:spPr>
          <a:xfrm>
            <a:off x="1357200" y="1785960"/>
            <a:ext cx="1905120" cy="231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71" name="Прямоугольник 5"/>
          <p:cNvSpPr/>
          <p:nvPr/>
        </p:nvSpPr>
        <p:spPr>
          <a:xfrm>
            <a:off x="1787400" y="4214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Фи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Picture 3" descr="E:\ТУСУР 2012\Olympiada_5-7_PPO\Обеспечение\Офис\комнатные цветы\Хамедорея, бамбуковая пальма.jpg"/>
          <p:cNvPicPr/>
          <p:nvPr/>
        </p:nvPicPr>
        <p:blipFill>
          <a:blip r:embed="rId2"/>
          <a:stretch/>
        </p:blipFill>
        <p:spPr>
          <a:xfrm>
            <a:off x="4214880" y="3857760"/>
            <a:ext cx="1785960" cy="2384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73" name="Прямоугольник 7"/>
          <p:cNvSpPr/>
          <p:nvPr/>
        </p:nvSpPr>
        <p:spPr>
          <a:xfrm>
            <a:off x="6902280" y="40719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Хризалидокарпу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Picture 4" descr="E:\ТУСУР 2012\Olympiada_5-7_PPO\Обеспечение\Офис\комнатные цветы\Хризалидокарпус.jpg"/>
          <p:cNvPicPr/>
          <p:nvPr/>
        </p:nvPicPr>
        <p:blipFill>
          <a:blip r:embed="rId3"/>
          <a:stretch/>
        </p:blipFill>
        <p:spPr>
          <a:xfrm>
            <a:off x="7072200" y="1500120"/>
            <a:ext cx="1855800" cy="2475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1:10:19Z</dcterms:created>
  <dc:creator>Sm</dc:creator>
  <dc:description/>
  <dc:language>en-US</dc:language>
  <cp:lastModifiedBy>admin</cp:lastModifiedBy>
  <dcterms:modified xsi:type="dcterms:W3CDTF">2012-01-27T01:23:17Z</dcterms:modified>
  <cp:revision>47</cp:revision>
  <dc:subject/>
  <dc:title>Комнатны цветы</dc:title>
</cp:coreProperties>
</file>