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gif" ContentType="image/gif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5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C3C-2A95-425E-B1EF-355DCB7B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C1F-35B0-4EBE-B194-69082B38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A01-4E39-461F-84EC-B48F92BF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F59-E262-4878-8A5D-9EDBB46E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8AE8-DBBF-4F22-891B-58C8A3AB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4839-DBA3-46D8-9FCF-F3C20789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E531-085B-4009-9ADB-E03F1086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C21D-8F62-466B-85A8-C3BC9068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BB82-1D65-474D-88B1-23F151AF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6C9A-CC31-4B89-AA4D-AF83C80C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49F9-52AA-49EA-83D4-7ED56002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8B3-A14A-4C66-839A-F6D1B9F1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F3A6-F4D1-4BBB-96AB-539A96D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49A4-F61A-4510-B7E0-8ECF572E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8449-3F3A-40AD-9517-B23B5ED1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B8DC-186D-464F-A2A3-76FDAA5C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68A0-5D2D-4FD1-844D-71C05C12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B6F6-B0EB-426D-8548-919A4E2D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E46E-007E-441C-8802-D188EFED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E354-DACF-4EC7-AE19-85202A58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9EA1-68F5-4921-8F2C-D17C2805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59DC-9879-4D0E-ABCF-385376F0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B23-9D01-4ED1-B198-DA522D14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B0BE-BCA4-48A2-87DC-506A45E4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43AE-FD94-400E-85C6-6047C5E7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F380-805E-4115-BCA3-E5CE4B48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4D55-73F5-4C1F-AB68-6DE0197F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4E05-8BD6-496E-BEE3-035C105F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B86E-5604-46B3-B979-69C7B423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5AC11-1D44-4B90-8228-3D24B8BB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4B7-A528-4FCC-8D75-8ABB01DA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987-BDC6-4B83-9F96-46E7B03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ECC-2DEB-42D0-B8F3-99C9B575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E00-BDBB-4C00-A31E-3FAB6630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A3E-07B7-4B07-AEA7-B820D316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ED3-F996-4D67-B7E8-812083B9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9FD4-38A8-4979-B96E-CB0FB7F8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CB5C-2476-4772-8252-71D41FDE19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E9A8-E029-48F5-83B0-AB6BB24C04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58920" y="5013360"/>
            <a:ext cx="40323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Классный руководитель</a:t>
            </a:r>
            <a:br>
              <a:rPr sz="3600"/>
            </a:b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Эдлеева Е.В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55640" y="189000"/>
            <a:ext cx="7704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ворим о дружб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4248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Для истинных друзей</a:t>
            </a:r>
            <a:br>
              <a:rPr sz="4400"/>
            </a:b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Ты жизни не жалей,</a:t>
            </a:r>
            <a:br>
              <a:rPr sz="4400"/>
            </a:b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Но отличить умей,</a:t>
            </a:r>
            <a:br>
              <a:rPr sz="4400"/>
            </a:b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От недругов друзей.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М. Джалиль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стоящий дру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357120" y="1571760"/>
            <a:ext cx="8429760" cy="5031720"/>
          </a:xfrm>
          <a:prstGeom prst="rect">
            <a:avLst/>
          </a:prstGeom>
          <a:solidFill>
            <a:srgbClr val="0088e4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Если ты настоящий друг, в твоем сердце не должно быть завист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Хотите иметь друга, подругу – будьте и сами другом </a:t>
            </a: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на равных, без огляд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Воспринимайте радости и горести подруги, друга как собственные и помогите ему стать счастливее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Тест «Хороший ли ты друг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496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Вы собрались в кино, но вдруг выясняется, что у твоей подруги (друга) нет денег на билет. Как ты поступиш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) Пойдешь в кино одна (один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Б) Одолжишь подруге (другу) дене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) Найдешь  приятеля, который мог бы сводить вас в ки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713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. Ты хочешь пригласить подругу (друга) вместе провести вечер, но она (он) уже обещал (а) своей маме сделать уборку. Как ты поступиш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) Проведешь вечер одна (один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) Поможешь ей (ему). Чем быстрее вы закончите работу, тем больше времени останется на весел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) Позвонишь другой (-ому) подружке (другу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Ты идешь по коридору школы и вдруг видишь, что старшеклассники (-цы) пристают к твоей подруге (другу). Как ты поступиш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) Сделаешь вид, что ты их не замечаешь, и поспешишь скрыться где-нибуд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) Бросишься на помощь подруге (другу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) Расскажешь об этом ее (его) родителям…когда увидишь 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 Вы с классом поехали на экскурсию. Вдруг одна из твоих подруг (один из твоих друзей) обнаруживает, что не взял (а) с собой еды. Как ты поступиш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) Скажешь ей (ему), чтобы в следующий раз он(а) лучше собиралась в поезд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Б) Поделишься с ней (с ним) своим обе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) Скажешь об этом учителю, чтобы он что-нибудь придум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59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Цели: Формировать у учащихся ценностную ориентацию, способность формулировать нравственные суждения. Развивать умение отличать плохое от хорошего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– </a:t>
            </a: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Итак, подведем итог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Больше ответов 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Возможно, настало время сесть и подумать, почему никто не помогает тебе в трудных ситуациях. Настоящая дружба предполагает взаимную помощь и поддержку. Покажи своим друзьям, что ты в любую секунду готов(а) прийти им на помощ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Больше ответов Б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Ты замечательный друг! На тебя можно положиться в трудную минуту. Таких как ты интересные события и приключения с друзьями ждут на каждом шагу. Самое главное – твои друзья знают, что всегда могут положиться на тебя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Больше ответов В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Ты беспокоишься о своих друзьях, особенно когда они оказываются в сложной ситуации, но дружба – это не только приятное времяпрепровождение. Твои друзья должны быть уверены, что всегда могут рассчитывать на твою помощь. У тебя большие задатки. Чтобы стать настоящим другом, подумай о том, как их реализо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8e4"/>
                </a:solidFill>
                <a:latin typeface="Arial"/>
              </a:rPr>
              <a:t>Пословицы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друга – ищи, а найдешь – бере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а иметь – себя не жале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 познается в бе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а на деньги не купи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друга в беде покидает, тот сам в беду попад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имей сто рублей, а имей сто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ин за всех – и все за од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без друзей, что дерево без кор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жба – это стекло, разобьешь – не сложи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жи мне, кто твой друг, и я скажу, кто 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Знакомый, приятель, товарищ, дру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 человеке, с которым вы просто здороваетесь во дворе, вы можете сказат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знакомый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 человеке, с которым время от времени обсуждаете детали матча, фильм, какие-то события, вы скажите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приятель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б однокласснике, с которым за 7 лет съеден пуд соли, скажете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товарищ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 человеке, которому доверяете свои тайны, с которым делите радости и печали, скажете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друг</a:t>
            </a:r>
            <a:r>
              <a:rPr b="0" i="1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оны дружб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424160"/>
            <a:ext cx="8435880" cy="521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Не оставляй друга в беде, дели с ним радость и го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рнуться от друга в трудную минуту – предать 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Дружба – это прежде всего вера в человека, не надо менять друз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Не ябедничай. Если друг в чем-то не прав, скажи сразу об этом, останови, если он занимается чем-то плох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Относись к своему другу так, как бы ты хотел, чтобы он относился к т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. Быть требовательным к дружбе – значит иметь мужество разорвать ее, если друг предает то, во имя чего построена дружб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.Не бойся у друга попросить прощения, и сам старайся поскорее забыть свою оби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2"/>
          <p:cNvSpPr/>
          <p:nvPr/>
        </p:nvSpPr>
        <p:spPr>
          <a:xfrm>
            <a:off x="214200" y="928800"/>
            <a:ext cx="89298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ff7d"/>
                </a:solidFill>
                <a:latin typeface="Garamond"/>
              </a:rPr>
              <a:t>Запомни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ff7d"/>
                </a:solidFill>
                <a:latin typeface="Garamond"/>
              </a:rPr>
              <a:t>Ты живешь среди людей. Не забывай, что каждое твое слово, каждый поступок, желание отражается на окружающих тебя людях. Проверяй свою жизнь вопросом к самому себе: не делаешь ли ты зла, неудобства людям? Делай все для того, чтобы людям, окружающим тебя, было хорош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то разделяет твои убеждения, всегда готов прийти на помощь в трудные мгновения жизни, пусть даже для этого придется пожертвовать некоторыми своими ценностями. Он должен делить с тобой горести и радости, быть вместе с тобой в любой ситуации. Настоящие друзья – это те, кому все равно, как ты выглядишь, но не безразлично, что ты думаеш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Garamond"/>
              </a:rPr>
              <a:t>Друг – это тот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Друг- это: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любимая книга, которую читаешь и тебе интересно с ней;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- мама, которая обязательно поможет тебе в трудную минуту; 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- школьный учитель, который поможет тебе заглянуть в тайны знаний; 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- старый плюшевый медвежонок с оторванным ухом, который выслушает тебя, когда тебе будет плохо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17" descr="j0217698"/>
          <p:cNvPicPr/>
          <p:nvPr/>
        </p:nvPicPr>
        <p:blipFill>
          <a:blip r:embed="rId1"/>
          <a:stretch/>
        </p:blipFill>
        <p:spPr>
          <a:xfrm>
            <a:off x="785880" y="4786200"/>
            <a:ext cx="1297080" cy="12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8" descr="j0301252"/>
          <p:cNvPicPr/>
          <p:nvPr/>
        </p:nvPicPr>
        <p:blipFill>
          <a:blip r:embed="rId2"/>
          <a:stretch/>
        </p:blipFill>
        <p:spPr>
          <a:xfrm>
            <a:off x="6929280" y="4786200"/>
            <a:ext cx="1541520" cy="1319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9" descr="j0216724"/>
          <p:cNvPicPr/>
          <p:nvPr/>
        </p:nvPicPr>
        <p:blipFill>
          <a:blip r:embed="rId3"/>
          <a:stretch/>
        </p:blipFill>
        <p:spPr>
          <a:xfrm>
            <a:off x="3851280" y="4724280"/>
            <a:ext cx="1450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Притча о дружб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Как-то два друга много дней шли в пустыне. Однажды они поспорили, и один из них сгоряча дал пощёчину другому. Его друг, почувствовал боль, но ничего не сказал. Молча, он написал на песке: «Сегодня мой самый лучший друг дал мне пощёчину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Друзья продолжали идти, и через много дней нашли оазис с озером, в котором они решили искупаться. Тот, который получил пощёчину, едва не утонул и его друг его сп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Когда он пришёл в себя, то высек на камне: «Сегодня мой самый лучший друг спас мне жизнь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Первый спросил его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Когда я тебя обидел, ты написал на песке, а теперь ты пишешь на камне. Почем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И друг ответил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Когда кто-либо нас обижает, мы должны написать это на песке, чтобы ветры могли стереть это. Но когда кто-либо делает что-либо хорошее, мы должны высечь это на камне, чтобы никакой ветер не смог бы стереть эт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Научись писать обиды на песке и высекать радости на камне. Оставь немного времени для жизни! И пусть тебе будет легко и светло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..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8:33:25Z</dcterms:created>
  <dc:creator>Галина</dc:creator>
  <dc:description/>
  <dc:language>en-US</dc:language>
  <cp:lastModifiedBy>Customer</cp:lastModifiedBy>
  <dcterms:modified xsi:type="dcterms:W3CDTF">2011-02-02T19:34:26Z</dcterms:modified>
  <cp:revision>42</cp:revision>
  <dc:subject/>
  <dc:title>Слайд 1</dc:title>
</cp:coreProperties>
</file>