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983-E353-41AB-81DC-CDA7A1E2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F46-8A3F-4CF5-83F6-5C0CE9FA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78E-94B6-47D3-9ADD-1ADBB29C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E8E-D7D3-4A54-B20B-FBE8A01A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A11F-CC2F-4B3D-9A70-F4E1D9DC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4AEE-AC82-4706-B045-0D8B4B68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23ED-531C-4C7F-A4B9-8185F77B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F1F4-05FB-4FEE-9DCD-3831E9B9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0B9E-A66A-4FF2-9A87-8C081BEB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13A4-4E80-40DE-BE0F-15F62A2E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A03D-0738-455F-AA16-BED3EFE8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A53-20B2-400C-8796-6368D80A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C8A6-3D49-4D67-9A92-EBC91EBB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8D2B-9202-4806-B222-78E30826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D8F8-12D5-425F-A5B7-8255F5F6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3E36-9D65-48F0-9F65-2FDB30FE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7C97-5B3C-4722-A5A3-A0EF88D2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F9C-DA90-495A-8BAF-016B3903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0B7-A051-4835-B477-D6FDA9C1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A17-9A0D-4571-9F85-5493FC98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EF5-EB87-4C88-AADA-A0F90107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023-CA31-4241-AAF5-7DC304E8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647-17CE-4C29-AB1A-4D8F5E79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2B0-5111-4B27-9902-6192734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5397-1AC4-4EF0-B209-71D8E00A7C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1FE2-6CE3-466B-BEC8-D6A7CA0C8F20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е воздействие нитратов на организм челове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47640" y="2349360"/>
            <a:ext cx="80647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Выполнила: ученица 10 класса «А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редней школы №11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Джалолова Фаранги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Научные руководитель: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учитель школы №11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читель химии – Долгова О.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попадания нитратов в организм 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740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ерез продукты пит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стительного происхожд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Животного происхож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ерез питьевую во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ерез лекарственные препара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итраты содержаться и в животной пище. Рыбная и мясная продукция в натуральном виде содержит немного нитратов. Но нитраты и нитриты добавляют в готовую мясную продукцию с целью улучшения её потребительских свойств и для более длительного хран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акже нитраты попадают в организм человека через табак. Основная масса нитратов попадает в организм человека с консервами и свежими овощами, также с молочными продукт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/>
          <p:cNvSpPr/>
          <p:nvPr/>
        </p:nvSpPr>
        <p:spPr>
          <a:xfrm rot="10800000">
            <a:off x="0" y="6372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05d32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снижения вред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нижается количество нитратов при термической обработке овощей      ( мойке, варки, жарке, тушении и баланшировке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Чтобы снизить количество нитратов в старых клубнях картофеля, его клубни следует залить 1%-ным раствором поваренной со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 паттисонов, кабачков и баклажанов необходимо срезать верхнюю часть, которая примыкает к плодонож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.к. нитратов больше в кожуре овощей и плодов, то их надо очищать от кожуры, а у пряных трав надо выбрасывать их стебли и использовать только листь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 огурцов, свёклы, редьки к тому же надо срезать оба конца, т.к. здесь самая высокая концентрация нитра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ранить овощи и плоды надо в холодильнике, т.к. при температуре +2С невозможно превращение нитратов в более ядовитые вещества – нитри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 rot="10800000">
            <a:off x="0" y="6372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05d32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д исследовательской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Содержимое 3" descr="IMG_1274.JPG"/>
          <p:cNvPicPr/>
          <p:nvPr/>
        </p:nvPicPr>
        <p:blipFill>
          <a:blip r:embed="rId1"/>
          <a:stretch/>
        </p:blipFill>
        <p:spPr>
          <a:xfrm>
            <a:off x="1616040" y="2200320"/>
            <a:ext cx="2529000" cy="337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F:\Фотки для презентации\IMG_1319.JPG"/>
          <p:cNvPicPr/>
          <p:nvPr/>
        </p:nvPicPr>
        <p:blipFill>
          <a:blip r:embed="rId2"/>
          <a:stretch/>
        </p:blipFill>
        <p:spPr>
          <a:xfrm>
            <a:off x="5138640" y="2200320"/>
            <a:ext cx="2389320" cy="326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6312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1" action="ppaction://hlinksldjump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2" action="ppaction://hlinksldjump"/>
              </a:rPr>
              <a:t>Цель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3" action="ppaction://hlinksldjump"/>
              </a:rPr>
              <a:t>Задачи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4" action="ppaction://hlinksldjump"/>
              </a:rPr>
              <a:t>Основные источ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5" action="ppaction://hlinksldjump"/>
              </a:rPr>
              <a:t>Качество овощей и условия их выращи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6" action="ppaction://hlinksldjump"/>
              </a:rPr>
              <a:t>Вредное воздействие нитратов на организм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7" action="ppaction://hlinksldjump"/>
              </a:rPr>
              <a:t>Основные признаки нитратных отравл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8" action="ppaction://hlinksldjump"/>
              </a:rPr>
              <a:t>Пути попадания нитратов в организм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9" action="ppaction://hlinksldjump"/>
              </a:rPr>
              <a:t>Способы снижения вреда нитратов (в растениях) на организм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740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сем известно, что самое дорогое у человека – это его здоровье, которое невозможно купить и которое во многом зависит от его правильного питания. Недаром существует пословица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«Скажи мне что ты ешь, и я скажу чем ты болеешь!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ля большинства уже не секре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то для укрепления здоровь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учше есть больше фрукт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 ово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d"/>
          <p:cNvPicPr/>
          <p:nvPr/>
        </p:nvPicPr>
        <p:blipFill>
          <a:blip r:embed="rId1"/>
          <a:stretch/>
        </p:blipFill>
        <p:spPr>
          <a:xfrm>
            <a:off x="5724360" y="5013360"/>
            <a:ext cx="3162600" cy="16002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9"/>
          <p:cNvSpPr/>
          <p:nvPr/>
        </p:nvSpPr>
        <p:spPr>
          <a:xfrm rot="10800000">
            <a:off x="0" y="6372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05d32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419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олучить информацию в результате исследования различных овощей и фруктов о накоплении нитратов и нитрит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бобщить и проанализировать исследования в результате изучения научно- популярной литературы по данному вопрос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8" descr="9268"/>
          <p:cNvPicPr/>
          <p:nvPr/>
        </p:nvPicPr>
        <p:blipFill>
          <a:blip r:embed="rId1"/>
          <a:stretch/>
        </p:blipFill>
        <p:spPr>
          <a:xfrm>
            <a:off x="4643280" y="2349360"/>
            <a:ext cx="4257720" cy="42325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9"/>
          <p:cNvSpPr/>
          <p:nvPr/>
        </p:nvSpPr>
        <p:spPr>
          <a:xfrm rot="10800000">
            <a:off x="0" y="6372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05d32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атко описать действия, которые необходимо принять для достижения цели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основать и выявить причины накопления нитратов в овоща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работать простые и эффективные приёмы снижения уровня нитратов в овощной продукции, которые доступны каждому и способы их удаления из различных продук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вести анализ продуктов используя известные методы в аналитической химии нитра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к же избежать отравления нитратами и вырастить экологически чистую продукцию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"/>
          <p:cNvSpPr/>
          <p:nvPr/>
        </p:nvSpPr>
        <p:spPr>
          <a:xfrm rot="10800000">
            <a:off x="0" y="6372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05d32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же основные источники пищевых нитратов?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ктически это исключительно растительные продукты. В животных продуктах (мясо, молоко) содержание нитратов весьма незначительно. Максимальное накопление нитратов происходит в период наибольшей активности растений при созревании плодов. Чаще всего максимальное содержание нитратов в растениях бывает перед началом уборки урожая. Поэтому недозрелые овощи и картофель, а так же овощи раннего созревания могут содержать нитратов больше, чем достигшие нормальной уборочной зрелости. Кроме того, содержание нитратов в овощах может резко увеличиться при неправильном применении азотистых удобрений. Например, при внесении их незадолго до убор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0" y="6372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05d32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овощей и условия их выращиван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76720" y="2205000"/>
            <a:ext cx="5543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чество овощей зависит от многих причин, в том числе от вносимых удобрений и применяемых средств защиты растений. Нитраты используются в качестве удобрений и известны как селитры: натриевая, калиевая, аммиачная и кальциевая. Нитраты – важнейший компонент питания растений, поскольку входящий в них азот – главный строительный материал клет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333"/>
          <p:cNvPicPr/>
          <p:nvPr/>
        </p:nvPicPr>
        <p:blipFill>
          <a:blip r:embed="rId1"/>
          <a:stretch/>
        </p:blipFill>
        <p:spPr>
          <a:xfrm>
            <a:off x="250920" y="2997360"/>
            <a:ext cx="2444760" cy="36414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1"/>
          <p:cNvSpPr/>
          <p:nvPr/>
        </p:nvSpPr>
        <p:spPr>
          <a:xfrm rot="10800000">
            <a:off x="0" y="6372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05d32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е воздействие нитратов на организм человек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812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ервые разговоры о нитратах в нашей стране пошли после массового желудочно-кишечного отравления арбузами в Узбекистане в 70-х годах, в результате чрезмерный подкормке их аммиачной селитро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ейчас общеизвестно, что нитраты обладают высокой токсичностью для человека и сельскохозяйственных животных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собенно опасны нитраты для грудных детей, т.к. их ферментная основа несовершенная и восстановление метгемоглобина в гемоглобин идёт медленн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Нитраты способствуют развитию патогенной кишечной микрофлоры, которая выделяет в организм человека ядовитые вещества – токсины, в результате чего идёт токсикация, т.е. отравление организм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Нитраты снижают содержание витаминов в пище, которые входят в состав многих ферментов, стимулируют действие гормонов, а через них влияют на все виды обмена вещест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беременных женщин возникают выкидыши, у мужчин – снижение потен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меньшается количество йода; резкое расширение сосудов; понижение давл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лияют на возникновение раковых опухолей в желудочно-кишечном трак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 rot="10800000">
            <a:off x="0" y="6372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05d32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"/>
                            </p:stCondLst>
                            <p:childTnLst>
                              <p:par>
                                <p:cTn id="4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"/>
                            </p:stCondLst>
                            <p:childTnLst>
                              <p:par>
                                <p:cTn id="5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600"/>
                            </p:stCondLst>
                            <p:childTnLst>
                              <p:par>
                                <p:cTn id="5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600"/>
                            </p:stCondLst>
                            <p:childTnLst>
                              <p:par>
                                <p:cTn id="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600"/>
                            </p:stCondLst>
                            <p:childTnLst>
                              <p:par>
                                <p:cTn id="6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600"/>
                            </p:stCondLst>
                            <p:childTnLst>
                              <p:par>
                                <p:cTn id="6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600"/>
                            </p:stCondLst>
                            <p:childTnLst>
                              <p:par>
                                <p:cTn id="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600"/>
                            </p:stCondLst>
                            <p:childTnLst>
                              <p:par>
                                <p:cTn id="7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знаки нитратных отравлений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инюшность ногтей, лица, губ и видимых слизистых оболочек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Тошнота, рвота, боли в живот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онос, часто с кровью, увеличение печени, желтизна белков глаз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оловные боли, повышенная усталость, сонливость, снижение работоспособност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дышка, усиленное сердцебиение, вплоть до потери сознани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ри выраженном отравлении -  литальный исход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 rot="10800000">
            <a:off x="0" y="6372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05d32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7:18:48Z</dcterms:created>
  <dc:creator>Галя</dc:creator>
  <dc:description/>
  <dc:language>en-US</dc:language>
  <cp:lastModifiedBy>Андрей</cp:lastModifiedBy>
  <dcterms:modified xsi:type="dcterms:W3CDTF">2012-02-16T17:56:44Z</dcterms:modified>
  <cp:revision>14</cp:revision>
  <dc:subject/>
  <dc:title>Вредное воздействие нитратов и нитритов на организм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49</vt:lpwstr>
  </property>
</Properties>
</file>