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028A-9090-498F-A856-5B1CC1F2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EFDF-F5ED-4B36-882E-BCCF2792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0770-DC09-4912-9B62-E3F48C4D5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0A75-81AB-4191-AFA8-AF9AE5797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954B-29D2-404A-A951-8D102A190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BCD2-69C4-4931-A8BF-5DD7930D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6ABB-474D-4191-87CF-EA37B6D8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D5A7-FDE6-4EE7-B3C0-EA2CE007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2243-C539-4506-A7A0-44CF0D69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0EC2-1ED3-49EA-8FC3-F28C1ED2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2606-4E19-4E66-A4D9-C0B90F24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BFF5-F747-458D-885B-2F183F3A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B870-A4F1-4896-8866-086B545B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5FF8-E8BD-46FC-B457-5BBBED92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1D51-6D26-454E-AA85-3AB43FC8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5F5F-E659-46E7-A9F5-025A57BC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F471-5E58-4B14-9E4F-36646462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EA8D-B7FC-4943-ABFB-0AE54730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7D1C-EDB0-431C-BB28-C9481807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8E68-B591-42E2-8530-830AF8BB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E7FE-56BC-44AF-849C-6D9CAC17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38A2-D5EB-4451-9169-35509FE4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0BCF-9925-4306-AC4A-9D5EB961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442D-48B4-41ED-B08A-4895DB51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cifair_INSIDE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ctr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ctr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98B4-2A40-44CA-B08A-6E2C787ACB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114560" y="1609560"/>
            <a:ext cx="6933960" cy="19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scifair_front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ctr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ctr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8F38-DA6E-400F-8A01-396AE22C5005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Ход исследовательской рабо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Содержимое 3" descr="IMG_1323.JPG"/>
          <p:cNvPicPr/>
          <p:nvPr/>
        </p:nvPicPr>
        <p:blipFill>
          <a:blip r:embed="rId1"/>
          <a:stretch/>
        </p:blipFill>
        <p:spPr>
          <a:xfrm>
            <a:off x="3413160" y="2487600"/>
            <a:ext cx="2030400" cy="29494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Ход исследовательской рабо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Содержимое 3" descr="IMG_1363.JPG"/>
          <p:cNvPicPr/>
          <p:nvPr/>
        </p:nvPicPr>
        <p:blipFill>
          <a:blip r:embed="rId1"/>
          <a:stretch/>
        </p:blipFill>
        <p:spPr>
          <a:xfrm>
            <a:off x="2262240" y="2414520"/>
            <a:ext cx="2101680" cy="2797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F:\Фотки для презентации\Копия IMG_1293.JPG"/>
          <p:cNvPicPr/>
          <p:nvPr/>
        </p:nvPicPr>
        <p:blipFill>
          <a:blip r:embed="rId2"/>
          <a:stretch/>
        </p:blipFill>
        <p:spPr>
          <a:xfrm>
            <a:off x="4998960" y="2414520"/>
            <a:ext cx="2193840" cy="271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В результате проведённых работ можно сделать следующие выводы: на протяжении нескольких месяцев было изучено около 15 источников научной литературы. Выяснены причины накопления нитратов в овощах, узнали о допустимых нормах этих веществ для человека, пути попадания нитратов в организм человека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Проведя экспериментальную работу, т.е. используя методы аналитической химии для качественного определения нитратов в растворе, а так же оригинальные методы предложенные А.П.Рычковым, а так же метод, где используется реактив Грисса удалось выяснить в каких частях продуктивных органов растений накапливается большее количество нитратов и как это содержание уменьшить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Составленные советы – рекомендации в которых отражены простые и эффективные приемы снижения уровня нитратов в овощной продукции, которые доступны каждому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7:18:48Z</dcterms:created>
  <dc:creator>Галя</dc:creator>
  <dc:description/>
  <dc:language>en-US</dc:language>
  <cp:lastModifiedBy>Андрей</cp:lastModifiedBy>
  <dcterms:modified xsi:type="dcterms:W3CDTF">2012-02-16T17:57:24Z</dcterms:modified>
  <cp:revision>13</cp:revision>
  <dc:subject/>
  <dc:title>Вредное воздействие нитратов и нитритов на организм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31049</vt:lpwstr>
  </property>
</Properties>
</file>