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C2D-FE51-47C6-859E-DEBB248B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25F-A230-4669-9BD3-C3BD34FD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87A-4775-46FF-9A5D-15819952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3E7-E325-4A4A-9782-CC6FF385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B6A-47B0-4B16-936B-CB45D9F2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DCBD-722E-4D41-8743-803252D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AF93-F22B-4576-89D6-FF2AFE18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2745-050C-4EA0-97B2-54EC2FC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98B-F311-40B0-BF95-EF015860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A1E-A2BF-4EEC-990A-3A611B9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CB84-C052-4DC9-BBF2-1EFC393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191-9266-409F-BDF0-6FB98B74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608-0FE8-4A6C-807F-140D4EC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764-01D6-48B7-97A6-CAEA685C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8DE-EDC3-4CB9-BC9A-2F9FB3DC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6BF8-F012-47B5-AD7C-A5C0A059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F7D8-5921-4DBF-B33F-9F47E146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C18-ADD2-42EA-BE6A-F648052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EE2-113E-47F5-BBCC-5CE2061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9FE-F5DE-4AC4-8F73-0525999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87B-D68B-4FD2-B519-14903F47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05C-5660-4B4D-B569-FDCB9943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B44-FE46-4912-A966-3350AE4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FF7-9123-4416-9171-23CC86B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D3D-6690-406C-938D-5DDD758D4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BBCC-B319-412A-9BFA-507AF81DE9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мпрессиони́з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(фр.  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impression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— впечатление) — направление в искусстве, зародившееся во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ранци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во второй половине 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., стремление наиболее естественно запечатлеть реальный мир в его подвижности и изменчив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евушка в черном. О. Ренуа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чательный колорит О. Ренуар добивается с помощью сочетаний близких по цвету то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%D0%A0%D0%B5%D0%BD%D1%83%D0%B0%D1%80+%D0%94%D0%B2%D0%B5+%D0%B4%D0%B5%D0%B2%D1%83%D1%88%D0%BA%D0%B8+%D0%B2+%D1%87%D0%B5%D1%80%D0%BD%D0%BE%D0%BC"/>
          <p:cNvPicPr/>
          <p:nvPr/>
        </p:nvPicPr>
        <p:blipFill>
          <a:blip r:embed="rId1"/>
          <a:stretch/>
        </p:blipFill>
        <p:spPr>
          <a:xfrm>
            <a:off x="228600" y="1219320"/>
            <a:ext cx="4376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лодке. Э.Мане,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1874 г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19560" y="198108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плотных тонов художник переходит к светлой и свободной пленэрной жив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Эдуард Мане &quot;В лодке&quot;"/>
          <p:cNvPicPr/>
          <p:nvPr/>
        </p:nvPicPr>
        <p:blipFill>
          <a:blip r:embed="rId1"/>
          <a:stretch/>
        </p:blipFill>
        <p:spPr>
          <a:xfrm>
            <a:off x="0" y="1905120"/>
            <a:ext cx="61722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втрак в мастерской. Э.Мане, 1868 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5880" y="2133720"/>
            <a:ext cx="281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осмысляя сюжеты старых мастеров, стремился внести изображение современного 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image049"/>
          <p:cNvPicPr/>
          <p:nvPr/>
        </p:nvPicPr>
        <p:blipFill>
          <a:blip r:embed="rId1"/>
          <a:stretch/>
        </p:blipFill>
        <p:spPr>
          <a:xfrm>
            <a:off x="533520" y="1600200"/>
            <a:ext cx="56386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спаханная земля, К. Писсарр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zemlja"/>
          <p:cNvPicPr/>
          <p:nvPr/>
        </p:nvPicPr>
        <p:blipFill>
          <a:blip r:embed="rId1"/>
          <a:stretch/>
        </p:blipFill>
        <p:spPr>
          <a:xfrm>
            <a:off x="685800" y="1057320"/>
            <a:ext cx="762012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ъезд в деревн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ульвар Монмарт, К. Писсар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5" descr="pissarro5"/>
          <p:cNvPicPr/>
          <p:nvPr/>
        </p:nvPicPr>
        <p:blipFill>
          <a:blip r:embed="rId1"/>
          <a:stretch/>
        </p:blipFill>
        <p:spPr>
          <a:xfrm>
            <a:off x="914400" y="1143000"/>
            <a:ext cx="695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Впечатление. Восход солнц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 Клод Моне. 1872 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3" descr="300px-Claude_Monet%2C_Impression%2C_soleil_levant%2C_1872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ле маков, Клод Моне, 1880 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64164969_mone02_big4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0" y="2779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.Сис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886200" y="2647800"/>
            <a:ext cx="5257800" cy="4210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0" y="685800"/>
            <a:ext cx="5029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д ск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552720" y="4647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5334120" cy="4248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3886200" y="52560"/>
            <a:ext cx="52578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импрессион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жение окружающего мира средствами искус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дача в красках ускользающего, мимолетного настроения и ощущ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вобождение художественного процесс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 общих прав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мпрессионизм в наши дни широко распространённое направление изобразительного искусства. Поэтому импрессионисты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. - основоположники современного искус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стижение импрессион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ое исследование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вета и света в атмосфе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ередача на холсте их взаимодействия. Стремление показать, что хорошо освещённый солнцем предмет ярче, чем тот же предмет при комнатном освещении. Вот почему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картина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рессионисто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явились яркие цве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рессионизм называют движением к природе, которая является источником всех впечатлений. Художник стремился как можно более ярко, выразительно и эмоционально передать свои впечатления на холсте, донести эти впечатления и энергетику обстановки до зрителя в полном объём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упание на Сене, Огюст Ренуар, </a:t>
            </a:r>
            <a:br>
              <a:rPr sz="40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1869 г. Гос. Музей,  Москв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Renuar_007"/>
          <p:cNvPicPr/>
          <p:nvPr/>
        </p:nvPicPr>
        <p:blipFill>
          <a:blip r:embed="rId1"/>
          <a:stretch/>
        </p:blipFill>
        <p:spPr>
          <a:xfrm>
            <a:off x="1066680" y="1523880"/>
            <a:ext cx="6305760" cy="4572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614160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пись на пленэ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Лягушатник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Огюст Ренуа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5" descr="200px-Auguste_Renoir_-_La_Grenouill%C3%A8re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ртрет актрисы Жанны Самар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 место в творчестве  Ренуара занимают обаятельные женские образы, как бы отмеченные печатью эпо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846039_renoir01"/>
          <p:cNvPicPr/>
          <p:nvPr/>
        </p:nvPicPr>
        <p:blipFill>
          <a:blip r:embed="rId1"/>
          <a:stretch/>
        </p:blipFill>
        <p:spPr>
          <a:xfrm>
            <a:off x="228600" y="990720"/>
            <a:ext cx="4714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2880" y="1371600"/>
            <a:ext cx="3810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вушка с веером.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. Ренуа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1881-dhdhudhnfndhdh-nf-dhdhudhundhdh"/>
          <p:cNvPicPr/>
          <p:nvPr/>
        </p:nvPicPr>
        <p:blipFill>
          <a:blip r:embed="rId1"/>
          <a:stretch/>
        </p:blipFill>
        <p:spPr>
          <a:xfrm>
            <a:off x="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7:48:1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