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C76-884C-48BD-8044-CCD0F05D08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основе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лазерной технологии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лежит использование двух инфракрасных лазеров, расположенных на верхней кромке доски, которые отслеживают движущийся по поверхности марке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Лазерные сканеры, принимая отраженный сигнал от нанесенных на маркерах ободков, определяют точное положение маркер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ор помещается перед ней на подставке или на пото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ор располагается сзади и составляет единую конструкцию с доско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истивная матрица - это вмонтированная в пластиковую поверхность интерактивной доски сетка из двух слоев тончайших проводников, разделенных воздушным зазоро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одники замыкаются от давления на поверхность при прикосновен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а технология - сенсорная, она не требует применения специальных маркеров, не использует никаких излучений для работы и не подвержена внешним помехам. Недостатком этой технологии является небольшая задержка реакции матрицы при быстром перемещении маркера или заменяющего его предм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ана на использовании для считывания координат курсора (маркера или пальца) расположенных по углам доски миниатюрных цифровых видеокаме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стоинств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ыстродейств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чность позиционирования курсор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величиваются функциональные возмож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54D-91A5-446E-8620-3B859728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3B1-4AAF-471A-A259-9503544F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8C1-0111-4483-A404-04E2FB90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35F-A905-478C-92E7-50FE0D64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82F-0CA2-469C-94D0-503E6E48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004-8F27-4FD6-AD36-395594F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FD0-1FD7-4953-A17D-C6CB677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8A6-C524-4F33-AF63-3337F79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A01-49F2-4DEC-B595-92405A6D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71CF-2A84-455B-B9E1-EBA0D1D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9D77-F1CB-402D-89C5-2FC4CB2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47B-CCF9-4C9B-BAC9-6BA4DB35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9954-1D80-4CF8-BFD4-8154BA4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5D9-F708-477F-8B04-F4AE97D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F561-2220-434B-8981-3B345C02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F02-DDF6-400A-85A3-C79299E7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CA8-320A-4DB4-987C-24642E5D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0B86-41F4-48A4-9D93-B40458AC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1555-5E07-4F08-A9F8-51B3846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DE23-4F0A-45F9-AED4-F0DD0BDD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9945-0E52-4C1A-B590-08D3D65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9554-1284-4F3D-A244-F2D40D2F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D35-70EB-4ED7-97BE-65D02B48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6977-2FD5-4134-89C6-452FD26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06C7-0047-4E94-8373-58014ED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3A23-2716-4293-8AFF-EF1934D4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6569-3C37-40D8-9DE6-D551550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141C-A19B-4D3B-8F0E-81F1EFF3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D39E-E642-46F3-A5AF-B8DD9878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FC4A-28B3-425E-A320-7E77D39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D92E-3962-4A12-B76B-6C609B1B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31B5-D0F6-421C-8EEE-3ECBCC9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18AE-73DC-4FD6-8149-BB41C70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908-7CBF-486F-9B5A-2C47992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35B3-93DD-4E39-BD8E-78910F05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C1E8-6D76-4458-A115-EAFD9BC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A485-CA59-4785-B46E-CA70CA1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5409-7AA2-4EE8-8D80-097B325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B3E0-7ACE-4A9E-9D05-25E52FD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156D-5A8C-43D3-9616-A929BFD7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A4EB-9978-481B-80E4-27FA8BC3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6C68-FDC6-4143-A6CD-8A748BC7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2F48-89F4-43F3-A5E3-7B8F04BF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74E1-703F-46AC-BDDD-203A989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C10-8B88-42AA-B964-CF58E8C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86C1-31B5-4C3B-B570-4F30FA89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D5E2-2043-4CFF-B676-1441A08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1F4E-7D61-4EB5-B9BE-27DB42A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A366-2C35-431A-912E-8005B39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6FD6-491A-4B54-8A3C-EE9D20B9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0D92-7962-4B79-9A88-6014AEF3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99B4-35EE-4AB2-9D76-4BEE8BF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9858-9B01-414B-9E44-AD2022D4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70B7-8998-47DE-B046-22B325B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C434-B103-4C85-BDFC-1381C4F4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0CB-9BA8-4C7C-93D3-049FD05B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E8D5-7153-4279-913B-19230209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CFC-C318-45DA-986D-EE9A9F2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D00-840E-4148-9982-81E3F3F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5FC-1411-4E5E-91F1-3CBD1C4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474-4C81-4070-846D-4110071125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66B-3577-4BB8-83FD-7860B8EA7F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31EB-D8F0-42EA-8A1D-353CB35F39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E66-BEC9-461B-B03B-E6D8BE56C8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ED1-5DC3-4B10-8C50-299183FB37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терактивные доски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Рисунок 2" descr="http://www.polymedia.ru/objects/repository/1055236339/project.jpg"/>
          <p:cNvPicPr/>
          <p:nvPr/>
        </p:nvPicPr>
        <p:blipFill>
          <a:blip r:embed="rId1"/>
          <a:stretch/>
        </p:blipFill>
        <p:spPr>
          <a:xfrm>
            <a:off x="3071880" y="3286080"/>
            <a:ext cx="2419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Лазерная технология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1424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основ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лазерной технологии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ежит использование двух инфракрасных лазеров, расположенных на верхней кромке доски, которые отслеживают движущийся по поверхности маркер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азерные сканеры, принимая отраженный сигнал от нанесенных на маркерах ободков, определяют точное положение маркер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1" name="Picture 2" descr="H:\тсо уроки\interaktivnie_doski_iznutri_5.jpg"/>
          <p:cNvPicPr/>
          <p:nvPr/>
        </p:nvPicPr>
        <p:blipFill>
          <a:blip r:embed="rId1"/>
          <a:stretch/>
        </p:blipFill>
        <p:spPr>
          <a:xfrm>
            <a:off x="3786120" y="4572000"/>
            <a:ext cx="26002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Электромагнитная технолог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нована на передаче электронных сигналов с пишущего устройства, которым может быть либо специальный электронный карандаш, либо вложенные в электронные держатели маркер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4" name="Picture 2" descr="H:\тсо уроки\pic994_s.jpg"/>
          <p:cNvPicPr/>
          <p:nvPr/>
        </p:nvPicPr>
        <p:blipFill>
          <a:blip r:embed="rId1"/>
          <a:stretch/>
        </p:blipFill>
        <p:spPr>
          <a:xfrm>
            <a:off x="3643200" y="3143160"/>
            <a:ext cx="333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mbria"/>
              </a:rPr>
              <a:t>Классификация по типу проек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оски прямой проекци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оски обратной проекц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Насадк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Доски прямой проекции</a:t>
            </a:r>
            <a:r>
              <a:rPr b="0" lang="ru-RU" sz="4000" spc="-1" strike="noStrike">
                <a:solidFill>
                  <a:srgbClr val="696464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42960" y="11430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ор помещается перед ней на подставке или на пото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G:\фото для сайта\22.jpg"/>
          <p:cNvPicPr/>
          <p:nvPr/>
        </p:nvPicPr>
        <p:blipFill>
          <a:blip r:embed="rId1"/>
          <a:stretch/>
        </p:blipFill>
        <p:spPr>
          <a:xfrm>
            <a:off x="4786200" y="2857680"/>
            <a:ext cx="3614760" cy="251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:\тсо уроки\smart1.jpg"/>
          <p:cNvPicPr/>
          <p:nvPr/>
        </p:nvPicPr>
        <p:blipFill>
          <a:blip r:embed="rId2"/>
          <a:stretch/>
        </p:blipFill>
        <p:spPr>
          <a:xfrm>
            <a:off x="785880" y="2857680"/>
            <a:ext cx="2786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857240" y="785880"/>
            <a:ext cx="6143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Доски обратной проек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4" name="Picture 4" descr="H:\тсо уроки\_pic_05_01_10.jpg"/>
          <p:cNvPicPr/>
          <p:nvPr/>
        </p:nvPicPr>
        <p:blipFill>
          <a:blip r:embed="rId1"/>
          <a:stretch/>
        </p:blipFill>
        <p:spPr>
          <a:xfrm>
            <a:off x="1000080" y="3411360"/>
            <a:ext cx="4143600" cy="2517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85840" y="142848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57240" indent="-5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ектор располагается сзади 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7240" indent="-5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ставляет единую конструкцию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7240" indent="-5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 доско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Picture 6" descr="G:\фото для сайта\1_320.jpg"/>
          <p:cNvPicPr/>
          <p:nvPr/>
        </p:nvPicPr>
        <p:blipFill>
          <a:blip r:embed="rId2"/>
          <a:stretch/>
        </p:blipFill>
        <p:spPr>
          <a:xfrm>
            <a:off x="6500880" y="1785960"/>
            <a:ext cx="2335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Доски обратной проек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8" name="Picture 4" descr="H:\тсо уроки\3333.jpg"/>
          <p:cNvPicPr/>
          <p:nvPr/>
        </p:nvPicPr>
        <p:blipFill>
          <a:blip r:embed="rId1"/>
          <a:stretch/>
        </p:blipFill>
        <p:spPr>
          <a:xfrm>
            <a:off x="3071880" y="1928880"/>
            <a:ext cx="3714840" cy="4167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914400" y="597384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779560" y="281160"/>
            <a:ext cx="2799000" cy="37177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357120" y="421488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я, работающие с интерактивной доской, отмечают положительные изменения в качестве уроков, в объеме понимаемого учениками материала. Они утверждают, что интерактивная доска помогает преподнести больше информации за меньшее время, и при этом ученики активно работают на уроке и лучше понимают даже самый сложный материал. Интерактивная доска становится незаменимой для учителей по любому предмету, будь то использование интерактивной доски в начальной школе, средней и профессиональной школе или даже в детском с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Интерактивные доски</a:t>
            </a:r>
            <a:r>
              <a:rPr b="0" lang="ru-RU" sz="4000" spc="-1" strike="noStrike">
                <a:solidFill>
                  <a:srgbClr val="696464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значение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нтерактивная доск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- это устройство, позволяющее лектору или докладчику объединить три различных инструмента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кран для отображения информ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ычную маркерную доску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терактивный монитор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ска дает возможность демонстрировать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лайды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идео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елать пометки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исовать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ертить различные схемы, как на обычной доске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реальном времени наносить на проецируемое изображение пометки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носить любые изменения и сохранять их виде компьютерных файлов для дальнейшего редактирования, печати на принтере, рассылки по факсу или электронной почте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Технологии для определения положения пишущего инструмента на доске</a:t>
            </a:r>
            <a:br>
              <a:rPr sz="3600"/>
            </a:b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езистивная техн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четание инфракрасной и ультразвуковой технологи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лектромагнитные волны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азерная технология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тическая технологи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mbria"/>
              </a:rPr>
              <a:t>Резистивная технология </a:t>
            </a:r>
            <a:r>
              <a:rPr b="0" lang="ru-RU" sz="3200" spc="-1" strike="noStrike">
                <a:solidFill>
                  <a:srgbClr val="696464"/>
                </a:solidFill>
                <a:latin typeface="Cambria"/>
              </a:rPr>
              <a:t>основана на применении резистивных матриц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зистивная матрица - это вмонтированная в пластиковую поверхность интерактивной доски сетка из двух слоев тончайших проводников, разделенных воздушным зазоро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2" descr="H:\тсо уроки\1134439_400x256.png"/>
          <p:cNvPicPr/>
          <p:nvPr/>
        </p:nvPicPr>
        <p:blipFill>
          <a:blip r:embed="rId1"/>
          <a:stretch/>
        </p:blipFill>
        <p:spPr>
          <a:xfrm>
            <a:off x="3714840" y="3500280"/>
            <a:ext cx="4687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mbria"/>
              </a:rPr>
              <a:t>Резистивная технология </a:t>
            </a:r>
            <a:r>
              <a:rPr b="0" lang="ru-RU" sz="3200" spc="-1" strike="noStrike">
                <a:solidFill>
                  <a:srgbClr val="696464"/>
                </a:solidFill>
                <a:latin typeface="Cambria"/>
              </a:rPr>
              <a:t>основана на применении резистивных матриц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та технология - сенсорная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на не требует применения специальных маркеров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использует никаких излучений для работ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подвержена внешним помех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достаток - небольшая задержка реакции матрицы при быстром перемещении маркера или заменяющего его предмет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Picture 4" descr="H:\тсо уроки\smartboard_640c.jpeg"/>
          <p:cNvPicPr/>
          <p:nvPr/>
        </p:nvPicPr>
        <p:blipFill>
          <a:blip r:embed="rId1"/>
          <a:stretch/>
        </p:blipFill>
        <p:spPr>
          <a:xfrm>
            <a:off x="785880" y="478620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H:\тсо уроки\bg_1602973_3.jpg"/>
          <p:cNvPicPr/>
          <p:nvPr/>
        </p:nvPicPr>
        <p:blipFill>
          <a:blip r:embed="rId2"/>
          <a:srcRect l="27736" t="14065" r="23435" b="13671"/>
          <a:stretch/>
        </p:blipFill>
        <p:spPr>
          <a:xfrm>
            <a:off x="7000920" y="4214880"/>
            <a:ext cx="1785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Оптическая технология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ана на использовании для считывания координат курсора (маркера или пальца) расположенных по углам доски миниатюрных цифровых видеокаме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стоинства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ыстродействие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очность позиционирования курсора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величиваются функциональные возможност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Инфракрасная и ультразвуковая технологии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набжение поверхности доски инфракрасными и ультразвуковыми датчиками, определяющими положение маркеров и ластик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2" descr="H:\тсо уроки\95168b84241596b3aa49a6cdf04d37fd_01.jpeg"/>
          <p:cNvPicPr/>
          <p:nvPr/>
        </p:nvPicPr>
        <p:blipFill>
          <a:blip r:embed="rId1"/>
          <a:stretch/>
        </p:blipFill>
        <p:spPr>
          <a:xfrm>
            <a:off x="2214720" y="3000240"/>
            <a:ext cx="435744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:\тсо уроки\0777020.JPEG"/>
          <p:cNvPicPr/>
          <p:nvPr/>
        </p:nvPicPr>
        <p:blipFill>
          <a:blip r:embed="rId1"/>
          <a:stretch/>
        </p:blipFill>
        <p:spPr>
          <a:xfrm>
            <a:off x="4429080" y="4224240"/>
            <a:ext cx="2633760" cy="2633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mbria"/>
              </a:rPr>
              <a:t>Инфракрасная и ультразвуковая технологии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фракрасные и ультразвуковые датчики могут быть встроены в насадки, которые при креплении на обычную маркерную доску превращают ее в интерактивную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достато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ски подвержены воздействию со стороны посторонних источников излучений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39:13Z</dcterms:created>
  <dc:creator>user1</dc:creator>
  <dc:description/>
  <dc:language>en-US</dc:language>
  <cp:lastModifiedBy>Спиридонова В.Л.</cp:lastModifiedBy>
  <dcterms:modified xsi:type="dcterms:W3CDTF">2012-02-16T18:30:21Z</dcterms:modified>
  <cp:revision>27</cp:revision>
  <dc:subject/>
  <dc:title>Слайд 1</dc:title>
</cp:coreProperties>
</file>