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778-28D4-4B1E-8C12-E8FFB7B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90E-87F8-4327-9B9B-89DD4B7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585-8D35-405A-B55C-D39BAF53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A06-53A3-4E6D-8712-8662FFB0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CEB-6896-485F-A862-2C7FAE78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4D8-F276-42F4-A8F3-0B215ABA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E82-52B8-44A2-B030-26E1A841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557-2838-4F13-BB54-FC89DF0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B31-14AC-4C85-933E-2C5BDBC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D1D-2686-4EAB-BEB1-995BB13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91F-3756-46F6-AB21-1E14DFB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A0F-3CE4-415E-8B00-3F24DBA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9CD4-EE79-4B41-B864-ABB75BA0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search_images?rch=e&amp;type=all&amp;is=0&amp;q=&#1083;&#1077;&#1085;&#1080;&#1085;&#1075;&#1088;&#1072;&#1076;+&#1073;&#1083;&#1086;&#1082;&#1072;&#1076;&#1072;" TargetMode="External"/><Relationship Id="rId2" Type="http://schemas.openxmlformats.org/officeDocument/2006/relationships/hyperlink" Target="http://go.mail.ru/search_images?rch=e&amp;type=all&amp;is=0&amp;q=&#1083;&#1077;&#1085;&#1080;&#1085;&#1075;&#1088;&#1072;&#1076;+&#1073;&#1083;&#1086;&#1082;&#1072;&#1076;&#1072;" TargetMode="External"/><Relationship Id="rId3" Type="http://schemas.openxmlformats.org/officeDocument/2006/relationships/hyperlink" Target="http://go.mail.ru/search_images?rch=e&amp;type=all&amp;is=0&amp;q=&#1083;&#1077;&#1085;&#1080;&#1085;&#1075;&#1088;&#1072;&#1076;+&#1073;&#1083;&#1086;&#1082;&#1072;&#1076;&#1072;" TargetMode="External"/><Relationship Id="rId4" Type="http://schemas.openxmlformats.org/officeDocument/2006/relationships/hyperlink" Target="http://go.mail.ru/search_images?rch=e&amp;type=all&amp;is=0&amp;q=&#1083;&#1077;&#1085;&#1080;&#1085;&#1075;&#1088;&#1072;&#1076;+&#1073;&#1083;&#1086;&#1082;&#1072;&#1076;&#1072;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гарита Али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ЕНИНГРАД. ВЕСНА 1946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28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93600"/>
            <a:ext cx="32004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ний день похож на воскресенье, 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уше ни тягот, ни обид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76212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мятение весенне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овый исаакиевский грани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3840" y="1676520"/>
            <a:ext cx="3948120" cy="495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066680" y="-27144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ёплый дождик... Спутанная пряж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реных бездомных облаков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олзает краска камуфляж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рутолобых вечных купо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2139840"/>
            <a:ext cx="7543800" cy="464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38862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219320" y="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ром сдуем, дождиками смое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ёрные твои, война, след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ко от глаз досужих скрое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и несмываемой бед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705720" cy="477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42433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7600" y="-7632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осталось время только слав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ренним лучом над голов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отой, осанкой величав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зовым гранитом над Нев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403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53352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ргарита Алигер. Ленинград. Весна 1946</a:t>
            </a:r>
            <a:br>
              <a:rPr sz="2200"/>
            </a:b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.mail.ru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search_images?rch=e&amp;type=all&amp;is=0&amp;q=ленинград+блока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6T22:28:0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