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095-ED89-4E2E-AFF7-2A7A8F76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3D0-B083-46D7-A089-DADD35E8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778-FB6F-4764-952B-83F40D55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627-F6AB-492B-A69B-91AD1170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AD3-6DD9-43AE-B321-AB782BAB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113D-A4EE-49AF-A26A-58B1AD66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17A3-A159-4022-BF40-AA28DDE1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F95D-4E1B-4A26-99E0-FC4D9F2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B5D-810F-48CD-80D2-A75A570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FE77-FC7B-4ABC-AFCC-CA89CD5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95F5-7453-4384-A1A1-3345E4D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3FC-86DA-477E-AC2D-2280CC1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5B14-B427-4A97-9467-F17DF49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D57-5A54-4C0E-88B9-0C272CB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429A-A8D2-48E7-995E-9C17F8E7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8C10-367A-4156-B838-BAB0EFF7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EAEF-AEF0-4002-9724-861837AD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CC1A8-36E5-4A6D-962C-559817AD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79626-5EA4-4465-A8A3-0EE64FB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726A8-BACA-4378-B121-3473D156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321B2-33C6-431A-9CD0-F8A83589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7C51E-78F7-4B95-9F80-F150908E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9E0-3E36-4528-8D5C-CF515A30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45165-C12D-491B-8CF8-321B13B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6FA15-0672-4044-82A6-EC8BAB7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06BEE-0200-4B51-83BD-1E382C42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D7DDA-457B-4598-B2D9-F0158DD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8D969-0E1C-43EA-9742-3B680BF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B5181-6996-4D9C-90E6-B3814AD2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DCF67-A9BF-4F6E-B1D9-78A3EB3C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CF03-1B60-48F5-9E86-128D0A0B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F39D-EADA-4216-8E3F-6F92297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B648-94E5-4D35-AB94-62648503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C4D-93BD-42D3-833A-08DFF017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D216-398E-454E-9473-5E261994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5064-5C87-46AF-A960-2A29082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9796-F8A9-4414-8DFA-F2AE1FB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F9FE-CB82-468C-9AD1-80EC953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7997-FEF4-41B1-A557-8E40E97D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F58D-3D9A-4964-A700-94CBEE7A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C3CF-DA2D-4FCD-9848-44370E27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1F12-DD69-43A3-9FB8-32DB6EFC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AE16-8DB5-4709-B224-1BECD2C0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3D8CB-6391-4E2C-A68F-187202D7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060-7792-4DE7-96A9-66BC222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358C1-9B43-417B-9864-8E811100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6EB70-C22C-428D-9EC5-01CD7C8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9046F-748E-4AD8-8279-34753A26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F0303-C9C2-47AD-A2ED-B762C6C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23232-5828-4A1E-AFD1-DAF86A2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6B102-D791-4842-BE40-D55262C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3FEC0-BE7F-48B9-BAEB-E8C779E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2C92D-3FA9-408E-B0E4-05B7C2E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78004-C285-417E-BCB4-2CEA30C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24477-0DB3-4281-A705-88C3689C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B23-5EEB-4AB8-B858-A93935F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78A28-52F9-4985-9AB7-D0039FA7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858D6-9BC8-4467-A08E-79078125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1C282-1A77-4949-A93E-F322EDB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8F62C-E956-4A1B-AA2B-4C4A7760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68878-1B66-4EC3-BDFE-B84450F2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619EB-82CB-4D0C-A93D-862546D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8A1D5-F939-4251-B760-EEB39BBA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53174-0083-4228-9520-CC01232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A3E89-BDA8-4CED-AA35-06C7BCC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139ED-4AA9-414E-AD0D-3D9EE80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302-8F6C-428B-BEC4-51BAAED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0D4C0-56CA-42F9-A206-40DE1A5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D24F8-B1D0-480D-B9DC-278C8553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E20C8-4261-4B70-902B-8D9D499B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390C8-2123-4449-9704-0F973DE4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366D2-84ED-4247-85ED-9C3C0A89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8B075-BCC2-4D96-A1B1-B76E4D1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7EA2F-4958-41D4-9125-663ADC73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D5F2E-DB72-40CD-917D-9C10B67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F6579-F1B1-4F21-99C5-18A6284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F785F-CC8E-409F-9CC6-8A893E5D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749-FE4F-48FE-963D-C59405A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68672-C6E7-4F15-8EB2-2CCC2B80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3DC66-EA28-4AFB-BCFD-22B6BCD1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1E913-26CC-471D-AC0E-29D805F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15CC6-EB01-446F-8DDF-92A90E71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42141-F012-45B5-8683-DBB067E4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232-2ADB-4F6C-839B-A5BA7C8F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8AA1-CF45-4E98-B349-A8EDB4AEF8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AB1E-E953-4781-BD34-95B90D13A3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51E7-DBDA-46BF-B834-A279307274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14C-7828-47CA-B3C8-AC72C2A853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3CB-8017-4F14-B3C3-AFD714BF51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C88-5EFA-4028-8FD6-A2FC8DCEA3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EB6-11C3-4F1F-804D-1D796173DC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МАСТЕР – КЛАСС: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94920" y="2924280"/>
            <a:ext cx="82090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entury Schoolbook"/>
              </a:rPr>
              <a:t>«Татар теле һәм әдәбиятын укытуда проектлар методы»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-360" y="1989000"/>
            <a:ext cx="86979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3. Проектны тормышка ашыру этабы: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а) эшне төгәлләү һәм тикшерү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Century Schoolbook"/>
              </a:rPr>
              <a:t>б) чыгышларның планы төзелә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60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"/>
          <p:cNvSpPr/>
          <p:nvPr/>
        </p:nvSpPr>
        <p:spPr>
          <a:xfrm>
            <a:off x="0" y="10630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. Йомгаклау этаб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проектны   яклау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башкаларны  хезмә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нәтиҗәләре белән таныштыр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0" y="2736720"/>
            <a:ext cx="9144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0" y="1052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70c0"/>
                </a:solidFill>
                <a:latin typeface="Times New Roman"/>
              </a:rPr>
              <a:t>Проект методын  кулланып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1" lang="tt-RU" sz="4000" spc="-1" strike="noStrike">
                <a:solidFill>
                  <a:srgbClr val="0070c0"/>
                </a:solidFill>
                <a:latin typeface="Times New Roman"/>
              </a:rPr>
              <a:t>белем бирүнең бурычлар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2384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укучыда   өйрәнә  торган  фәнг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кызыксыну уяту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-укучының  танып  белү  активлыгын үстерү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-иҗади   мөмкинлекләрен   камилләштерү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-белемнәрен   тирәнәйтү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5"/>
          <p:cNvSpPr/>
          <p:nvPr/>
        </p:nvSpPr>
        <p:spPr>
          <a:xfrm>
            <a:off x="684360" y="2276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tt-RU" sz="7200" spc="-1" strike="noStrike">
                <a:solidFill>
                  <a:srgbClr val="ff0000"/>
                </a:solidFill>
                <a:latin typeface="Times New Roman"/>
              </a:rPr>
              <a:t>Проект  темасы:</a:t>
            </a:r>
            <a:br>
              <a:rPr sz="7200"/>
            </a:br>
            <a:r>
              <a:rPr b="1" i="1" lang="tt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tt-RU" sz="7200" spc="-1" strike="noStrike">
                <a:solidFill>
                  <a:srgbClr val="0070c0"/>
                </a:solidFill>
                <a:latin typeface="Times New Roman"/>
              </a:rPr>
              <a:t>Габдулла   Тукай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5"/>
          <p:cNvSpPr/>
          <p:nvPr/>
        </p:nvSpPr>
        <p:spPr>
          <a:xfrm>
            <a:off x="250920" y="40464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tt-RU" sz="7200" spc="-1" strike="noStrike">
                <a:solidFill>
                  <a:srgbClr val="ff0000"/>
                </a:solidFill>
                <a:latin typeface="Times New Roman"/>
              </a:rPr>
              <a:t>Проект  максаты:</a:t>
            </a:r>
            <a:br>
              <a:rPr sz="7200"/>
            </a:br>
            <a:r>
              <a:rPr b="1" i="1" lang="tt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t-RU" sz="7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395280" y="178920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.Тукайның тормыш һәм иҗат юлы турында тулы мәгълүмат бирү,әсәрләре белән танышты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анып-белү эшчәнлеген, иҗади фикерләү сәләтен камилләштерү; укучыларны эзләнү-тикшеренү эшчәнлегенә тарту, нәтиҗә ясарга юнәлеш бирү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Тукай әсәрләренә, шигърияткә карата, татар әдәбиятына, мәдәниятенә хөрмәт, мәхәббәт, кызыксыну тәрбияләү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5"/>
          <p:cNvSpPr/>
          <p:nvPr/>
        </p:nvSpPr>
        <p:spPr>
          <a:xfrm>
            <a:off x="684360" y="2276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t-RU" sz="7200" spc="-1" strike="noStrike">
                <a:solidFill>
                  <a:srgbClr val="ff0000"/>
                </a:solidFill>
                <a:latin typeface="Times New Roman"/>
              </a:rPr>
              <a:t>2011 ел -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tt-RU" sz="7200" spc="-1" strike="noStrike">
                <a:solidFill>
                  <a:srgbClr val="ff0000"/>
                </a:solidFill>
                <a:latin typeface="Times New Roman"/>
              </a:rPr>
              <a:t>ТУКАЙ ЕЛЫ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395280" y="1413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324000" y="162864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70c0"/>
                </a:solidFill>
                <a:latin typeface="Times New Roman"/>
              </a:rPr>
              <a:t>Проектның  эш төрләре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10"/>
          <p:cNvSpPr/>
          <p:nvPr/>
        </p:nvSpPr>
        <p:spPr>
          <a:xfrm rot="1630800">
            <a:off x="-56880" y="2280960"/>
            <a:ext cx="1805040" cy="1801800"/>
          </a:xfrm>
          <a:custGeom>
            <a:avLst/>
            <a:gdLst>
              <a:gd name="textAreaLeft" fmla="*/ 743760 w 1805040"/>
              <a:gd name="textAreaRight" fmla="*/ 1061280 w 1805040"/>
              <a:gd name="textAreaTop" fmla="*/ 742320 h 1801800"/>
              <a:gd name="textAreaBottom" fmla="*/ 1059480 h 180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Выноска-облако 8"/>
          <p:cNvSpPr/>
          <p:nvPr/>
        </p:nvSpPr>
        <p:spPr>
          <a:xfrm>
            <a:off x="285840" y="2852640"/>
            <a:ext cx="8572320" cy="3600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9"/>
          <p:cNvSpPr/>
          <p:nvPr/>
        </p:nvSpPr>
        <p:spPr>
          <a:xfrm>
            <a:off x="971640" y="35002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</a:rPr>
              <a:t>1.Г.Тукайның  биографиясе белән таныштыр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</a:rPr>
              <a:t>2.Презентация  “Бөек шагыйребез –Габдулла Тукайның тууына 125 ел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5"/>
          <p:cNvSpPr/>
          <p:nvPr/>
        </p:nvSpPr>
        <p:spPr>
          <a:xfrm>
            <a:off x="684360" y="22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10"/>
          <p:cNvSpPr/>
          <p:nvPr/>
        </p:nvSpPr>
        <p:spPr>
          <a:xfrm rot="20065200">
            <a:off x="512640" y="136440"/>
            <a:ext cx="2578320" cy="2127240"/>
          </a:xfrm>
          <a:custGeom>
            <a:avLst/>
            <a:gdLst>
              <a:gd name="textAreaLeft" fmla="*/ 1062360 w 2578320"/>
              <a:gd name="textAreaRight" fmla="*/ 1515960 w 2578320"/>
              <a:gd name="textAreaTop" fmla="*/ 876600 h 2127240"/>
              <a:gd name="textAreaBottom" fmla="*/ 1250640 h 21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Выноска-облако 8"/>
          <p:cNvSpPr/>
          <p:nvPr/>
        </p:nvSpPr>
        <p:spPr>
          <a:xfrm>
            <a:off x="285840" y="1844640"/>
            <a:ext cx="8572320" cy="47530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1042920" y="309960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  <a:ea typeface="Calibri"/>
              </a:rPr>
              <a:t>Г. Тукайга багышланган стенгазета чыгару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5"/>
          <p:cNvSpPr/>
          <p:nvPr/>
        </p:nvSpPr>
        <p:spPr>
          <a:xfrm>
            <a:off x="684360" y="22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Выноска-облако 8"/>
          <p:cNvSpPr/>
          <p:nvPr/>
        </p:nvSpPr>
        <p:spPr>
          <a:xfrm>
            <a:off x="285840" y="1357200"/>
            <a:ext cx="8572320" cy="588816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5"/>
          <p:cNvSpPr/>
          <p:nvPr/>
        </p:nvSpPr>
        <p:spPr>
          <a:xfrm rot="21309600">
            <a:off x="74520" y="254160"/>
            <a:ext cx="2506680" cy="1887480"/>
          </a:xfrm>
          <a:custGeom>
            <a:avLst/>
            <a:gdLst>
              <a:gd name="textAreaLeft" fmla="*/ 1032840 w 2506680"/>
              <a:gd name="textAreaRight" fmla="*/ 1473840 w 2506680"/>
              <a:gd name="textAreaTop" fmla="*/ 777600 h 1887480"/>
              <a:gd name="textAreaBottom" fmla="*/ 1109880 h 18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1116000" y="329508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1.Туган тел турында шигырьлә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белән танышыр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 Туган телем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 татар теле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  <a:ea typeface="Calibri"/>
              </a:rPr>
              <a:t>инша язырга</a:t>
            </a: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684360" y="22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Выноска-облако 8"/>
          <p:cNvSpPr/>
          <p:nvPr/>
        </p:nvSpPr>
        <p:spPr>
          <a:xfrm>
            <a:off x="285840" y="1357200"/>
            <a:ext cx="8572320" cy="271476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 rot="3961800">
            <a:off x="106920" y="-183240"/>
            <a:ext cx="2151000" cy="2340000"/>
          </a:xfrm>
          <a:custGeom>
            <a:avLst/>
            <a:gdLst>
              <a:gd name="textAreaLeft" fmla="*/ 886320 w 2151000"/>
              <a:gd name="textAreaRight" fmla="*/ 1264680 w 2151000"/>
              <a:gd name="textAreaTop" fmla="*/ 964080 h 2340000"/>
              <a:gd name="textAreaBottom" fmla="*/ 137592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0" y="166212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  <a:ea typeface="Calibri"/>
              </a:rPr>
              <a:t>Китап  чыгару : 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  <a:ea typeface="Calibri"/>
              </a:rPr>
              <a:t>Күренек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  <a:ea typeface="Calibri"/>
              </a:rPr>
              <a:t>кешеләрнең Г.Тукай турында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250920" y="1125360"/>
            <a:ext cx="7632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    </a:t>
            </a: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нинди дә булса проблеманы өйрәнү һәм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     </a:t>
            </a: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гамәли   нәтиҗәсен  күрсәтү өчен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    </a:t>
            </a: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укучыларның мөстәкыйль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    </a:t>
            </a: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эшчәнлегенә нигезләнгән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     </a:t>
            </a:r>
            <a:r>
              <a:rPr b="0" lang="tt-RU" sz="4400" spc="-1" strike="noStrike">
                <a:solidFill>
                  <a:srgbClr val="0070c0"/>
                </a:solidFill>
                <a:latin typeface="Century Schoolbook"/>
              </a:rPr>
              <a:t>укыту методы 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24000" y="26028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оектлар методы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5"/>
          <p:cNvSpPr/>
          <p:nvPr/>
        </p:nvSpPr>
        <p:spPr>
          <a:xfrm>
            <a:off x="684360" y="22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Выноска-облако 8"/>
          <p:cNvSpPr/>
          <p:nvPr/>
        </p:nvSpPr>
        <p:spPr>
          <a:xfrm>
            <a:off x="285840" y="1700280"/>
            <a:ext cx="8572320" cy="460836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entury Schoolbook"/>
              </a:rPr>
              <a:t>“ </a:t>
            </a:r>
            <a:r>
              <a:rPr b="0" lang="tt-RU" sz="5400" spc="-1" strike="noStrike">
                <a:solidFill>
                  <a:srgbClr val="000000"/>
                </a:solidFill>
                <a:latin typeface="Century Schoolbook"/>
              </a:rPr>
              <a:t>Бала белән күбәләк”  шигырен   сәхнәләштерү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5"/>
          <p:cNvSpPr/>
          <p:nvPr/>
        </p:nvSpPr>
        <p:spPr>
          <a:xfrm rot="20176200">
            <a:off x="-149400" y="105840"/>
            <a:ext cx="3090960" cy="1571760"/>
          </a:xfrm>
          <a:custGeom>
            <a:avLst/>
            <a:gdLst>
              <a:gd name="textAreaLeft" fmla="*/ 1273680 w 3090960"/>
              <a:gd name="textAreaRight" fmla="*/ 1817280 w 3090960"/>
              <a:gd name="textAreaTop" fmla="*/ 647640 h 1571760"/>
              <a:gd name="textAreaBottom" fmla="*/ 9241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54720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0000"/>
                </a:solidFill>
                <a:latin typeface="Century Schoolbook"/>
              </a:rPr>
              <a:t>ПРОЕКТ МЕТОДЫ ЭШЧӘНЛЕГЕНЕҢ </a:t>
            </a:r>
            <a:r>
              <a:rPr b="1" lang="en-US" sz="5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tt-RU" sz="5400" spc="-1" strike="noStrike">
                <a:solidFill>
                  <a:srgbClr val="ff0000"/>
                </a:solidFill>
                <a:latin typeface="Century Schoolbook"/>
              </a:rPr>
              <a:t>ЭПИГРАФЫ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0" y="3247560"/>
            <a:ext cx="91440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“</a:t>
            </a:r>
            <a:r>
              <a:rPr b="1" lang="tt-RU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Сөйлә миңа</a:t>
            </a:r>
            <a:r>
              <a:rPr b="1" lang="en-US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-</a:t>
            </a:r>
            <a:r>
              <a:rPr b="1" lang="tt-RU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 мин</a:t>
            </a:r>
            <a:r>
              <a:rPr b="1" lang="en-US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онытырмын,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күрсәт – истә калдырырмын,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кызыксындыр - өйрәнермен”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412640"/>
            <a:ext cx="8362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598d9"/>
                </a:solidFill>
                <a:latin typeface="Times New Roman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23880" y="1700280"/>
          <a:ext cx="6096240" cy="1728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</a:t>
                      </a: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ЕКТ МЕТОД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363" name="Стрелка вниз 12"/>
          <p:cNvSpPr/>
          <p:nvPr/>
        </p:nvSpPr>
        <p:spPr>
          <a:xfrm>
            <a:off x="1692360" y="3500280"/>
            <a:ext cx="1131840" cy="1008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Стрелка вниз 13"/>
          <p:cNvSpPr/>
          <p:nvPr/>
        </p:nvSpPr>
        <p:spPr>
          <a:xfrm>
            <a:off x="5651640" y="3500280"/>
            <a:ext cx="1152360" cy="1008360"/>
          </a:xfrm>
          <a:prstGeom prst="downArrow">
            <a:avLst>
              <a:gd name="adj1" fmla="val 50000"/>
              <a:gd name="adj2" fmla="val 4458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68360" y="4508640"/>
          <a:ext cx="3384360" cy="216036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   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кучыг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өстәкыйл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ь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җади эшләр өч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артлар туды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572000" y="4508640"/>
          <a:ext cx="3960720" cy="2160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кытучыг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нсул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ь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ан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рдәмче  булыр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өмкинлек туды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-360" y="1412640"/>
            <a:ext cx="8459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Century Schoolbook"/>
              </a:rPr>
              <a:t>Укучы өчен проект нәрсә ул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иҗади мөмкинлекләрен ачу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төркемдә эшләү күнекмәләре булдыру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үзе сайлаган кызыклы проблеманы (теманы) ачу өстендә эшләү 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t-RU" sz="3600" spc="-1" strike="noStrike">
                <a:solidFill>
                  <a:srgbClr val="000000"/>
                </a:solidFill>
                <a:latin typeface="Century Schoolbook"/>
              </a:rPr>
              <a:t>үзенең эшен (хезмәтен) презентацияләү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entury Schoolbook"/>
              </a:rPr>
              <a:t>Татар теле һәм әдәбиятын өйрәнгәндә, түбәндәге төрдәге проектларны кулланып бу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икшеренү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хезмәтнең  актуальлеген  нигезләү, тикшеренүнең  максаты  әйтү,  бурычлар кую,  аларны  чишү  юлларын    күрсәтү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җад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(кичә  яки бәйрәм үткәрү өчен сценарий төзү, мәкалә язу һ.б.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амәли юнәлешл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һәр укучының, төркемнең бөтен эшчәнлеген     яхшы      нәтиҗәләргә    ирешү     максатыннан чыгып планлаштыру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әгълүма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(темага   караган    мәгълүматларны җыю,  аларны   катнашучыларга   тәкъдим  итү, фикер   алышу, йомгаклау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мета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(берничә  предметка  нигезләнү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5056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эшчәнлегенең бурычлары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- укучыларда интеллектуаль һәм гомумхезмәт белемнәрен булдыру, аларның хезмәт нәтиҗәләрен күз алдына китереп эшләрлек күнегүләр белән тәэмин итү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- иҗади фикерләү, мөстәкыйльлек һәм башлап эш итү сәләтен үстерү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Рисунок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-360" y="47592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Проект эше түбәндәге этаплардан тора</a:t>
            </a:r>
            <a:r>
              <a:rPr b="1" lang="tt-RU" sz="4000" spc="-1" strike="noStrike">
                <a:solidFill>
                  <a:srgbClr val="0070c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Әзерлек этабы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а) тема сайлау;</a:t>
            </a:r>
            <a:r>
              <a:rPr b="0" lang="tt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tt-RU" sz="2800" spc="-1" strike="noStrike">
                <a:solidFill>
                  <a:srgbClr val="000000"/>
                </a:solidFill>
                <a:latin typeface="Century Schoolbook"/>
              </a:rPr>
              <a:t>ә)юнәлеше, максаты, бурычы аңлатыла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tt-RU" sz="2800" spc="-1" strike="noStrike">
                <a:solidFill>
                  <a:srgbClr val="000000"/>
                </a:solidFill>
                <a:latin typeface="Century Schoolbook"/>
              </a:rPr>
              <a:t>б) үтәү вакыты билгеләнә 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) күләмен билгеләү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) укытучы белән бергә эш планы төзү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) укучыны чыганаклар белән эшләргә өйрәтү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50920" y="1050120"/>
            <a:ext cx="8353440" cy="49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2. Проектны   төзү  этабы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а)</a:t>
            </a:r>
            <a:r>
              <a:rPr b="1" lang="tt-RU" sz="40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оект эшенең планы төзелә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ә)  </a:t>
            </a:r>
            <a:r>
              <a:rPr b="1" lang="tt-RU" sz="4000" spc="-1" strike="noStrike">
                <a:solidFill>
                  <a:srgbClr val="000000"/>
                </a:solidFill>
                <a:latin typeface="Century Schoolbook"/>
              </a:rPr>
              <a:t>укучы шәхси бирем буенча материал эзли, җыя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б) план буенча эш башкар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00:12Z</dcterms:created>
  <dc:creator>Customer</dc:creator>
  <dc:description/>
  <dc:language>en-US</dc:language>
  <cp:lastModifiedBy>Admin</cp:lastModifiedBy>
  <dcterms:modified xsi:type="dcterms:W3CDTF">2011-12-12T15:39:56Z</dcterms:modified>
  <cp:revision>84</cp:revision>
  <dc:subject/>
  <dc:title>Слайд 1</dc:title>
</cp:coreProperties>
</file>