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.jpeg" ContentType="image/jpeg"/>
  <Override PartName="/ppt/media/image22.gif" ContentType="image/gif"/>
  <Override PartName="/ppt/media/image14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EDBD-C27B-4CD9-9FD3-596E7D312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BB9E898-D63E-4DC6-932A-7817243173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9F8-2DDF-41ED-899C-A9914889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008-AFB5-4AF5-A3DA-B4A8C70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334-6418-4523-998C-00B682A6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9E5-C104-4AFE-A00C-F7B8A47B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D80-8B14-41CB-81CA-240BF8F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DC9-74EA-4B54-A023-80515B46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14E-F64A-457F-AF03-31453C7E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F50-C4DC-43C1-8BC3-EED29D1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5CF-01EE-4C0A-B1D6-7D5F1DCF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C68-9572-482C-8041-5BFF5B4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DA8-50B0-4C3E-B3EF-83C1DAF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44E-19C5-42BE-9962-1F072D8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66C-0CC4-417A-952E-E43B15D5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" Target="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еометрических фиг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№ 1, 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Иванова Е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У «СОШ № 14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Усть-Илим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sCAW3L6NA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2076480" cy="1446120"/>
          </a:xfrm>
          <a:prstGeom prst="rect">
            <a:avLst/>
          </a:prstGeom>
          <a:ln w="0">
            <a:noFill/>
          </a:ln>
        </p:spPr>
      </p:pic>
      <p:pic>
        <p:nvPicPr>
          <p:cNvPr id="51" name="imagesCAKV0Y12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778120" cy="1749600"/>
          </a:xfrm>
          <a:prstGeom prst="rect">
            <a:avLst/>
          </a:prstGeom>
          <a:ln w="0">
            <a:noFill/>
          </a:ln>
        </p:spPr>
      </p:pic>
      <p:pic>
        <p:nvPicPr>
          <p:cNvPr id="52" name="imagesCABP1ZRV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Площадь прямоуг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080" y="1295280"/>
            <a:ext cx="706680" cy="636840"/>
            <a:chOff x="838080" y="1295280"/>
            <a:chExt cx="706680" cy="636840"/>
          </a:xfrm>
        </p:grpSpPr>
        <p:sp>
          <p:nvSpPr>
            <p:cNvPr id="162" name=""/>
            <p:cNvSpPr/>
            <p:nvPr/>
          </p:nvSpPr>
          <p:spPr>
            <a:xfrm>
              <a:off x="838080" y="1295280"/>
              <a:ext cx="685800" cy="636840"/>
            </a:xfrm>
            <a:custGeom>
              <a:avLst/>
              <a:gdLst/>
              <a:ahLst/>
              <a:rect l="l" t="t" r="r" b="b"/>
              <a:pathLst>
                <a:path w="1920" h="675">
                  <a:moveTo>
                    <a:pt x="0" y="672"/>
                  </a:moveTo>
                  <a:lnTo>
                    <a:pt x="0" y="1"/>
                  </a:lnTo>
                  <a:lnTo>
                    <a:pt x="1920" y="0"/>
                  </a:lnTo>
                  <a:lnTo>
                    <a:pt x="1905" y="675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914400" y="1371600"/>
                  <a:ext cx="63036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1752480" y="2362320"/>
            <a:ext cx="4800600" cy="1828800"/>
          </a:xfrm>
          <a:prstGeom prst="rect">
            <a:avLst/>
          </a:prstGeom>
          <a:solidFill>
            <a:srgbClr val="ad5b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36232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581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28800" y="4648320"/>
                <a:ext cx="44226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solidFill>
            <a:srgbClr val="f1fb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Формула площади прямо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1447920"/>
            <a:ext cx="3200400" cy="160020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09680" y="2971800"/>
                <a:ext cx="41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1219320"/>
                <a:ext cx="41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867280" y="1219320"/>
                <a:ext cx="414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2895480"/>
                <a:ext cx="449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038480" y="3048120"/>
                <a:ext cx="47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943600" y="1828800"/>
                <a:ext cx="407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90920" y="3657600"/>
                <a:ext cx="2444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038480" y="990720"/>
                <a:ext cx="47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133720" y="1905120"/>
                <a:ext cx="407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962520" y="297180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137160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38280" y="2209680"/>
            <a:ext cx="304560" cy="228600"/>
            <a:chOff x="2438280" y="2209680"/>
            <a:chExt cx="304560" cy="228600"/>
          </a:xfrm>
        </p:grpSpPr>
        <p:sp>
          <p:nvSpPr>
            <p:cNvPr id="202" name=""/>
            <p:cNvSpPr/>
            <p:nvPr/>
          </p:nvSpPr>
          <p:spPr>
            <a:xfrm flipH="1">
              <a:off x="2438280" y="2361960"/>
              <a:ext cx="30456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438280" y="2209680"/>
              <a:ext cx="30456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562720" y="2209680"/>
            <a:ext cx="304560" cy="228600"/>
            <a:chOff x="5562720" y="2209680"/>
            <a:chExt cx="304560" cy="228600"/>
          </a:xfrm>
        </p:grpSpPr>
        <p:sp>
          <p:nvSpPr>
            <p:cNvPr id="205" name=""/>
            <p:cNvSpPr/>
            <p:nvPr/>
          </p:nvSpPr>
          <p:spPr>
            <a:xfrm flipH="1">
              <a:off x="5562720" y="2361960"/>
              <a:ext cx="30456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562720" y="2209680"/>
              <a:ext cx="30456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828800" y="5181480"/>
                <a:ext cx="5334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ли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ямоугольник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828800" y="5791320"/>
                <a:ext cx="5689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шири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ямоугольник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514600" y="4572000"/>
                <a:ext cx="2568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лощад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05520" y="3733920"/>
                <a:ext cx="2252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ормула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годня на уроке я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л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и ощущени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78200" y="3800160"/>
            <a:ext cx="3231720" cy="2005560"/>
            <a:chOff x="5578200" y="3800160"/>
            <a:chExt cx="3231720" cy="200556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865120" y="4075200"/>
              <a:ext cx="2572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2332800">
              <a:off x="5766840" y="3886200"/>
              <a:ext cx="489240" cy="637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269600">
              <a:off x="8097120" y="3889800"/>
              <a:ext cx="481320" cy="551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668600">
              <a:off x="5715000" y="4941720"/>
              <a:ext cx="561240" cy="67644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581800">
              <a:off x="8093160" y="5028840"/>
              <a:ext cx="561240" cy="67644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7520" y="3945600"/>
              <a:ext cx="2763360" cy="1645920"/>
            </a:xfrm>
            <a:prstGeom prst="donut">
              <a:avLst>
                <a:gd name="adj" fmla="val 762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95640" y="692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06640" y="2106360"/>
            <a:ext cx="6654240" cy="4253760"/>
            <a:chOff x="1106640" y="2106360"/>
            <a:chExt cx="6654240" cy="425376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711080" y="2680560"/>
              <a:ext cx="5266800" cy="29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332800">
              <a:off x="1510200" y="2276640"/>
              <a:ext cx="1001520" cy="1361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269600">
              <a:off x="6281280" y="2284920"/>
              <a:ext cx="985680" cy="1179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668600">
              <a:off x="1402920" y="4532040"/>
              <a:ext cx="1149120" cy="144504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581800">
              <a:off x="6273360" y="4717440"/>
              <a:ext cx="1149120" cy="144504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3360" y="2403720"/>
              <a:ext cx="5658120" cy="3515760"/>
            </a:xfrm>
            <a:prstGeom prst="donut">
              <a:avLst>
                <a:gd name="adj" fmla="val 762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56520" y="676440"/>
            <a:ext cx="2514600" cy="17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mph" presetID="8" repeatCount="2000">
                                  <p:stCondLst>
                                    <p:cond delay="4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такое площад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строен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ьшое и ровно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с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городе, селе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которого обычно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ходя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азные сторо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sCAW71H2H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810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imagesCAVYDY1R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2819520" cy="1832040"/>
          </a:xfrm>
          <a:prstGeom prst="rect">
            <a:avLst/>
          </a:prstGeom>
          <a:ln w="0">
            <a:noFill/>
          </a:ln>
        </p:spPr>
      </p:pic>
      <p:pic>
        <p:nvPicPr>
          <p:cNvPr id="57" name="untitled" descr=""/>
          <p:cNvPicPr/>
          <p:nvPr/>
        </p:nvPicPr>
        <p:blipFill>
          <a:blip r:embed="rId4"/>
          <a:stretch/>
        </p:blipFill>
        <p:spPr>
          <a:xfrm>
            <a:off x="6553080" y="304920"/>
            <a:ext cx="2324160" cy="1447560"/>
          </a:xfrm>
          <a:prstGeom prst="rect">
            <a:avLst/>
          </a:prstGeom>
          <a:ln w="0">
            <a:noFill/>
          </a:ln>
        </p:spPr>
      </p:pic>
      <p:pic>
        <p:nvPicPr>
          <p:cNvPr id="58" name="imagesCARXB8SG" descr=""/>
          <p:cNvPicPr/>
          <p:nvPr/>
        </p:nvPicPr>
        <p:blipFill>
          <a:blip r:embed="rId5"/>
          <a:stretch/>
        </p:blipFill>
        <p:spPr>
          <a:xfrm>
            <a:off x="3048120" y="4724280"/>
            <a:ext cx="2628720" cy="1839960"/>
          </a:xfrm>
          <a:prstGeom prst="rect">
            <a:avLst/>
          </a:prstGeom>
          <a:ln w="0">
            <a:noFill/>
          </a:ln>
        </p:spPr>
      </p:pic>
      <p:pic>
        <p:nvPicPr>
          <p:cNvPr id="59" name="images" descr=""/>
          <p:cNvPicPr/>
          <p:nvPr/>
        </p:nvPicPr>
        <p:blipFill>
          <a:blip r:embed="rId6"/>
          <a:stretch/>
        </p:blipFill>
        <p:spPr>
          <a:xfrm>
            <a:off x="5943600" y="4343400"/>
            <a:ext cx="29606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такое площад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ранство, помещ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едназначенное для какой- нибуд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России                      площадь кварти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imagesCAEXES7I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2525760" cy="2606760"/>
          </a:xfrm>
          <a:prstGeom prst="rect">
            <a:avLst/>
          </a:prstGeom>
          <a:ln w="0">
            <a:noFill/>
          </a:ln>
        </p:spPr>
      </p:pic>
      <p:pic>
        <p:nvPicPr>
          <p:cNvPr id="63" name="imagesCACCTPGM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304920" y="228600"/>
            <a:ext cx="5786280" cy="1143000"/>
            <a:chOff x="304920" y="228600"/>
            <a:chExt cx="5786280" cy="1143000"/>
          </a:xfrm>
        </p:grpSpPr>
        <p:sp>
          <p:nvSpPr>
            <p:cNvPr id="65" name="Волна 2"/>
            <p:cNvSpPr/>
            <p:nvPr/>
          </p:nvSpPr>
          <p:spPr>
            <a:xfrm>
              <a:off x="304920" y="228600"/>
              <a:ext cx="5786280" cy="1143000"/>
            </a:xfrm>
            <a:custGeom>
              <a:avLst/>
              <a:gdLst>
                <a:gd name="textAreaLeft" fmla="*/ 530280 w 5786280"/>
                <a:gd name="textAreaRight" fmla="*/ 5256000 w 5786280"/>
                <a:gd name="textAreaTop" fmla="*/ 310680 h 1143000"/>
                <a:gd name="textAreaBottom" fmla="*/ 8323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938"/>
                  </a:moveTo>
                  <a:cubicBezTo>
                    <a:pt x="6210" y="-7470"/>
                    <a:pt x="13410" y="13346"/>
                    <a:pt x="19620" y="2938"/>
                  </a:cubicBezTo>
                  <a:lnTo>
                    <a:pt x="21600" y="18662"/>
                  </a:lnTo>
                  <a:cubicBezTo>
                    <a:pt x="15390" y="29070"/>
                    <a:pt x="8190" y="8254"/>
                    <a:pt x="1980" y="18662"/>
                  </a:cubicBezTo>
                  <a:close/>
                </a:path>
              </a:pathLst>
            </a:custGeom>
            <a:solidFill>
              <a:srgbClr val="66ff33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"/>
            <p:cNvSpPr/>
            <p:nvPr/>
          </p:nvSpPr>
          <p:spPr>
            <a:xfrm>
              <a:off x="662040" y="442800"/>
              <a:ext cx="4714920" cy="5000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99"/>
                  </a:solidFill>
                  <a:latin typeface="Verdana"/>
                </a:rPr>
                <a:t>ПЛОЩАДЬ - </a:t>
              </a:r>
              <a:r>
                <a:rPr b="1" lang="en-US" sz="2400" spc="-1" strike="noStrike">
                  <a:solidFill>
                    <a:srgbClr val="00cc99"/>
                  </a:solidFill>
                  <a:latin typeface="Verdana"/>
                </a:rPr>
                <a:t>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3"/>
          <p:cNvSpPr/>
          <p:nvPr/>
        </p:nvSpPr>
        <p:spPr>
          <a:xfrm>
            <a:off x="457200" y="3886200"/>
            <a:ext cx="295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Verdana"/>
              </a:rPr>
              <a:t>Владимир Да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124080" y="1371600"/>
            <a:ext cx="5429520" cy="243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это величина, которая указывает, сколько места занимает фигура на плоск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Рисунок3"/>
          <p:cNvPicPr/>
          <p:nvPr/>
        </p:nvPicPr>
        <p:blipFill>
          <a:blip r:embed="rId2"/>
          <a:stretch/>
        </p:blipFill>
        <p:spPr>
          <a:xfrm flipH="1">
            <a:off x="7693200" y="5334120"/>
            <a:ext cx="1450800" cy="98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5880" y="3962520"/>
            <a:ext cx="1752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сто на плос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2880" y="2209680"/>
            <a:ext cx="3276720" cy="3200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209680"/>
            <a:ext cx="3276720" cy="3200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10080" y="3429000"/>
            <a:ext cx="243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ощадь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057400"/>
            <a:ext cx="3886200" cy="3886200"/>
          </a:xfrm>
          <a:custGeom>
            <a:avLst/>
            <a:gdLst>
              <a:gd name="textAreaLeft" fmla="*/ 887040 w 3886200"/>
              <a:gd name="textAreaRight" fmla="*/ 2999160 w 3886200"/>
              <a:gd name="textAreaTop" fmla="*/ 887040 h 3886200"/>
              <a:gd name="textAreaBottom" fmla="*/ 29991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057400"/>
            <a:ext cx="3886200" cy="3886200"/>
          </a:xfrm>
          <a:custGeom>
            <a:avLst/>
            <a:gdLst>
              <a:gd name="textAreaLeft" fmla="*/ 887040 w 3886200"/>
              <a:gd name="textAreaRight" fmla="*/ 2999160 w 3886200"/>
              <a:gd name="textAreaTop" fmla="*/ 887040 h 3886200"/>
              <a:gd name="textAreaBottom" fmla="*/ 29991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95280" y="34290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щад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лощадь геометрических фиг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его-нибудь, в длину и ширину, измеряемая в квадратных единиц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ловарь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imagesCANKT63R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1833480" cy="1960560"/>
          </a:xfrm>
          <a:prstGeom prst="rect">
            <a:avLst/>
          </a:prstGeom>
          <a:ln w="0">
            <a:noFill/>
          </a:ln>
        </p:spPr>
      </p:pic>
      <p:pic>
        <p:nvPicPr>
          <p:cNvPr id="83" name="imagesCAK8Y49I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3440160" cy="1920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CAJMDBOA" descr=""/>
          <p:cNvPicPr/>
          <p:nvPr/>
        </p:nvPicPr>
        <p:blipFill>
          <a:blip r:embed="rId4"/>
          <a:stretch/>
        </p:blipFill>
        <p:spPr>
          <a:xfrm>
            <a:off x="3581280" y="5486400"/>
            <a:ext cx="247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2952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2096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2096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096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2952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2952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808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880"/>
            <a:ext cx="9144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2096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2096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2096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295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808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808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808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2952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209680"/>
            <a:ext cx="914400" cy="914400"/>
          </a:xfrm>
          <a:prstGeom prst="rect">
            <a:avLst/>
          </a:prstGeom>
          <a:solidFill>
            <a:srgbClr val="0000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89160" y="3614760"/>
            <a:ext cx="6305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ощадь фигуры - величин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60240" y="4267080"/>
            <a:ext cx="79250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вадраты одинаковой площади -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диницы измерения (мерки)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5715000"/>
            <a:ext cx="797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олученные числа - меры величины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0440" y="70632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0960" y="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947960" y="140004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81720" y="1378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solidFill>
            <a:srgbClr val="f1fb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вадратный сантиметр –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это площадь квадратика, сторона которого равна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1с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9718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05320" y="3733920"/>
                <a:ext cx="609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7080" y="3048120"/>
                <a:ext cx="609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3124080"/>
                <a:ext cx="533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05320" y="251460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066680" y="4876920"/>
            <a:ext cx="6553440" cy="459720"/>
          </a:xfrm>
          <a:prstGeom prst="rect">
            <a:avLst/>
          </a:prstGeom>
          <a:solidFill>
            <a:srgbClr val="e5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рисуйте квадратный сантимет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2362320"/>
            <a:ext cx="2689200" cy="1871640"/>
          </a:xfrm>
          <a:custGeom>
            <a:avLst/>
            <a:gdLst/>
            <a:ahLst/>
            <a:rect l="l" t="t" r="r" b="b"/>
            <a:pathLst>
              <a:path w="1746" h="1179">
                <a:moveTo>
                  <a:pt x="4" y="769"/>
                </a:moveTo>
                <a:lnTo>
                  <a:pt x="6" y="0"/>
                </a:lnTo>
                <a:lnTo>
                  <a:pt x="446" y="0"/>
                </a:lnTo>
                <a:lnTo>
                  <a:pt x="438" y="769"/>
                </a:lnTo>
                <a:lnTo>
                  <a:pt x="1741" y="778"/>
                </a:lnTo>
                <a:lnTo>
                  <a:pt x="1746" y="1179"/>
                </a:lnTo>
                <a:lnTo>
                  <a:pt x="0" y="1162"/>
                </a:lnTo>
                <a:lnTo>
                  <a:pt x="4" y="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змерение площадей других фиг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9144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990720"/>
                <a:ext cx="71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522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5715000"/>
            <a:ext cx="685800" cy="63648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724280"/>
            <a:ext cx="685800" cy="636840"/>
          </a:xfrm>
          <a:custGeom>
            <a:avLst/>
            <a:gdLst/>
            <a:ahLst/>
            <a:rect l="l" t="t" r="r" b="b"/>
            <a:pathLst>
              <a:path w="1920" h="675">
                <a:moveTo>
                  <a:pt x="0" y="672"/>
                </a:moveTo>
                <a:lnTo>
                  <a:pt x="0" y="1"/>
                </a:lnTo>
                <a:lnTo>
                  <a:pt x="1920" y="0"/>
                </a:lnTo>
                <a:lnTo>
                  <a:pt x="1905" y="675"/>
                </a:lnTo>
                <a:lnTo>
                  <a:pt x="0" y="67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9907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рить площадь фигуры – это значит сравнить ее с квадратным сантимет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2860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этого выясним. Сколько раз квадратный сантиметр уложится на 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43000" y="4419720"/>
                <a:ext cx="20574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2:26:47Z</dcterms:created>
  <dc:creator>Игорь</dc:creator>
  <dc:description/>
  <dc:language>en-US</dc:language>
  <cp:lastModifiedBy>Игорь</cp:lastModifiedBy>
  <dcterms:modified xsi:type="dcterms:W3CDTF">2011-01-17T07:57:42Z</dcterms:modified>
  <cp:revision>7</cp:revision>
  <dc:subject/>
  <dc:title>Площадь</dc:title>
</cp:coreProperties>
</file>