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912-6287-49F1-BAA1-3744E288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97B-C120-43CB-8570-E43114F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D5F-A013-4E1C-8756-88C6254F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F3F-8913-4935-8C3D-7A15F36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0BD0-EB58-469D-B5C9-07DF4ACC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395-BF73-4B36-BE6F-76F8A744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ED6A-ADDD-428D-A8AA-FB5FF3E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64C-098A-4759-9FAF-FE4D37D6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059-3B6A-4D26-BF43-A140C1FE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3C38-48C9-432E-89F6-640261D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3495-CEA5-44E7-A16C-6B6F096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024-02AB-46AE-8C3E-6231CEBA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9269-8C3B-4CA4-83F5-5FB6419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170D-9C30-472D-9D57-1B041A8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99E-DF9C-43F3-89DD-DF3D21F6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DE85-66A9-44E3-A691-B1804905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83E0-9053-49DC-ABB7-E4CB1EDC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D10-3F77-4D1D-98BE-98CCEEB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729-722D-4757-B6CC-8CB5C1A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340-2177-43E2-8BF3-7FE13A4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C50-9251-415B-8C47-002C1F49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6CA-E2FE-4B0B-80A7-22BD9B9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77F-C7C4-4C7B-9CA9-4B772D3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F37-DB15-4624-802C-E43C7B3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9944-5974-48DF-BFF3-38BE508E1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F4E5-C6DF-4F6D-AB8C-E4D7B2B0B5E9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468360" y="692280"/>
            <a:ext cx="7488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строение чертежа ночной сорочк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цельнокроеным рукавом  в М 1:4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Picture 5" descr="fon_bul"/>
          <p:cNvPicPr/>
          <p:nvPr/>
        </p:nvPicPr>
        <p:blipFill>
          <a:blip r:embed="rId6"/>
          <a:stretch/>
        </p:blipFill>
        <p:spPr>
          <a:xfrm>
            <a:off x="6372360" y="0"/>
            <a:ext cx="17049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fon_bul"/>
          <p:cNvPicPr/>
          <p:nvPr/>
        </p:nvPicPr>
        <p:blipFill>
          <a:blip r:embed="rId7"/>
          <a:stretch/>
        </p:blipFill>
        <p:spPr>
          <a:xfrm>
            <a:off x="4572000" y="0"/>
            <a:ext cx="170496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fon_bul"/>
          <p:cNvPicPr/>
          <p:nvPr/>
        </p:nvPicPr>
        <p:blipFill>
          <a:blip r:embed="rId8"/>
          <a:stretch/>
        </p:blipFill>
        <p:spPr>
          <a:xfrm>
            <a:off x="2771640" y="0"/>
            <a:ext cx="1704960" cy="38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fon_bul"/>
          <p:cNvPicPr/>
          <p:nvPr/>
        </p:nvPicPr>
        <p:blipFill>
          <a:blip r:embed="rId9"/>
          <a:stretch/>
        </p:blipFill>
        <p:spPr>
          <a:xfrm>
            <a:off x="900000" y="0"/>
            <a:ext cx="170496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fon_bul"/>
          <p:cNvPicPr/>
          <p:nvPr/>
        </p:nvPicPr>
        <p:blipFill>
          <a:blip r:embed="rId10"/>
          <a:stretch/>
        </p:blipFill>
        <p:spPr>
          <a:xfrm>
            <a:off x="5003640" y="6477120"/>
            <a:ext cx="1632240" cy="380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0" y="6381720"/>
            <a:ext cx="42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9" name="Picture 12" descr="fon_bul"/>
          <p:cNvPicPr/>
          <p:nvPr/>
        </p:nvPicPr>
        <p:blipFill>
          <a:blip r:embed="rId11"/>
          <a:stretch/>
        </p:blipFill>
        <p:spPr>
          <a:xfrm>
            <a:off x="3276720" y="6477120"/>
            <a:ext cx="1631880" cy="38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fon_bul"/>
          <p:cNvPicPr/>
          <p:nvPr/>
        </p:nvPicPr>
        <p:blipFill>
          <a:blip r:embed="rId12"/>
          <a:stretch/>
        </p:blipFill>
        <p:spPr>
          <a:xfrm>
            <a:off x="1619280" y="6477120"/>
            <a:ext cx="163188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fon_bul"/>
          <p:cNvPicPr/>
          <p:nvPr/>
        </p:nvPicPr>
        <p:blipFill>
          <a:blip r:embed="rId13"/>
          <a:stretch/>
        </p:blipFill>
        <p:spPr>
          <a:xfrm>
            <a:off x="0" y="6477120"/>
            <a:ext cx="1631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fon_bul"/>
          <p:cNvPicPr/>
          <p:nvPr/>
        </p:nvPicPr>
        <p:blipFill>
          <a:blip r:embed="rId14"/>
          <a:stretch/>
        </p:blipFill>
        <p:spPr>
          <a:xfrm>
            <a:off x="7439040" y="6477120"/>
            <a:ext cx="170496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fon_bul"/>
          <p:cNvPicPr/>
          <p:nvPr/>
        </p:nvPicPr>
        <p:blipFill>
          <a:blip r:embed="rId15"/>
          <a:stretch/>
        </p:blipFill>
        <p:spPr>
          <a:xfrm>
            <a:off x="0" y="0"/>
            <a:ext cx="163188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fon_bul"/>
          <p:cNvPicPr/>
          <p:nvPr/>
        </p:nvPicPr>
        <p:blipFill>
          <a:blip r:embed="rId16"/>
          <a:stretch/>
        </p:blipFill>
        <p:spPr>
          <a:xfrm>
            <a:off x="6357960" y="6477120"/>
            <a:ext cx="1631880" cy="38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fon_bul"/>
          <p:cNvPicPr/>
          <p:nvPr/>
        </p:nvPicPr>
        <p:blipFill>
          <a:blip r:embed="rId17"/>
          <a:stretch/>
        </p:blipFill>
        <p:spPr>
          <a:xfrm>
            <a:off x="7512120" y="0"/>
            <a:ext cx="1631880" cy="3808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20"/>
          <p:cNvGrpSpPr/>
          <p:nvPr/>
        </p:nvGrpSpPr>
        <p:grpSpPr>
          <a:xfrm>
            <a:off x="4048200" y="3342960"/>
            <a:ext cx="2990880" cy="3338640"/>
            <a:chOff x="4048200" y="3342960"/>
            <a:chExt cx="2990880" cy="3338640"/>
          </a:xfrm>
        </p:grpSpPr>
        <p:sp>
          <p:nvSpPr>
            <p:cNvPr id="207" name="Freeform 21"/>
            <p:cNvSpPr/>
            <p:nvPr/>
          </p:nvSpPr>
          <p:spPr>
            <a:xfrm rot="19461000">
              <a:off x="4787640" y="3499920"/>
              <a:ext cx="1511280" cy="30243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3024360"/>
                <a:gd name="textAreaBottom" fmla="*/ 3024720 h 3024360"/>
              </a:gdLst>
              <a:ahLst/>
              <a:rect l="textAreaLeft" t="textAreaTop" r="textAreaRight" b="textAreaBottom"/>
              <a:pathLst>
                <a:path w="1768" h="3576">
                  <a:moveTo>
                    <a:pt x="312" y="0"/>
                  </a:moveTo>
                  <a:lnTo>
                    <a:pt x="0" y="128"/>
                  </a:lnTo>
                  <a:lnTo>
                    <a:pt x="1480" y="3576"/>
                  </a:lnTo>
                  <a:lnTo>
                    <a:pt x="1768" y="3432"/>
                  </a:lnTo>
                  <a:lnTo>
                    <a:pt x="312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 rot="19461000">
              <a:off x="4309920" y="4226760"/>
              <a:ext cx="77400" cy="74880"/>
            </a:xfrm>
            <a:prstGeom prst="ellipse">
              <a:avLst/>
            </a:prstGeom>
            <a:solidFill>
              <a:srgbClr val="fff8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209" name="Group 30"/>
          <p:cNvGrpSpPr/>
          <p:nvPr/>
        </p:nvGrpSpPr>
        <p:grpSpPr>
          <a:xfrm>
            <a:off x="6351120" y="4150440"/>
            <a:ext cx="797400" cy="1225800"/>
            <a:chOff x="6351120" y="4150440"/>
            <a:chExt cx="797400" cy="1225800"/>
          </a:xfrm>
        </p:grpSpPr>
        <p:sp>
          <p:nvSpPr>
            <p:cNvPr id="210" name="Freeform 31"/>
            <p:cNvSpPr/>
            <p:nvPr/>
          </p:nvSpPr>
          <p:spPr>
            <a:xfrm flipH="1" rot="898200">
              <a:off x="6518520" y="4193640"/>
              <a:ext cx="485640" cy="1139040"/>
            </a:xfrm>
            <a:custGeom>
              <a:avLst/>
              <a:gdLst>
                <a:gd name="textAreaLeft" fmla="*/ -360 w 485640"/>
                <a:gd name="textAreaRight" fmla="*/ 485640 w 485640"/>
                <a:gd name="textAreaTop" fmla="*/ 0 h 1139040"/>
                <a:gd name="textAreaBottom" fmla="*/ 1139040 h 1139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11" name="Freeform 32"/>
            <p:cNvSpPr/>
            <p:nvPr/>
          </p:nvSpPr>
          <p:spPr>
            <a:xfrm flipH="1" rot="898200">
              <a:off x="6377040" y="5060520"/>
              <a:ext cx="122400" cy="2214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8e2"/>
                </a:gs>
                <a:gs pos="50000">
                  <a:srgbClr val="ff9900"/>
                </a:gs>
                <a:gs pos="100000">
                  <a:srgbClr val="fff8e2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12" name="Freeform 33"/>
            <p:cNvSpPr/>
            <p:nvPr/>
          </p:nvSpPr>
          <p:spPr>
            <a:xfrm flipH="1" rot="898200">
              <a:off x="6369120" y="5175360"/>
              <a:ext cx="46440" cy="83880"/>
            </a:xfrm>
            <a:custGeom>
              <a:avLst/>
              <a:gdLst>
                <a:gd name="textAreaLeft" fmla="*/ -360 w 46440"/>
                <a:gd name="textAreaRight" fmla="*/ 46440 w 46440"/>
                <a:gd name="textAreaTop" fmla="*/ 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213" name="Group 34"/>
            <p:cNvGrpSpPr/>
            <p:nvPr/>
          </p:nvGrpSpPr>
          <p:grpSpPr>
            <a:xfrm>
              <a:off x="6450120" y="4170600"/>
              <a:ext cx="698400" cy="1028880"/>
              <a:chOff x="6450120" y="4170600"/>
              <a:chExt cx="698400" cy="1028880"/>
            </a:xfrm>
          </p:grpSpPr>
          <p:sp>
            <p:nvSpPr>
              <p:cNvPr id="214" name="Freeform 35"/>
              <p:cNvSpPr/>
              <p:nvPr/>
            </p:nvSpPr>
            <p:spPr>
              <a:xfrm flipH="1" rot="898200">
                <a:off x="6565680" y="4209120"/>
                <a:ext cx="424080" cy="951480"/>
              </a:xfrm>
              <a:custGeom>
                <a:avLst/>
                <a:gdLst>
                  <a:gd name="textAreaLeft" fmla="*/ 360 w 424080"/>
                  <a:gd name="textAreaRight" fmla="*/ 424800 w 424080"/>
                  <a:gd name="textAreaTop" fmla="*/ 0 h 951480"/>
                  <a:gd name="textAreaBottom" fmla="*/ 951840 h 9514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5" name="Freeform 36"/>
              <p:cNvSpPr/>
              <p:nvPr/>
            </p:nvSpPr>
            <p:spPr>
              <a:xfrm flipH="1" rot="19181400">
                <a:off x="7097760" y="4241880"/>
                <a:ext cx="25200" cy="882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Freeform 37"/>
          <p:cNvSpPr/>
          <p:nvPr/>
        </p:nvSpPr>
        <p:spPr>
          <a:xfrm rot="8814600">
            <a:off x="4572000" y="3212280"/>
            <a:ext cx="1341360" cy="21114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49400" y="5192640"/>
            <a:ext cx="5862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ЕХНОЛОГИЯ  7 класс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дел «Конструирование и моделирование плечевых изделий»                                                                       Титова Наталия Владимировна - учитель технологии  МОАУСОШ №5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олилиния 99"/>
          <p:cNvSpPr/>
          <p:nvPr/>
        </p:nvSpPr>
        <p:spPr>
          <a:xfrm>
            <a:off x="6143760" y="3892680"/>
            <a:ext cx="857160" cy="142920"/>
          </a:xfrm>
          <a:custGeom>
            <a:avLst/>
            <a:gdLst/>
            <a:ahLst/>
            <a:rect l="l" t="t" r="r" b="b"/>
            <a:pathLst>
              <a:path w="1102407" h="239282">
                <a:moveTo>
                  <a:pt x="1102407" y="0"/>
                </a:moveTo>
                <a:cubicBezTo>
                  <a:pt x="925794" y="65518"/>
                  <a:pt x="756303" y="156673"/>
                  <a:pt x="572568" y="196553"/>
                </a:cubicBezTo>
                <a:cubicBezTo>
                  <a:pt x="388833" y="236433"/>
                  <a:pt x="95428" y="232161"/>
                  <a:pt x="0" y="239282"/>
                </a:cubicBezTo>
                <a:lnTo>
                  <a:pt x="0" y="239282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1" name="Line 15"/>
          <p:cNvSpPr/>
          <p:nvPr/>
        </p:nvSpPr>
        <p:spPr>
          <a:xfrm>
            <a:off x="5429160" y="4046400"/>
            <a:ext cx="1584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2" name="Полилиния 75"/>
          <p:cNvSpPr/>
          <p:nvPr/>
        </p:nvSpPr>
        <p:spPr>
          <a:xfrm>
            <a:off x="6153120" y="5443560"/>
            <a:ext cx="1101600" cy="239760"/>
          </a:xfrm>
          <a:custGeom>
            <a:avLst/>
            <a:gdLst/>
            <a:ahLst/>
            <a:rect l="l" t="t" r="r" b="b"/>
            <a:pathLst>
              <a:path w="1102407" h="239282">
                <a:moveTo>
                  <a:pt x="1102407" y="0"/>
                </a:moveTo>
                <a:cubicBezTo>
                  <a:pt x="925794" y="65518"/>
                  <a:pt x="756303" y="156673"/>
                  <a:pt x="572568" y="196553"/>
                </a:cubicBezTo>
                <a:cubicBezTo>
                  <a:pt x="388833" y="236433"/>
                  <a:pt x="95428" y="232161"/>
                  <a:pt x="0" y="239282"/>
                </a:cubicBezTo>
                <a:lnTo>
                  <a:pt x="0" y="239282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3" name="Line 16"/>
          <p:cNvSpPr/>
          <p:nvPr/>
        </p:nvSpPr>
        <p:spPr>
          <a:xfrm>
            <a:off x="6929280" y="3571920"/>
            <a:ext cx="357480" cy="2143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4" name="Line 16"/>
          <p:cNvSpPr/>
          <p:nvPr/>
        </p:nvSpPr>
        <p:spPr>
          <a:xfrm flipH="1">
            <a:off x="6929280" y="2992320"/>
            <a:ext cx="596880" cy="5796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Прямоугольник 5"/>
          <p:cNvSpPr/>
          <p:nvPr/>
        </p:nvSpPr>
        <p:spPr>
          <a:xfrm>
            <a:off x="243000" y="552600"/>
            <a:ext cx="3495600" cy="1584000"/>
          </a:xfrm>
          <a:prstGeom prst="rect">
            <a:avLst/>
          </a:prstGeom>
          <a:solidFill>
            <a:srgbClr val="d3ecdb"/>
          </a:solidFill>
          <a:ln w="25560">
            <a:solidFill>
              <a:srgbClr val="357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Необходимые мерки: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Сг</a:t>
            </a:r>
            <a:r>
              <a:rPr b="1" lang="en-US" sz="1400" spc="-1" strike="noStrike">
                <a:solidFill>
                  <a:srgbClr val="3024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= 48 см;      Дтс = 38 см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Оп = 28 см;   Сш = 18 см;  Ди = 80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рибавки: Пг = 6…8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оп = 5…7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53800" y="2678040"/>
            <a:ext cx="410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строение линии тали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5240160" y="1674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0" name="Овал 10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1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6786720" y="16430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3" name="Овал 13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500076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6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9" name="Овал 19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0" name="Овал 20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5715000" y="167148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Овал 22"/>
          <p:cNvSpPr/>
          <p:nvPr/>
        </p:nvSpPr>
        <p:spPr>
          <a:xfrm>
            <a:off x="5386320" y="221472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4929120" y="200016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4" name="Дуга 24"/>
          <p:cNvSpPr/>
          <p:nvPr/>
        </p:nvSpPr>
        <p:spPr>
          <a:xfrm rot="6703800">
            <a:off x="5207040" y="158256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4929120" y="22860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Дуга 26"/>
          <p:cNvSpPr/>
          <p:nvPr/>
        </p:nvSpPr>
        <p:spPr>
          <a:xfrm rot="6703800">
            <a:off x="5021280" y="1671480"/>
            <a:ext cx="118404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7" name="Овал 27"/>
          <p:cNvSpPr/>
          <p:nvPr/>
        </p:nvSpPr>
        <p:spPr>
          <a:xfrm>
            <a:off x="5840280" y="203508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8" name="Овал 28"/>
          <p:cNvSpPr/>
          <p:nvPr/>
        </p:nvSpPr>
        <p:spPr>
          <a:xfrm>
            <a:off x="5380200" y="2494080"/>
            <a:ext cx="77760" cy="7776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Овал 29"/>
          <p:cNvSpPr/>
          <p:nvPr/>
        </p:nvSpPr>
        <p:spPr>
          <a:xfrm>
            <a:off x="6886440" y="294804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0" name="Text Box 17"/>
          <p:cNvSpPr/>
          <p:nvPr/>
        </p:nvSpPr>
        <p:spPr>
          <a:xfrm>
            <a:off x="6580080" y="2606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1" name="Line 15"/>
          <p:cNvSpPr/>
          <p:nvPr/>
        </p:nvSpPr>
        <p:spPr>
          <a:xfrm>
            <a:off x="5429160" y="298296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2" name="Овал 32"/>
          <p:cNvSpPr/>
          <p:nvPr/>
        </p:nvSpPr>
        <p:spPr>
          <a:xfrm>
            <a:off x="7500960" y="202572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7358040" y="16686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6929280" y="2071800"/>
            <a:ext cx="57168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7535880" y="2071800"/>
            <a:ext cx="0" cy="9363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7537320" y="26179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7" name="Овал 37"/>
          <p:cNvSpPr/>
          <p:nvPr/>
        </p:nvSpPr>
        <p:spPr>
          <a:xfrm>
            <a:off x="7500960" y="2936880"/>
            <a:ext cx="712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28" name="Прямоугольник 38" descr=""/>
          <p:cNvPicPr/>
          <p:nvPr/>
        </p:nvPicPr>
        <p:blipFill>
          <a:blip r:embed="rId1"/>
          <a:stretch/>
        </p:blipFill>
        <p:spPr>
          <a:xfrm>
            <a:off x="493560" y="0"/>
            <a:ext cx="7328160" cy="658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85840" y="3571560"/>
            <a:ext cx="26431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21. </a:t>
            </a:r>
            <a:r>
              <a:rPr b="0" lang="ru-RU" sz="2000" spc="-1" strike="noStrike">
                <a:solidFill>
                  <a:srgbClr val="663300"/>
                </a:solidFill>
                <a:latin typeface="Lucida Sans Unicode"/>
                <a:ea typeface="Lucida Sans Unicode"/>
              </a:rPr>
              <a:t>↓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ВТ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0" name="Овал 43"/>
          <p:cNvSpPr/>
          <p:nvPr/>
        </p:nvSpPr>
        <p:spPr>
          <a:xfrm>
            <a:off x="6894360" y="350352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561000" y="32497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2" name="Овал 49"/>
          <p:cNvSpPr/>
          <p:nvPr/>
        </p:nvSpPr>
        <p:spPr>
          <a:xfrm>
            <a:off x="7215120" y="321480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7207200" y="320688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4" name="Line 15"/>
          <p:cNvSpPr/>
          <p:nvPr/>
        </p:nvSpPr>
        <p:spPr>
          <a:xfrm>
            <a:off x="7172280" y="3178080"/>
            <a:ext cx="71640" cy="716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6935760" y="285264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6" name="Овал 55"/>
          <p:cNvSpPr/>
          <p:nvPr/>
        </p:nvSpPr>
        <p:spPr>
          <a:xfrm>
            <a:off x="7107120" y="311796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7" name="Полилиния 58"/>
          <p:cNvSpPr/>
          <p:nvPr/>
        </p:nvSpPr>
        <p:spPr>
          <a:xfrm>
            <a:off x="6939000" y="2982960"/>
            <a:ext cx="590400" cy="571320"/>
          </a:xfrm>
          <a:custGeom>
            <a:avLst/>
            <a:gdLst/>
            <a:ahLst/>
            <a:rect l="l" t="t" r="r" b="b"/>
            <a:pathLst>
              <a:path w="589660" h="572568">
                <a:moveTo>
                  <a:pt x="0" y="572568"/>
                </a:moveTo>
                <a:cubicBezTo>
                  <a:pt x="68366" y="435835"/>
                  <a:pt x="108247" y="257798"/>
                  <a:pt x="205099" y="162370"/>
                </a:cubicBezTo>
                <a:cubicBezTo>
                  <a:pt x="301951" y="66942"/>
                  <a:pt x="517021" y="27062"/>
                  <a:pt x="581114" y="0"/>
                </a:cubicBezTo>
                <a:lnTo>
                  <a:pt x="589660" y="0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6929280" y="5689440"/>
            <a:ext cx="32400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9" name="Овал 61"/>
          <p:cNvSpPr/>
          <p:nvPr/>
        </p:nvSpPr>
        <p:spPr>
          <a:xfrm>
            <a:off x="7230960" y="5643720"/>
            <a:ext cx="730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7108920" y="572292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1" name="Овал 67"/>
          <p:cNvSpPr/>
          <p:nvPr/>
        </p:nvSpPr>
        <p:spPr>
          <a:xfrm>
            <a:off x="7215120" y="542916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7215120" y="5214960"/>
            <a:ext cx="428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3" name="Овал 70"/>
          <p:cNvSpPr/>
          <p:nvPr/>
        </p:nvSpPr>
        <p:spPr>
          <a:xfrm>
            <a:off x="6143760" y="5651640"/>
            <a:ext cx="71280" cy="7272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6000840" y="571500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5" name="Овал 82"/>
          <p:cNvSpPr/>
          <p:nvPr/>
        </p:nvSpPr>
        <p:spPr>
          <a:xfrm>
            <a:off x="5386320" y="400068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000760" y="3786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85480" y="3928680"/>
            <a:ext cx="4714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Провести прямую, отметить (.) 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и (.) 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8" name="Овал 86"/>
          <p:cNvSpPr/>
          <p:nvPr/>
        </p:nvSpPr>
        <p:spPr>
          <a:xfrm>
            <a:off x="6900840" y="401148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Овал 88"/>
          <p:cNvSpPr/>
          <p:nvPr/>
        </p:nvSpPr>
        <p:spPr>
          <a:xfrm>
            <a:off x="6985080" y="401004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6778800" y="402912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6950160" y="403560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85840" y="4285800"/>
            <a:ext cx="26431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22. 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3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= 1,5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Овал 92"/>
          <p:cNvSpPr/>
          <p:nvPr/>
        </p:nvSpPr>
        <p:spPr>
          <a:xfrm>
            <a:off x="6959520" y="386568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6950160" y="374976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85480" y="4714560"/>
            <a:ext cx="45003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23. Т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1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разделить пополам</a:t>
            </a:r>
            <a:r>
              <a:rPr b="0" lang="ru-RU" sz="2000" spc="-1" strike="noStrike">
                <a:solidFill>
                  <a:srgbClr val="663300"/>
                </a:solidFill>
                <a:latin typeface="Cambria Math"/>
                <a:ea typeface="Cambria Math"/>
              </a:rPr>
              <a:t>⇒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(.) 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6" name="Овал 95"/>
          <p:cNvSpPr/>
          <p:nvPr/>
        </p:nvSpPr>
        <p:spPr>
          <a:xfrm>
            <a:off x="6143760" y="40053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6035760" y="405432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85480" y="5143320"/>
            <a:ext cx="45003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24. Соединить  Т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Т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99680" y="1499760"/>
            <a:ext cx="380988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Обвести контур  чертежа ночной сорочки сплошной основной и штриховой линиями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0" name="Полилиния 31"/>
          <p:cNvSpPr/>
          <p:nvPr/>
        </p:nvSpPr>
        <p:spPr>
          <a:xfrm>
            <a:off x="6143760" y="3892680"/>
            <a:ext cx="857160" cy="142920"/>
          </a:xfrm>
          <a:custGeom>
            <a:avLst/>
            <a:gdLst/>
            <a:ahLst/>
            <a:rect l="l" t="t" r="r" b="b"/>
            <a:pathLst>
              <a:path w="1102407" h="239282">
                <a:moveTo>
                  <a:pt x="1102407" y="0"/>
                </a:moveTo>
                <a:cubicBezTo>
                  <a:pt x="925794" y="65518"/>
                  <a:pt x="756303" y="156673"/>
                  <a:pt x="572568" y="196553"/>
                </a:cubicBezTo>
                <a:cubicBezTo>
                  <a:pt x="388833" y="236433"/>
                  <a:pt x="95428" y="232161"/>
                  <a:pt x="0" y="239282"/>
                </a:cubicBezTo>
                <a:lnTo>
                  <a:pt x="0" y="239282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5429160" y="4046400"/>
            <a:ext cx="1584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2" name="Полилиния 33"/>
          <p:cNvSpPr/>
          <p:nvPr/>
        </p:nvSpPr>
        <p:spPr>
          <a:xfrm>
            <a:off x="6153120" y="5443560"/>
            <a:ext cx="1101600" cy="239760"/>
          </a:xfrm>
          <a:custGeom>
            <a:avLst/>
            <a:gdLst/>
            <a:ahLst/>
            <a:rect l="l" t="t" r="r" b="b"/>
            <a:pathLst>
              <a:path w="1102407" h="239282">
                <a:moveTo>
                  <a:pt x="1102407" y="0"/>
                </a:moveTo>
                <a:cubicBezTo>
                  <a:pt x="925794" y="65518"/>
                  <a:pt x="756303" y="156673"/>
                  <a:pt x="572568" y="196553"/>
                </a:cubicBezTo>
                <a:cubicBezTo>
                  <a:pt x="388833" y="236433"/>
                  <a:pt x="95428" y="232161"/>
                  <a:pt x="0" y="239282"/>
                </a:cubicBezTo>
                <a:lnTo>
                  <a:pt x="0" y="239282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3" name="Line 16"/>
          <p:cNvSpPr/>
          <p:nvPr/>
        </p:nvSpPr>
        <p:spPr>
          <a:xfrm>
            <a:off x="6929280" y="3571920"/>
            <a:ext cx="357480" cy="2143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Line 16"/>
          <p:cNvSpPr/>
          <p:nvPr/>
        </p:nvSpPr>
        <p:spPr>
          <a:xfrm flipH="1">
            <a:off x="6929280" y="2992320"/>
            <a:ext cx="596880" cy="5796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6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5240160" y="1674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8" name="Овал 40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6786720" y="16430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1" name="Овал 46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2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500076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4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7" name="Овал 56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8" name="Овал 58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715000" y="167148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0" name="Овал 60"/>
          <p:cNvSpPr/>
          <p:nvPr/>
        </p:nvSpPr>
        <p:spPr>
          <a:xfrm>
            <a:off x="5386320" y="221472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4929120" y="200016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2" name="Дуга 62"/>
          <p:cNvSpPr/>
          <p:nvPr/>
        </p:nvSpPr>
        <p:spPr>
          <a:xfrm rot="6703800">
            <a:off x="5207040" y="158256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29120" y="22860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Дуга 64"/>
          <p:cNvSpPr/>
          <p:nvPr/>
        </p:nvSpPr>
        <p:spPr>
          <a:xfrm rot="6703800">
            <a:off x="5021280" y="1671480"/>
            <a:ext cx="118404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5" name="Овал 65"/>
          <p:cNvSpPr/>
          <p:nvPr/>
        </p:nvSpPr>
        <p:spPr>
          <a:xfrm>
            <a:off x="5840280" y="203508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Овал 66"/>
          <p:cNvSpPr/>
          <p:nvPr/>
        </p:nvSpPr>
        <p:spPr>
          <a:xfrm>
            <a:off x="5380200" y="2494080"/>
            <a:ext cx="77760" cy="7776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7" name="Овал 67"/>
          <p:cNvSpPr/>
          <p:nvPr/>
        </p:nvSpPr>
        <p:spPr>
          <a:xfrm>
            <a:off x="6886440" y="294804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6580080" y="2606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5429160" y="298296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0" name="Овал 70"/>
          <p:cNvSpPr/>
          <p:nvPr/>
        </p:nvSpPr>
        <p:spPr>
          <a:xfrm>
            <a:off x="7500960" y="202572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7358040" y="16686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>
            <a:off x="6929280" y="2071800"/>
            <a:ext cx="57168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7535880" y="2071800"/>
            <a:ext cx="0" cy="9363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7537320" y="26179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5" name="Овал 75"/>
          <p:cNvSpPr/>
          <p:nvPr/>
        </p:nvSpPr>
        <p:spPr>
          <a:xfrm>
            <a:off x="7500960" y="2936880"/>
            <a:ext cx="712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6" name="Овал 76"/>
          <p:cNvSpPr/>
          <p:nvPr/>
        </p:nvSpPr>
        <p:spPr>
          <a:xfrm>
            <a:off x="6894360" y="350352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6561000" y="32497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8" name="Овал 78"/>
          <p:cNvSpPr/>
          <p:nvPr/>
        </p:nvSpPr>
        <p:spPr>
          <a:xfrm>
            <a:off x="7215120" y="321480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7207200" y="320688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7172280" y="3178080"/>
            <a:ext cx="71640" cy="716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6935760" y="285264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2" name="Овал 82"/>
          <p:cNvSpPr/>
          <p:nvPr/>
        </p:nvSpPr>
        <p:spPr>
          <a:xfrm>
            <a:off x="7107120" y="311796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3" name="Полилиния 83"/>
          <p:cNvSpPr/>
          <p:nvPr/>
        </p:nvSpPr>
        <p:spPr>
          <a:xfrm>
            <a:off x="6939000" y="2982960"/>
            <a:ext cx="590400" cy="571320"/>
          </a:xfrm>
          <a:custGeom>
            <a:avLst/>
            <a:gdLst/>
            <a:ahLst/>
            <a:rect l="l" t="t" r="r" b="b"/>
            <a:pathLst>
              <a:path w="589660" h="572568">
                <a:moveTo>
                  <a:pt x="0" y="572568"/>
                </a:moveTo>
                <a:cubicBezTo>
                  <a:pt x="68366" y="435835"/>
                  <a:pt x="108247" y="257798"/>
                  <a:pt x="205099" y="162370"/>
                </a:cubicBezTo>
                <a:cubicBezTo>
                  <a:pt x="301951" y="66942"/>
                  <a:pt x="517021" y="27062"/>
                  <a:pt x="581114" y="0"/>
                </a:cubicBezTo>
                <a:lnTo>
                  <a:pt x="589660" y="0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6929280" y="5689440"/>
            <a:ext cx="32400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Овал 85"/>
          <p:cNvSpPr/>
          <p:nvPr/>
        </p:nvSpPr>
        <p:spPr>
          <a:xfrm>
            <a:off x="7230960" y="5643720"/>
            <a:ext cx="730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7108920" y="572292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7" name="Овал 87"/>
          <p:cNvSpPr/>
          <p:nvPr/>
        </p:nvSpPr>
        <p:spPr>
          <a:xfrm>
            <a:off x="7215120" y="542916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7215120" y="5214960"/>
            <a:ext cx="428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9" name="Овал 89"/>
          <p:cNvSpPr/>
          <p:nvPr/>
        </p:nvSpPr>
        <p:spPr>
          <a:xfrm>
            <a:off x="6143760" y="5651640"/>
            <a:ext cx="71280" cy="7272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6000840" y="571500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1" name="Овал 91"/>
          <p:cNvSpPr/>
          <p:nvPr/>
        </p:nvSpPr>
        <p:spPr>
          <a:xfrm>
            <a:off x="5386320" y="400068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5000760" y="3786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Овал 93"/>
          <p:cNvSpPr/>
          <p:nvPr/>
        </p:nvSpPr>
        <p:spPr>
          <a:xfrm>
            <a:off x="6900840" y="401148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4" name="Овал 94"/>
          <p:cNvSpPr/>
          <p:nvPr/>
        </p:nvSpPr>
        <p:spPr>
          <a:xfrm>
            <a:off x="6985080" y="401004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5" name="Text Box 17"/>
          <p:cNvSpPr/>
          <p:nvPr/>
        </p:nvSpPr>
        <p:spPr>
          <a:xfrm>
            <a:off x="6778800" y="402912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6950160" y="403560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7" name="Овал 97"/>
          <p:cNvSpPr/>
          <p:nvPr/>
        </p:nvSpPr>
        <p:spPr>
          <a:xfrm>
            <a:off x="6959520" y="386568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6950160" y="374976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9" name="Овал 99"/>
          <p:cNvSpPr/>
          <p:nvPr/>
        </p:nvSpPr>
        <p:spPr>
          <a:xfrm>
            <a:off x="6143760" y="40053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6035760" y="405432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21" name="Прямоугольник 10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7448400" cy="658800"/>
          </a:xfrm>
          <a:prstGeom prst="rect">
            <a:avLst/>
          </a:prstGeom>
          <a:ln w="0">
            <a:noFill/>
          </a:ln>
        </p:spPr>
      </p:pic>
      <p:sp>
        <p:nvSpPr>
          <p:cNvPr id="522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500040" y="3786120"/>
            <a:ext cx="3809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дписать детали сорочк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4" name="Дуга 104"/>
          <p:cNvSpPr/>
          <p:nvPr/>
        </p:nvSpPr>
        <p:spPr>
          <a:xfrm rot="6703800">
            <a:off x="5184720" y="158580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5" name="Дуга 106"/>
          <p:cNvSpPr/>
          <p:nvPr/>
        </p:nvSpPr>
        <p:spPr>
          <a:xfrm rot="6703800">
            <a:off x="5047920" y="1658880"/>
            <a:ext cx="118440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6" name="Полилиния 107"/>
          <p:cNvSpPr/>
          <p:nvPr/>
        </p:nvSpPr>
        <p:spPr>
          <a:xfrm>
            <a:off x="5425920" y="2058840"/>
            <a:ext cx="2129040" cy="3632400"/>
          </a:xfrm>
          <a:custGeom>
            <a:avLst/>
            <a:gdLst/>
            <a:ahLst/>
            <a:rect l="l" t="t" r="r" b="b"/>
            <a:pathLst>
              <a:path w="2127903" h="3631963">
                <a:moveTo>
                  <a:pt x="444382" y="17092"/>
                </a:moveTo>
                <a:lnTo>
                  <a:pt x="2127903" y="0"/>
                </a:lnTo>
                <a:lnTo>
                  <a:pt x="2110812" y="931492"/>
                </a:lnTo>
                <a:cubicBezTo>
                  <a:pt x="1976928" y="985615"/>
                  <a:pt x="1834556" y="1013043"/>
                  <a:pt x="1709159" y="1093862"/>
                </a:cubicBezTo>
                <a:cubicBezTo>
                  <a:pt x="1619811" y="1240121"/>
                  <a:pt x="1578124" y="1367327"/>
                  <a:pt x="1512606" y="1504060"/>
                </a:cubicBezTo>
                <a:lnTo>
                  <a:pt x="1828800" y="3392681"/>
                </a:lnTo>
                <a:lnTo>
                  <a:pt x="1341690" y="3572143"/>
                </a:lnTo>
                <a:lnTo>
                  <a:pt x="769122" y="3631963"/>
                </a:lnTo>
                <a:lnTo>
                  <a:pt x="0" y="362341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5643720" y="328608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Перед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Спинка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Давайте вспомним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1412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акие изделия относятся к плечевой одежде и почему они так называются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аким требованиям должна отвечать одежда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Что значит цельнокроеная одежда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Перечислите и дайте характеристику различным видам силуэтов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ак правильно снимают мерки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акие мерки надо снять для построения чертежа ночной сорочки?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266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31840" y="-139680"/>
            <a:ext cx="7961400" cy="1047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484360" y="5516640"/>
            <a:ext cx="551664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Втачной         Реглан               Цельнокроеный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2" name="Picture 4" descr="халат1"/>
          <p:cNvPicPr/>
          <p:nvPr/>
        </p:nvPicPr>
        <p:blipFill>
          <a:blip r:embed="rId2"/>
          <a:srcRect l="3425" t="1554" r="5339" b="0"/>
          <a:stretch/>
        </p:blipFill>
        <p:spPr>
          <a:xfrm>
            <a:off x="250920" y="260280"/>
            <a:ext cx="1306440" cy="305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туника2"/>
          <p:cNvPicPr/>
          <p:nvPr/>
        </p:nvPicPr>
        <p:blipFill>
          <a:blip r:embed="rId3"/>
          <a:stretch/>
        </p:blipFill>
        <p:spPr>
          <a:xfrm>
            <a:off x="250920" y="3441600"/>
            <a:ext cx="1892160" cy="264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туника1"/>
          <p:cNvPicPr/>
          <p:nvPr/>
        </p:nvPicPr>
        <p:blipFill>
          <a:blip r:embed="rId4"/>
          <a:stretch/>
        </p:blipFill>
        <p:spPr>
          <a:xfrm>
            <a:off x="1835280" y="765000"/>
            <a:ext cx="1728720" cy="259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рукав0010"/>
          <p:cNvPicPr/>
          <p:nvPr/>
        </p:nvPicPr>
        <p:blipFill>
          <a:blip r:embed="rId5"/>
          <a:stretch/>
        </p:blipFill>
        <p:spPr>
          <a:xfrm>
            <a:off x="3419640" y="3441600"/>
            <a:ext cx="876240" cy="20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укав0011"/>
          <p:cNvPicPr/>
          <p:nvPr/>
        </p:nvPicPr>
        <p:blipFill>
          <a:blip r:embed="rId6"/>
          <a:stretch/>
        </p:blipFill>
        <p:spPr>
          <a:xfrm>
            <a:off x="4851360" y="3441600"/>
            <a:ext cx="827280" cy="2065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рукав0012"/>
          <p:cNvPicPr/>
          <p:nvPr/>
        </p:nvPicPr>
        <p:blipFill>
          <a:blip r:embed="rId7"/>
          <a:stretch/>
        </p:blipFill>
        <p:spPr>
          <a:xfrm>
            <a:off x="6303960" y="3441600"/>
            <a:ext cx="822240" cy="20354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9"/>
          <p:cNvSpPr/>
          <p:nvPr/>
        </p:nvSpPr>
        <p:spPr>
          <a:xfrm>
            <a:off x="3995640" y="27115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окрой рукава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97600" cy="115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2860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Для построения конструкции изделия кроме мерок необходимы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прибавки на свободное облегание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и декоративное оформление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 полуобхвату груди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–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Пг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= 6-8 см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 обхвату плеча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–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По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 = 5-7 см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Calibri"/>
              </a:rPr>
              <a:t>к ширине горловины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–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Пшг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 = 1 см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796140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28600" y="52293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3" name="Picture 6" descr="C:\Users\Михаил\Рабочий стол\СКАН\й0006.jpg"/>
          <p:cNvPicPr/>
          <p:nvPr/>
        </p:nvPicPr>
        <p:blipFill>
          <a:blip r:embed="rId2"/>
          <a:srcRect l="4735" t="13231" r="3175" b="12797"/>
          <a:stretch/>
        </p:blipFill>
        <p:spPr>
          <a:xfrm>
            <a:off x="971640" y="1413000"/>
            <a:ext cx="6527880" cy="41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250920" y="1106640"/>
            <a:ext cx="3639960" cy="1525320"/>
          </a:xfrm>
          <a:prstGeom prst="rect">
            <a:avLst/>
          </a:prstGeom>
          <a:solidFill>
            <a:srgbClr val="d3ecdb"/>
          </a:solidFill>
          <a:ln w="25560">
            <a:solidFill>
              <a:srgbClr val="357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13880" y="2999880"/>
            <a:ext cx="2629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строение сетки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240160" y="15969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Блок-схема: процесс 10"/>
          <p:cNvSpPr/>
          <p:nvPr/>
        </p:nvSpPr>
        <p:spPr>
          <a:xfrm>
            <a:off x="5003640" y="5516640"/>
            <a:ext cx="331920" cy="288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324000" y="1111320"/>
            <a:ext cx="3747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обходимые мерки: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48 см;      Дтс = 38 см;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 = 28 см;   Сш = 18 см;  Ди = 80 с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бавки: Пг = 6…8 с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п = 5…7 с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7360" y="4143240"/>
            <a:ext cx="44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→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В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= (Сг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+ Пг) : 2 = 28 см;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2" name="Прямоугольник 16" descr=""/>
          <p:cNvPicPr/>
          <p:nvPr/>
        </p:nvPicPr>
        <p:blipFill>
          <a:blip r:embed="rId1"/>
          <a:stretch/>
        </p:blipFill>
        <p:spPr>
          <a:xfrm>
            <a:off x="493560" y="212760"/>
            <a:ext cx="7328160" cy="6588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657360" y="3643200"/>
            <a:ext cx="307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663300"/>
                </a:solidFill>
                <a:latin typeface="Wingdings"/>
                <a:ea typeface="Wingdings"/>
              </a:rPr>
              <a:t>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)В, строим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┌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Овал 19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57360" y="4714920"/>
            <a:ext cx="3500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663300"/>
                </a:solidFill>
                <a:latin typeface="Wingdings 3"/>
                <a:ea typeface="Wingdings 3"/>
              </a:rPr>
              <a:t>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ВН = Ди = 80 см;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786720" y="164304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Овал 24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499752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51" name="Группа 31"/>
          <p:cNvGrpSpPr/>
          <p:nvPr/>
        </p:nvGrpSpPr>
        <p:grpSpPr>
          <a:xfrm>
            <a:off x="657360" y="5286240"/>
            <a:ext cx="2928960" cy="500040"/>
            <a:chOff x="657360" y="5286240"/>
            <a:chExt cx="2928960" cy="500040"/>
          </a:xfrm>
        </p:grpSpPr>
        <p:sp>
          <p:nvSpPr>
            <p:cNvPr id="252" name="Rectangle 6"/>
            <p:cNvSpPr/>
            <p:nvPr/>
          </p:nvSpPr>
          <p:spPr>
            <a:xfrm>
              <a:off x="657360" y="5286240"/>
              <a:ext cx="2928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4. Строим          ВВ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Н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Н 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53" name="Прямоугольник 30"/>
            <p:cNvSpPr/>
            <p:nvPr/>
          </p:nvSpPr>
          <p:spPr>
            <a:xfrm rot="16200000">
              <a:off x="1978560" y="5374080"/>
              <a:ext cx="285840" cy="214200"/>
            </a:xfrm>
            <a:prstGeom prst="rect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254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Овал 34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Овал 28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7"/>
          <p:cNvSpPr/>
          <p:nvPr/>
        </p:nvSpPr>
        <p:spPr>
          <a:xfrm>
            <a:off x="571680" y="857160"/>
            <a:ext cx="3352680" cy="1527120"/>
          </a:xfrm>
          <a:prstGeom prst="rect">
            <a:avLst/>
          </a:prstGeom>
          <a:solidFill>
            <a:srgbClr val="d3ecdb"/>
          </a:solidFill>
          <a:ln w="25560">
            <a:solidFill>
              <a:srgbClr val="357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Необходимые мерки: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Сг</a:t>
            </a:r>
            <a:r>
              <a:rPr b="1" lang="en-US" sz="1400" spc="-1" strike="noStrike">
                <a:solidFill>
                  <a:srgbClr val="3024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= 48 см;      Дтс = 38 см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Оп = 28 см;   Сш = 18 см;  Ди = 80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рибавки: Пг = 6…8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оп = 5…7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99680" y="2786040"/>
            <a:ext cx="24843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9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строение ворота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29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29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1" name="Прямоугольник 28" descr=""/>
          <p:cNvPicPr/>
          <p:nvPr/>
        </p:nvPicPr>
        <p:blipFill>
          <a:blip r:embed="rId1"/>
          <a:stretch/>
        </p:blipFill>
        <p:spPr>
          <a:xfrm>
            <a:off x="493560" y="212760"/>
            <a:ext cx="7328160" cy="65880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40160" y="1674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Блок-схема: процесс 33"/>
          <p:cNvSpPr/>
          <p:nvPr/>
        </p:nvSpPr>
        <p:spPr>
          <a:xfrm>
            <a:off x="5003640" y="5516640"/>
            <a:ext cx="331920" cy="288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Овал 34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786720" y="16430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Овал 37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499752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Овал 43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Овал 44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57120" y="3286080"/>
            <a:ext cx="3714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5.  </a:t>
            </a:r>
            <a:r>
              <a:rPr b="0" lang="ru-RU" sz="2000" spc="-1" strike="noStrike">
                <a:solidFill>
                  <a:srgbClr val="663300"/>
                </a:solidFill>
                <a:latin typeface="Lucida Sans Unicode"/>
                <a:ea typeface="Lucida Sans Unicode"/>
              </a:rPr>
              <a:t>→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В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=( Сш : 3) + 1  = 7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715000" y="167148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57120" y="3643200"/>
            <a:ext cx="378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6.  </a:t>
            </a:r>
            <a:r>
              <a:rPr b="0" lang="ru-RU" sz="2000" spc="-1" strike="noStrike">
                <a:solidFill>
                  <a:srgbClr val="663300"/>
                </a:solidFill>
                <a:latin typeface="Lucida Sans Unicode"/>
                <a:ea typeface="Lucida Sans Unicode"/>
              </a:rPr>
              <a:t>↓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= ВВ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Times New Roman"/>
              </a:rPr>
              <a:t>2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: 3 = 7 : 3 = 2,3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Овал 51"/>
          <p:cNvSpPr/>
          <p:nvPr/>
        </p:nvSpPr>
        <p:spPr>
          <a:xfrm>
            <a:off x="5386320" y="221472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4929120" y="200016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57120" y="4071960"/>
            <a:ext cx="171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. Дуга 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Дуга 54"/>
          <p:cNvSpPr/>
          <p:nvPr/>
        </p:nvSpPr>
        <p:spPr>
          <a:xfrm rot="6703800">
            <a:off x="5207040" y="158256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357120" y="4500720"/>
            <a:ext cx="3857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8. </a:t>
            </a:r>
            <a:r>
              <a:rPr b="0" lang="ru-RU" sz="2000" spc="-1" strike="noStrike">
                <a:solidFill>
                  <a:srgbClr val="663300"/>
                </a:solidFill>
                <a:latin typeface="Lucida Sans Unicode"/>
                <a:ea typeface="Lucida Sans Unicode"/>
              </a:rPr>
              <a:t>↓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В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В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+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 = 7 + 1 = 8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929120" y="22860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57120" y="492912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. Дуга 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Дуга 59"/>
          <p:cNvSpPr/>
          <p:nvPr/>
        </p:nvSpPr>
        <p:spPr>
          <a:xfrm rot="6703800">
            <a:off x="5021280" y="1671480"/>
            <a:ext cx="118404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Овал 48"/>
          <p:cNvSpPr/>
          <p:nvPr/>
        </p:nvSpPr>
        <p:spPr>
          <a:xfrm>
            <a:off x="5840280" y="203508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Овал 56"/>
          <p:cNvSpPr/>
          <p:nvPr/>
        </p:nvSpPr>
        <p:spPr>
          <a:xfrm>
            <a:off x="5380200" y="2494080"/>
            <a:ext cx="77760" cy="7776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6"/>
          <p:cNvSpPr/>
          <p:nvPr/>
        </p:nvSpPr>
        <p:spPr>
          <a:xfrm>
            <a:off x="355680" y="825480"/>
            <a:ext cx="3279600" cy="1603440"/>
          </a:xfrm>
          <a:prstGeom prst="rect">
            <a:avLst/>
          </a:prstGeom>
          <a:solidFill>
            <a:srgbClr val="d3ecdb"/>
          </a:solidFill>
          <a:ln w="25560">
            <a:solidFill>
              <a:srgbClr val="357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Необходимые мерки: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Сг</a:t>
            </a:r>
            <a:r>
              <a:rPr b="1" lang="en-US" sz="1400" spc="-1" strike="noStrike">
                <a:solidFill>
                  <a:srgbClr val="3024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= 48 см;      Дтс = 38 см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Оп = 28 см;   Сш = 18 см;  Ди = 80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рибавки: Пг = 6…8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оп = 5…7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57120" y="3141360"/>
            <a:ext cx="2571840" cy="43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строение рукава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5240160" y="1674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Овал 45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786720" y="16430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Овал 48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500076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Овал 54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Овал 55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5715000" y="167148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Овал 57"/>
          <p:cNvSpPr/>
          <p:nvPr/>
        </p:nvSpPr>
        <p:spPr>
          <a:xfrm>
            <a:off x="5386320" y="221472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4929120" y="200016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Дуга 59"/>
          <p:cNvSpPr/>
          <p:nvPr/>
        </p:nvSpPr>
        <p:spPr>
          <a:xfrm rot="6703800">
            <a:off x="5207040" y="158256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4929120" y="22860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Дуга 61"/>
          <p:cNvSpPr/>
          <p:nvPr/>
        </p:nvSpPr>
        <p:spPr>
          <a:xfrm rot="6703800">
            <a:off x="5021280" y="1671480"/>
            <a:ext cx="118404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Овал 62"/>
          <p:cNvSpPr/>
          <p:nvPr/>
        </p:nvSpPr>
        <p:spPr>
          <a:xfrm>
            <a:off x="5840280" y="203508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Овал 63"/>
          <p:cNvSpPr/>
          <p:nvPr/>
        </p:nvSpPr>
        <p:spPr>
          <a:xfrm>
            <a:off x="5380200" y="2494080"/>
            <a:ext cx="77760" cy="7776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14" name="Прямоугольник 64" descr=""/>
          <p:cNvPicPr/>
          <p:nvPr/>
        </p:nvPicPr>
        <p:blipFill>
          <a:blip r:embed="rId1"/>
          <a:stretch/>
        </p:blipFill>
        <p:spPr>
          <a:xfrm>
            <a:off x="493560" y="212760"/>
            <a:ext cx="7328160" cy="658800"/>
          </a:xfrm>
          <a:prstGeom prst="rect">
            <a:avLst/>
          </a:prstGeom>
          <a:ln w="0">
            <a:noFill/>
          </a:ln>
        </p:spPr>
      </p:pic>
      <p:grpSp>
        <p:nvGrpSpPr>
          <p:cNvPr id="315" name="Группа 70"/>
          <p:cNvGrpSpPr/>
          <p:nvPr/>
        </p:nvGrpSpPr>
        <p:grpSpPr>
          <a:xfrm>
            <a:off x="320760" y="4784760"/>
            <a:ext cx="4680000" cy="930240"/>
            <a:chOff x="320760" y="4784760"/>
            <a:chExt cx="4680000" cy="930240"/>
          </a:xfrm>
        </p:grpSpPr>
        <p:sp>
          <p:nvSpPr>
            <p:cNvPr id="316" name="Прямоугольник 39"/>
            <p:cNvSpPr/>
            <p:nvPr/>
          </p:nvSpPr>
          <p:spPr>
            <a:xfrm>
              <a:off x="1714680" y="5249880"/>
              <a:ext cx="214200" cy="285840"/>
            </a:xfrm>
            <a:prstGeom prst="rect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320760" y="4784760"/>
              <a:ext cx="4680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11. В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В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5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=ГГ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 - п</a:t>
              </a: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/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в= 6 см;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Достроить      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В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В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5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ГГ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 </a:t>
              </a:r>
              <a:r>
                <a:rPr b="0" lang="ru-RU" sz="2000" spc="-1" strike="noStrike">
                  <a:solidFill>
                    <a:srgbClr val="663300"/>
                  </a:solidFill>
                  <a:latin typeface="Times New Roman"/>
                </a:rPr>
                <a:t>, обозначить (.) Г</a:t>
              </a:r>
              <a:r>
                <a:rPr b="0" lang="ru-RU" sz="2000" spc="-1" strike="noStrike" baseline="-25000">
                  <a:solidFill>
                    <a:srgbClr val="66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marL="533520" indent="-53352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318" name="Rectangle 6"/>
          <p:cNvSpPr/>
          <p:nvPr/>
        </p:nvSpPr>
        <p:spPr>
          <a:xfrm>
            <a:off x="285840" y="3786120"/>
            <a:ext cx="4608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 = (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Оп : 2 )+ Поп =28:2+7=21 см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Провести горизонтальную линию   через точку Г ;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9" name="Овал 67"/>
          <p:cNvSpPr/>
          <p:nvPr/>
        </p:nvSpPr>
        <p:spPr>
          <a:xfrm>
            <a:off x="6886440" y="294804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6580080" y="2606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5429160" y="298296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Овал 71"/>
          <p:cNvSpPr/>
          <p:nvPr/>
        </p:nvSpPr>
        <p:spPr>
          <a:xfrm>
            <a:off x="7500960" y="202572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7358040" y="16686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6929280" y="2071800"/>
            <a:ext cx="57168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7535880" y="2071800"/>
            <a:ext cx="0" cy="9363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7537320" y="26179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7" name="Овал 74"/>
          <p:cNvSpPr/>
          <p:nvPr/>
        </p:nvSpPr>
        <p:spPr>
          <a:xfrm>
            <a:off x="7500960" y="2936880"/>
            <a:ext cx="712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олилиния 75"/>
          <p:cNvSpPr/>
          <p:nvPr/>
        </p:nvSpPr>
        <p:spPr>
          <a:xfrm>
            <a:off x="6153120" y="5443560"/>
            <a:ext cx="1101600" cy="239760"/>
          </a:xfrm>
          <a:custGeom>
            <a:avLst/>
            <a:gdLst/>
            <a:ahLst/>
            <a:rect l="l" t="t" r="r" b="b"/>
            <a:pathLst>
              <a:path w="1102407" h="239282">
                <a:moveTo>
                  <a:pt x="1102407" y="0"/>
                </a:moveTo>
                <a:cubicBezTo>
                  <a:pt x="925794" y="65518"/>
                  <a:pt x="756303" y="156673"/>
                  <a:pt x="572568" y="196553"/>
                </a:cubicBezTo>
                <a:cubicBezTo>
                  <a:pt x="388833" y="236433"/>
                  <a:pt x="95428" y="232161"/>
                  <a:pt x="0" y="239282"/>
                </a:cubicBezTo>
                <a:lnTo>
                  <a:pt x="0" y="239282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9" name="Line 16"/>
          <p:cNvSpPr/>
          <p:nvPr/>
        </p:nvSpPr>
        <p:spPr>
          <a:xfrm>
            <a:off x="6929280" y="3571920"/>
            <a:ext cx="357480" cy="2143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Line 16"/>
          <p:cNvSpPr/>
          <p:nvPr/>
        </p:nvSpPr>
        <p:spPr>
          <a:xfrm flipH="1">
            <a:off x="6929280" y="2992320"/>
            <a:ext cx="596880" cy="5796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214200" y="558720"/>
            <a:ext cx="3495960" cy="1584360"/>
          </a:xfrm>
          <a:prstGeom prst="rect">
            <a:avLst/>
          </a:prstGeom>
          <a:solidFill>
            <a:srgbClr val="d3ecdb"/>
          </a:solidFill>
          <a:ln w="25560">
            <a:solidFill>
              <a:srgbClr val="357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Необходимые мерки: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Сг</a:t>
            </a:r>
            <a:r>
              <a:rPr b="1" lang="en-US" sz="1400" spc="-1" strike="noStrike">
                <a:solidFill>
                  <a:srgbClr val="3024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= 48 см;      Дтс = 38 см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Оп = 28 см;   Сш = 18 см;  Ди = 80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рибавки: Пг = 6…8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302400"/>
                </a:solidFill>
                <a:latin typeface="Times New Roman"/>
              </a:rPr>
              <a:t>Поп = 5…7 см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3800" y="2178000"/>
            <a:ext cx="41036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строение линии бокового среза и низа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5435640" y="206064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5418000" y="2060640"/>
            <a:ext cx="0" cy="38894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240160" y="1674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Овал 10"/>
          <p:cNvSpPr/>
          <p:nvPr/>
        </p:nvSpPr>
        <p:spPr>
          <a:xfrm>
            <a:off x="5383080" y="2035080"/>
            <a:ext cx="7308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5429160" y="207180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786720" y="16430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Овал 13"/>
          <p:cNvSpPr/>
          <p:nvPr/>
        </p:nvSpPr>
        <p:spPr>
          <a:xfrm>
            <a:off x="6891480" y="2025720"/>
            <a:ext cx="7272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5429160" y="2071800"/>
            <a:ext cx="0" cy="36352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5000760" y="5500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6929280" y="2077920"/>
            <a:ext cx="0" cy="363708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715080" y="57150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5445000" y="5689440"/>
            <a:ext cx="147636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5" name="Овал 19"/>
          <p:cNvSpPr/>
          <p:nvPr/>
        </p:nvSpPr>
        <p:spPr>
          <a:xfrm>
            <a:off x="6877080" y="564516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Овал 20"/>
          <p:cNvSpPr/>
          <p:nvPr/>
        </p:nvSpPr>
        <p:spPr>
          <a:xfrm>
            <a:off x="5383080" y="5638680"/>
            <a:ext cx="730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5715000" y="167148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Овал 22"/>
          <p:cNvSpPr/>
          <p:nvPr/>
        </p:nvSpPr>
        <p:spPr>
          <a:xfrm>
            <a:off x="5386320" y="221472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4929120" y="200016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0" name="Дуга 24"/>
          <p:cNvSpPr/>
          <p:nvPr/>
        </p:nvSpPr>
        <p:spPr>
          <a:xfrm rot="6703800">
            <a:off x="5207040" y="1582560"/>
            <a:ext cx="681120" cy="703440"/>
          </a:xfrm>
          <a:custGeom>
            <a:avLst/>
            <a:gdLst/>
            <a:ahLst/>
            <a:rect l="l" t="t" r="r" b="b"/>
            <a:pathLst>
              <a:path stroke="0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  <a:lnTo>
                  <a:pt x="340519" y="351631"/>
                </a:lnTo>
                <a:lnTo>
                  <a:pt x="340519" y="0"/>
                </a:lnTo>
                <a:close/>
              </a:path>
              <a:path fill="none" w="681038" h="703262">
                <a:moveTo>
                  <a:pt x="340519" y="0"/>
                </a:moveTo>
                <a:cubicBezTo>
                  <a:pt x="528582" y="0"/>
                  <a:pt x="681038" y="157431"/>
                  <a:pt x="681038" y="351631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4929120" y="22860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Дуга 26"/>
          <p:cNvSpPr/>
          <p:nvPr/>
        </p:nvSpPr>
        <p:spPr>
          <a:xfrm rot="6703800">
            <a:off x="5021280" y="1671480"/>
            <a:ext cx="1184040" cy="596880"/>
          </a:xfrm>
          <a:custGeom>
            <a:avLst/>
            <a:gdLst/>
            <a:ahLst/>
            <a:rect l="l" t="t" r="r" b="b"/>
            <a:pathLst>
              <a:path stroke="0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  <a:lnTo>
                  <a:pt x="592138" y="298450"/>
                </a:lnTo>
                <a:cubicBezTo>
                  <a:pt x="592138" y="198967"/>
                  <a:pt x="592137" y="99483"/>
                  <a:pt x="592137" y="0"/>
                </a:cubicBezTo>
                <a:close/>
              </a:path>
              <a:path fill="none" w="1184275" h="596900">
                <a:moveTo>
                  <a:pt x="592137" y="0"/>
                </a:moveTo>
                <a:cubicBezTo>
                  <a:pt x="919166" y="0"/>
                  <a:pt x="1184275" y="133621"/>
                  <a:pt x="1184275" y="298450"/>
                </a:cubicBez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Овал 27"/>
          <p:cNvSpPr/>
          <p:nvPr/>
        </p:nvSpPr>
        <p:spPr>
          <a:xfrm>
            <a:off x="5840280" y="203508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Овал 28"/>
          <p:cNvSpPr/>
          <p:nvPr/>
        </p:nvSpPr>
        <p:spPr>
          <a:xfrm>
            <a:off x="5380200" y="2494080"/>
            <a:ext cx="77760" cy="7776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Овал 29"/>
          <p:cNvSpPr/>
          <p:nvPr/>
        </p:nvSpPr>
        <p:spPr>
          <a:xfrm>
            <a:off x="6886440" y="294804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6580080" y="2606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5429160" y="2982960"/>
            <a:ext cx="2494080" cy="111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8" name="Овал 32"/>
          <p:cNvSpPr/>
          <p:nvPr/>
        </p:nvSpPr>
        <p:spPr>
          <a:xfrm>
            <a:off x="7500960" y="2025720"/>
            <a:ext cx="712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7358040" y="16686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6929280" y="2071800"/>
            <a:ext cx="57168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7535880" y="2071800"/>
            <a:ext cx="0" cy="9363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7537320" y="26179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3" name="Овал 37"/>
          <p:cNvSpPr/>
          <p:nvPr/>
        </p:nvSpPr>
        <p:spPr>
          <a:xfrm>
            <a:off x="7500960" y="2936880"/>
            <a:ext cx="71280" cy="730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4" name="Прямоугольник 38" descr=""/>
          <p:cNvPicPr/>
          <p:nvPr/>
        </p:nvPicPr>
        <p:blipFill>
          <a:blip r:embed="rId1"/>
          <a:stretch/>
        </p:blipFill>
        <p:spPr>
          <a:xfrm>
            <a:off x="493560" y="0"/>
            <a:ext cx="7328160" cy="658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85480" y="3642840"/>
            <a:ext cx="407196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3. 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разделить пополам </a:t>
            </a:r>
            <a:r>
              <a:rPr b="0" lang="ru-RU" sz="20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(.)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85840" y="2857320"/>
            <a:ext cx="26431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↓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Г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= Г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= 6 см,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7" name="Овал 43"/>
          <p:cNvSpPr/>
          <p:nvPr/>
        </p:nvSpPr>
        <p:spPr>
          <a:xfrm>
            <a:off x="6894360" y="350352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561000" y="32497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85840" y="3285720"/>
            <a:ext cx="392904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Соединить (.)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и (.) 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  <a:ea typeface="Lucida Sans Unicode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  прямой ,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0" name="Овал 49"/>
          <p:cNvSpPr/>
          <p:nvPr/>
        </p:nvSpPr>
        <p:spPr>
          <a:xfrm>
            <a:off x="7215120" y="3214800"/>
            <a:ext cx="7164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7207200" y="320688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4071600"/>
            <a:ext cx="542916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4.В (.) 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вести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Lucida Sans Unicode"/>
              </a:rPr>
              <a:t>⊥ и отложить 1,5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7172280" y="3178080"/>
            <a:ext cx="71640" cy="716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6935760" y="2852640"/>
            <a:ext cx="35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5" name="Овал 55"/>
          <p:cNvSpPr/>
          <p:nvPr/>
        </p:nvSpPr>
        <p:spPr>
          <a:xfrm>
            <a:off x="7107120" y="3117960"/>
            <a:ext cx="54000" cy="5400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480" y="4500720"/>
            <a:ext cx="2143080" cy="42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5. Дуга 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7" name="Полилиния 58"/>
          <p:cNvSpPr/>
          <p:nvPr/>
        </p:nvSpPr>
        <p:spPr>
          <a:xfrm>
            <a:off x="6939000" y="2982960"/>
            <a:ext cx="590400" cy="571320"/>
          </a:xfrm>
          <a:custGeom>
            <a:avLst/>
            <a:gdLst/>
            <a:ahLst/>
            <a:rect l="l" t="t" r="r" b="b"/>
            <a:pathLst>
              <a:path w="589660" h="572568">
                <a:moveTo>
                  <a:pt x="0" y="572568"/>
                </a:moveTo>
                <a:cubicBezTo>
                  <a:pt x="68366" y="435835"/>
                  <a:pt x="108247" y="257798"/>
                  <a:pt x="205099" y="162370"/>
                </a:cubicBezTo>
                <a:cubicBezTo>
                  <a:pt x="301951" y="66942"/>
                  <a:pt x="517021" y="27062"/>
                  <a:pt x="581114" y="0"/>
                </a:cubicBezTo>
                <a:lnTo>
                  <a:pt x="589660" y="0"/>
                </a:lnTo>
              </a:path>
            </a:pathLst>
          </a:custGeom>
          <a:noFill/>
          <a:ln w="158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85480" y="4928760"/>
            <a:ext cx="32144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6.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→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=  п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10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6929280" y="5689440"/>
            <a:ext cx="32400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0" name="Овал 61"/>
          <p:cNvSpPr/>
          <p:nvPr/>
        </p:nvSpPr>
        <p:spPr>
          <a:xfrm>
            <a:off x="7230960" y="5643720"/>
            <a:ext cx="73080" cy="7128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7108920" y="572292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85840" y="528624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7. Соединить Г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840" y="5643360"/>
            <a:ext cx="29289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8.     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п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1,5 см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4" name="Овал 67"/>
          <p:cNvSpPr/>
          <p:nvPr/>
        </p:nvSpPr>
        <p:spPr>
          <a:xfrm>
            <a:off x="7215120" y="5429160"/>
            <a:ext cx="71640" cy="7164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7215120" y="5214960"/>
            <a:ext cx="428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85480" y="6000840"/>
            <a:ext cx="2500200" cy="42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9. Н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: 2 </a:t>
            </a:r>
            <a:r>
              <a:rPr b="0" lang="ru-RU" sz="20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Wingdings"/>
                <a:ea typeface="Wingdings"/>
              </a:rPr>
              <a:t>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) 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7" name="Овал 70"/>
          <p:cNvSpPr/>
          <p:nvPr/>
        </p:nvSpPr>
        <p:spPr>
          <a:xfrm>
            <a:off x="6143760" y="5651640"/>
            <a:ext cx="71280" cy="72720"/>
          </a:xfrm>
          <a:prstGeom prst="ellipse">
            <a:avLst/>
          </a:prstGeom>
          <a:solidFill>
            <a:srgbClr val="785b00"/>
          </a:solidFill>
          <a:ln w="25560">
            <a:solidFill>
              <a:srgbClr val="785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6000840" y="5715000"/>
            <a:ext cx="428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i="1" lang="ru-RU" sz="1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85840" y="6357960"/>
            <a:ext cx="2714400" cy="3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20. Соединить Н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51:50Z</dcterms:created>
  <dc:creator>1</dc:creator>
  <dc:description/>
  <cp:keywords/>
  <dc:language>en-US</dc:language>
  <cp:lastModifiedBy>Михаил</cp:lastModifiedBy>
  <dcterms:modified xsi:type="dcterms:W3CDTF">2012-01-27T11:50:17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