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36FE-6082-432A-AFFB-9B16AF8E3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9D72-BEA0-4ABD-AD6D-F8CD2BE2C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4BB-AC7D-4A31-9762-C3747D4D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4D7-2E7F-47C2-BC91-C026A5FB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546BF-033E-4849-9570-D8FBB722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98CA2-A16A-4B27-8A6F-EF13F8E7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5BBCC-7A1C-4723-B674-D8045AB3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3D771-8F0F-4B63-A6EE-45993448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EFA2F-4D1B-4C26-B480-C38DC67C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0DB1B-6907-4E79-9F56-6ED0B989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5BDC6-6F67-473F-987C-8A47D2D5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C9836-E4B6-407F-B02D-349F6D23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300A4-A266-4806-AD5D-B4D93A9B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D61A6-5675-4A37-BE7A-CA8E50E4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2C4-B8F5-4A10-8E5D-0E775E2C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CD9E7-156B-4C4D-97AC-8D261ECC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4037D-EC0E-453E-B743-48BCFDA4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B930B-2929-4D17-9DF5-FF6514D1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18D29-564C-4F4F-87F4-8D034594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5E323-A20F-4973-9809-4E1D1C0E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C06CA-BFEB-4DC5-A404-3407505C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1730B-C98B-4A99-9D5C-E812DC84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39D0B-A81B-48BF-98B3-965518E2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6F09D-BB60-4DB9-A27C-BE227778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0413C-9C90-48E4-BEE1-D93B2658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FDA-55DB-4684-8BE4-1E1820CD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BB2E4-8561-48C8-96E5-8DF2D6B9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93E6A-5CF2-4F51-BFD6-23DA171F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C2E62-56AD-49CC-A8B7-B34191F8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B8723-69F0-4E6B-AB13-94AB94DE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F52B3-A756-4838-8120-AA5B12E7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27C3D-415F-412D-B45F-04440945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F3190-86FD-47CD-8F90-91D67D25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49964-8E7A-4BE6-8DFF-FE600A44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F640F-8D3C-4EBF-A6CB-582CDB52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6F4D5-70EA-4526-A3BE-88109341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6770-1FFE-4BF0-9F31-55623C2D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5F38B-FB34-4369-BEDF-87EBB244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77655-2567-446F-9A20-598FE56F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07C93-3492-4639-BA9D-AF5D3341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E9D00-D9AE-462E-8DB3-DB6F057B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5FED4-CECC-478D-81A3-699CB8C1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D0C45-4351-4742-8E2B-0999FC0E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F0618-A4A4-4713-B682-466093D5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396D8-8B1C-4E22-B433-E754F1BD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2A539-9169-4267-B445-F81CF19C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1C44C-E18B-42F2-B84F-E0205FA3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955D-629A-47B4-9400-28AAC9C6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1F441-B1D6-4B6A-8C39-59B5CF2B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7E877-4B18-4667-A807-7F26039E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FCE6F-5626-4A87-BCFF-92E90215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698A7-0825-4DE1-A394-FEF17C4C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BF822-42B9-4A76-8D00-A2C6D0A1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F806-52D7-4B80-B574-F655B2A8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F2CD-8CFB-46BB-9C6F-F1E49E15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F708-F3AE-455E-8B1F-FD9FA98E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00F5-1CB9-4ABC-9ED9-23E0129D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051A-97DF-4AC3-8F73-29DCDDD3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437-96CA-4A14-B66C-40EE0589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E817-29C3-43A6-AD05-57BFB62F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6488-B672-48D2-894A-9CBE9AF8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E3A2-83A8-4E25-A431-1A94C096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0DC4-D1A5-4754-8DDA-9566E652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19DB-E00E-4E26-A59F-DAB294BC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DC161-82CD-40F2-9DC4-E24FEAE4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0D4B-8C3A-439D-848D-DCB740F2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2A4D-ECDE-4046-A67A-1B160FAB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5FA74-26A9-421D-87DC-6E1C0A4B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FC4C0-4A77-4698-83A0-0C45F103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948-AE5A-4C9D-B89E-B8F45028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9F016-C5E7-4BF9-BF24-E162F33F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DBCA-E8D2-479D-818A-4C570661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2767-57C9-4A31-9AA1-9E182596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BE9C-213B-4163-BA51-7323921C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046E2-54B5-4C70-975D-45D0E69E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E59F9-43EA-464A-ACD7-2A3E4F60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E82F-798A-41C1-823B-B5C9E7C8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1F58B-E109-436E-BD15-1440EABB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A8BF6-E9E6-41DA-AA8F-0C7CBCC4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16C9B-C03B-4C5F-9130-EE00E12C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4D3-BDC2-495F-B81E-2529208E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D3997-D602-4727-8255-982BFE49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43BC8-E4F0-4148-AB57-5F52A560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40BD4-A901-4A8E-924B-DDFBBB0F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44060-DDD8-4C10-85E7-61F0924E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08072-A343-4555-81F3-58356FE5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094D6-A443-461D-8AE1-9EEF9DF6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6A882-A6BB-4935-84D8-33BAD3A8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FBD72-1C80-4A0E-AB20-3712E4FA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F8889-8F1D-4D50-AD3F-66D860B5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A00CF-A61F-462A-AC92-EF113B8E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A86-D401-427D-B9B2-D88619F6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7FB2D-E364-4797-A92F-1CE52A23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3357E-C212-4E14-9379-79811283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15B06-A71E-4CE6-8B3C-9A99B920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6980C-5444-4C5F-8EFA-8A842DC3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2A215-447A-40E1-B6EF-FC5A6436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3E1AB-C3A8-4A65-B3AB-6A165CEA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9822A-5CA5-4DC5-B5EA-889C0C9A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2DF38-2DA9-4C7E-B2E0-17ECA903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639DD-9D56-4B9D-9336-7654398A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F0CD6-DACA-4F7A-AE7C-0B877F0E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21E-18D4-4739-A25D-6E64E866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FA0E1-4332-4E00-A17D-7885C322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B604B-96B1-41CC-B429-9033EAFE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E09B1-7203-4FAA-B7A9-BC476DF8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DE161-E399-4870-BECD-8E376FE4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21F2A-95A3-4BD4-A1C8-F61FB5D2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30E3E-55F8-4E7B-9198-752D7578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657EF-B3D1-42E8-A9C4-2F569550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30115-D722-430D-B224-ED17A6CF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46482-CB9B-42C6-8E50-EB213E6E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CF895-0B98-4D91-95FD-CE714FE4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F46-0AC1-4612-AC4C-1C850FE9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3FF26-853C-40D7-B919-331B6336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04018-8319-4BC6-B373-6067954C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D21CD-0FFD-4F0B-8A94-19B76B1B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997D5-F8C1-4938-BA6B-077D8001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2A516-E7A2-4D50-A26B-0D1E0DE9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861E7-B58B-4AAB-B3A8-DDE4C39A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2EA32-D353-4195-90CC-185DC504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2D376-8FE0-4C3B-B95C-F498087B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3EE5E-F4EE-4468-8F4B-3A335FF2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4EA32-88F5-41B5-946F-9B3DA06D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E1B3-3934-48AB-8130-80796AC9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B556B-A00E-426B-AEF8-C122E5CE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71715-0EFD-42FD-920F-21FB195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09F27-2D95-42DF-8722-86FAEA20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A3612-6E80-42E8-A0D1-A8AF0052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0893C-7200-4D43-B832-61CC03C5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D5B27-5FB6-4F63-9BEE-72E631E6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B08E9-D3FF-4C56-ADD3-C7A06F3B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A5947-DBBF-4275-973E-C2D104D8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3F11E-BC5D-4635-BD20-6B8699CD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E5207-CA47-40B1-B438-B1B8B162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898-D56D-4C92-95E7-668EEE57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26E32-1852-4445-AA23-D508E777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701A0-E2F4-43F5-82AF-1DED2121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E445F-3644-47F8-8FA2-0B22F71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D9E6F-3991-4F2F-A0D9-1955A60C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EF8AF-A5FA-49D3-9982-7991FFD8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E11BA-AFFE-4CCC-BBD2-D4BCF023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F1A61-10BB-4112-9023-E7C7F40F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06BDA-5959-4FC1-933A-FB1DB547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57024-22B4-432B-BC4A-559D28B1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AAAE3-8C9B-4A9D-963C-FFA6D307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2E40-6771-443B-B2F0-3FB7F1B147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2A29-483E-4740-8EA3-38BC94F10B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9C4E-E5B9-438F-8B5F-6392E02773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88C4-7FEF-4D2F-B285-5CEF1B2EB2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A149-69F3-4D68-AFFE-CCB8CF129E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3679-5972-4B0A-8F45-42D2E28019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5F8D-529A-4BE4-A0F1-288A255F33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09FE-41C9-4180-8F46-64E5D3B8AB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8567-3826-4FC4-B6CF-E1DA411883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ED0C-55BC-43D4-A866-F6BBCC9EBD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8DC5-A4E0-4FE7-9E00-77EC525F0F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8451-ACBE-45F3-9728-DA7C0F6DB5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7"/>
          <p:cNvSpPr/>
          <p:nvPr/>
        </p:nvSpPr>
        <p:spPr>
          <a:xfrm>
            <a:off x="0" y="234936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ТЕОРЕМА, </a:t>
            </a:r>
            <a:br>
              <a:rPr sz="5000"/>
            </a:b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ОБРАТНАЯ ТЕОРЕМЕ </a:t>
            </a:r>
            <a:br>
              <a:rPr sz="5000"/>
            </a:b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ПИФАГОР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484360" y="530064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84360" y="4602240"/>
            <a:ext cx="640080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и ученики 8 «А» класса: Сагдеев Наиль, Круглов Никита, Глуховичев Ол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ила: учитель математики Фабер Г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42920" y="12682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66"/>
                </a:solidFill>
                <a:latin typeface="Arial"/>
              </a:rPr>
              <a:t>Практическая рабо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84360" y="47628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КОУ «Гимназия имени Горького А.М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49236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-1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2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 Эта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" descr="C:\Users\Катя\Desktop\Фото0219.jpg"/>
          <p:cNvPicPr/>
          <p:nvPr/>
        </p:nvPicPr>
        <p:blipFill>
          <a:blip r:embed="rId1"/>
          <a:stretch/>
        </p:blipFill>
        <p:spPr>
          <a:xfrm>
            <a:off x="900000" y="993600"/>
            <a:ext cx="7344000" cy="550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2"/>
          <p:cNvSpPr/>
          <p:nvPr/>
        </p:nvSpPr>
        <p:spPr>
          <a:xfrm>
            <a:off x="0" y="41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 Эта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C:\Users\Катя\Desktop\Фото0226.jpg"/>
          <p:cNvPicPr/>
          <p:nvPr/>
        </p:nvPicPr>
        <p:blipFill>
          <a:blip r:embed="rId1"/>
          <a:stretch/>
        </p:blipFill>
        <p:spPr>
          <a:xfrm>
            <a:off x="1008000" y="1057320"/>
            <a:ext cx="7128000" cy="544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0" y="1461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 Эта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C:\Users\Катя\Desktop\Фото0228.jpg"/>
          <p:cNvPicPr/>
          <p:nvPr/>
        </p:nvPicPr>
        <p:blipFill>
          <a:blip r:embed="rId1"/>
          <a:stretch/>
        </p:blipFill>
        <p:spPr>
          <a:xfrm>
            <a:off x="468360" y="993600"/>
            <a:ext cx="8207280" cy="544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Box 2"/>
          <p:cNvSpPr/>
          <p:nvPr/>
        </p:nvSpPr>
        <p:spPr>
          <a:xfrm>
            <a:off x="-25560" y="698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 Эта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3"/>
          <p:cNvSpPr/>
          <p:nvPr/>
        </p:nvSpPr>
        <p:spPr>
          <a:xfrm>
            <a:off x="5164200" y="5904000"/>
            <a:ext cx="397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ился Египетский 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C:\Users\Катя\Desktop\Фото0232.jpg"/>
          <p:cNvPicPr/>
          <p:nvPr/>
        </p:nvPicPr>
        <p:blipFill>
          <a:blip r:embed="rId1"/>
          <a:stretch/>
        </p:blipFill>
        <p:spPr>
          <a:xfrm>
            <a:off x="1116000" y="1125360"/>
            <a:ext cx="7272360" cy="488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AutoShape 25"/>
          <p:cNvSpPr/>
          <p:nvPr/>
        </p:nvSpPr>
        <p:spPr>
          <a:xfrm>
            <a:off x="358920" y="692280"/>
            <a:ext cx="4319280" cy="3238200"/>
          </a:xfrm>
          <a:prstGeom prst="rtTriangl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6"/>
          <p:cNvSpPr/>
          <p:nvPr/>
        </p:nvSpPr>
        <p:spPr>
          <a:xfrm>
            <a:off x="328680" y="191628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7"/>
          <p:cNvSpPr/>
          <p:nvPr/>
        </p:nvSpPr>
        <p:spPr>
          <a:xfrm>
            <a:off x="2021040" y="393048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8"/>
          <p:cNvSpPr/>
          <p:nvPr/>
        </p:nvSpPr>
        <p:spPr>
          <a:xfrm>
            <a:off x="2484360" y="1757520"/>
            <a:ext cx="4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69"/>
          <p:cNvSpPr/>
          <p:nvPr/>
        </p:nvSpPr>
        <p:spPr>
          <a:xfrm>
            <a:off x="592200" y="44751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5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= 3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+ 4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69"/>
          <p:cNvSpPr/>
          <p:nvPr/>
        </p:nvSpPr>
        <p:spPr>
          <a:xfrm>
            <a:off x="358920" y="2567160"/>
            <a:ext cx="2917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ЕГИПЕТСКИЙ</a:t>
            </a:r>
            <a:br>
              <a:rPr sz="2400"/>
            </a:b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 ТРЕУГОЛЬНИК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-36360" y="-243000"/>
            <a:ext cx="9145440" cy="21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СЛИ КВАДРАТ ОДНОЙ СТОРОНЫ ТРЕУГОЛЬНИКА РАВЕН СУММЕ КВАДРАТОВ ДВУХ ДРУГИХ СТОРОН, ТО ТРЕУГОЛЬНИК ПРЯМОУГО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5"/>
          <p:cNvSpPr/>
          <p:nvPr/>
        </p:nvSpPr>
        <p:spPr>
          <a:xfrm>
            <a:off x="898560" y="2014560"/>
            <a:ext cx="2305080" cy="1224000"/>
          </a:xfrm>
          <a:prstGeom prst="rtTriangl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69"/>
          <p:cNvSpPr/>
          <p:nvPr/>
        </p:nvSpPr>
        <p:spPr>
          <a:xfrm>
            <a:off x="4711680" y="17985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= A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+ 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4"/>
          <p:cNvSpPr/>
          <p:nvPr/>
        </p:nvSpPr>
        <p:spPr>
          <a:xfrm>
            <a:off x="539640" y="302580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4"/>
          <p:cNvSpPr/>
          <p:nvPr/>
        </p:nvSpPr>
        <p:spPr>
          <a:xfrm>
            <a:off x="539640" y="170028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14"/>
          <p:cNvSpPr/>
          <p:nvPr/>
        </p:nvSpPr>
        <p:spPr>
          <a:xfrm>
            <a:off x="3203640" y="302580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35"/>
          <p:cNvSpPr/>
          <p:nvPr/>
        </p:nvSpPr>
        <p:spPr>
          <a:xfrm>
            <a:off x="900000" y="3094200"/>
            <a:ext cx="108000" cy="144360"/>
          </a:xfrm>
          <a:custGeom>
            <a:avLst/>
            <a:gdLst/>
            <a:ahLst/>
            <a:rect l="l" t="t" r="r" b="b"/>
            <a:pathLst>
              <a:path w="91" h="91">
                <a:moveTo>
                  <a:pt x="0" y="0"/>
                </a:moveTo>
                <a:lnTo>
                  <a:pt x="91" y="0"/>
                </a:lnTo>
                <a:lnTo>
                  <a:pt x="91" y="9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36"/>
              <p:cNvSpPr txBox="1"/>
              <p:nvPr/>
            </p:nvSpPr>
            <p:spPr>
              <a:xfrm>
                <a:off x="5216400" y="2374920"/>
                <a:ext cx="2087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AutoShape 37"/>
          <p:cNvSpPr/>
          <p:nvPr/>
        </p:nvSpPr>
        <p:spPr>
          <a:xfrm>
            <a:off x="898560" y="3849840"/>
            <a:ext cx="2305080" cy="1223640"/>
          </a:xfrm>
          <a:prstGeom prst="rtTriangl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4"/>
          <p:cNvSpPr/>
          <p:nvPr/>
        </p:nvSpPr>
        <p:spPr>
          <a:xfrm>
            <a:off x="468360" y="4861080"/>
            <a:ext cx="503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468360" y="3535200"/>
            <a:ext cx="503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14"/>
          <p:cNvSpPr/>
          <p:nvPr/>
        </p:nvSpPr>
        <p:spPr>
          <a:xfrm>
            <a:off x="3203640" y="4861080"/>
            <a:ext cx="503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41"/>
          <p:cNvSpPr/>
          <p:nvPr/>
        </p:nvSpPr>
        <p:spPr>
          <a:xfrm>
            <a:off x="900000" y="4929120"/>
            <a:ext cx="108000" cy="144360"/>
          </a:xfrm>
          <a:custGeom>
            <a:avLst/>
            <a:gdLst/>
            <a:ahLst/>
            <a:rect l="l" t="t" r="r" b="b"/>
            <a:pathLst>
              <a:path w="91" h="91">
                <a:moveTo>
                  <a:pt x="0" y="0"/>
                </a:moveTo>
                <a:lnTo>
                  <a:pt x="91" y="0"/>
                </a:lnTo>
                <a:lnTo>
                  <a:pt x="91" y="9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69"/>
          <p:cNvSpPr/>
          <p:nvPr/>
        </p:nvSpPr>
        <p:spPr>
          <a:xfrm>
            <a:off x="4498920" y="2735280"/>
            <a:ext cx="403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= AC, 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= BC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69"/>
          <p:cNvSpPr/>
          <p:nvPr/>
        </p:nvSpPr>
        <p:spPr>
          <a:xfrm>
            <a:off x="4498920" y="3309840"/>
            <a:ext cx="403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=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+ 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69"/>
          <p:cNvSpPr/>
          <p:nvPr/>
        </p:nvSpPr>
        <p:spPr>
          <a:xfrm>
            <a:off x="4498920" y="3886200"/>
            <a:ext cx="403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= A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+ 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69"/>
          <p:cNvSpPr/>
          <p:nvPr/>
        </p:nvSpPr>
        <p:spPr>
          <a:xfrm>
            <a:off x="3706920" y="4390920"/>
            <a:ext cx="2554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= 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69"/>
          <p:cNvSpPr/>
          <p:nvPr/>
        </p:nvSpPr>
        <p:spPr>
          <a:xfrm>
            <a:off x="6477120" y="4430880"/>
            <a:ext cx="248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=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69"/>
          <p:cNvSpPr/>
          <p:nvPr/>
        </p:nvSpPr>
        <p:spPr>
          <a:xfrm>
            <a:off x="3379680" y="5145120"/>
            <a:ext cx="30974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∆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ABC =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∆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9"/>
          <p:cNvSpPr/>
          <p:nvPr/>
        </p:nvSpPr>
        <p:spPr>
          <a:xfrm>
            <a:off x="6335640" y="52880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по трем сторон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Object 50"/>
              <p:cNvSpPr txBox="1"/>
              <p:nvPr/>
            </p:nvSpPr>
            <p:spPr>
              <a:xfrm>
                <a:off x="2795760" y="5724360"/>
                <a:ext cx="3465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ыво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ы доказали опытным путем, что если квадрат одной стороны равен сумме квадратов двух других сторон, то треугольник прямоугольн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0T13:16:30Z</dcterms:created>
  <dc:creator>Intel</dc:creator>
  <dc:description/>
  <dc:language>en-US</dc:language>
  <cp:lastModifiedBy>User</cp:lastModifiedBy>
  <dcterms:modified xsi:type="dcterms:W3CDTF">2012-01-19T06:34:26Z</dcterms:modified>
  <cp:revision>395</cp:revision>
  <dc:subject/>
  <dc:title>Слайд 1</dc:title>
</cp:coreProperties>
</file>