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0.jpeg" ContentType="image/jpeg"/>
  <Override PartName="/ppt/media/image8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61AB-E77F-4844-9A1F-163D2F7EE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DA1C-7E22-4331-A512-D21AC63862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2B1B-1392-4D22-9FCE-C11D517D66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B98A-E9A0-4E40-B383-C0BA92595E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8051-24DA-4648-B3DB-6449F9CBDD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65C-EA55-49ED-9428-C9651466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5CE-4E94-449A-93AA-60F72811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C03-C3D3-4D38-9158-D212B205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0D4-7C10-4184-B3BF-856FFDD7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55E3-0498-4CCA-815D-785F40BD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F7AE-696E-41EF-80B8-7CA1D271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2532-3D65-4959-9877-AC4C5E38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3D29-B6F9-4E2D-95E1-0E385BD4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F5EE-0460-43AA-BAFC-DF1A1344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8C9-96EA-4AC8-B596-577BA3F6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E965-6094-44A1-8CE3-3A575D96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9E5-C085-4BE5-A220-0EFA9254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5266-9271-41E6-A255-17F33C97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C014-11B4-4001-A28F-C8E28642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5026-0A05-40B3-BED1-9CD7D800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D598-E687-42BB-B0AD-F11F6B72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5811-3133-4BA0-B7D5-171EBEC4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6A5-10AA-4BCF-9CF5-BE491503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5EC-9E4A-4857-9895-E6178E71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DC2-9481-4CD3-916A-765CBFE6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66B-AE7C-40F6-A42B-72437370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A58-F3CF-4326-BB4A-B0B5F1E9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4A3-9BC8-4A03-8AF0-4D1B11EC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BC1-020C-42AA-A095-24C6E44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2513-3259-4840-8D6F-17A6DB4C099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1765-65F6-4C18-A546-BDBB938510D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6.jpeg"/><Relationship Id="rId7" Type="http://schemas.openxmlformats.org/officeDocument/2006/relationships/image" Target="../media/image13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3.jpeg"/><Relationship Id="rId11" Type="http://schemas.openxmlformats.org/officeDocument/2006/relationships/image" Target="../media/image16.jpeg"/><Relationship Id="rId12" Type="http://schemas.openxmlformats.org/officeDocument/2006/relationships/image" Target="../media/image15.jpeg"/><Relationship Id="rId13" Type="http://schemas.openxmlformats.org/officeDocument/2006/relationships/image" Target="../media/image17.jpeg"/><Relationship Id="rId14" Type="http://schemas.openxmlformats.org/officeDocument/2006/relationships/image" Target="../media/image13.jpeg"/><Relationship Id="rId15" Type="http://schemas.openxmlformats.org/officeDocument/2006/relationships/image" Target="../media/image16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7.jpeg"/><Relationship Id="rId19" Type="http://schemas.openxmlformats.org/officeDocument/2006/relationships/image" Target="../media/image13.jpeg"/><Relationship Id="rId20" Type="http://schemas.openxmlformats.org/officeDocument/2006/relationships/image" Target="../media/image16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8.jpeg"/><Relationship Id="rId5" Type="http://schemas.openxmlformats.org/officeDocument/2006/relationships/image" Target="../media/image20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23.png"/><Relationship Id="rId13" Type="http://schemas.openxmlformats.org/officeDocument/2006/relationships/image" Target="../media/image25.png"/><Relationship Id="rId14" Type="http://schemas.openxmlformats.org/officeDocument/2006/relationships/image" Target="../media/image29.png"/><Relationship Id="rId15" Type="http://schemas.openxmlformats.org/officeDocument/2006/relationships/image" Target="../media/image23.png"/><Relationship Id="rId16" Type="http://schemas.openxmlformats.org/officeDocument/2006/relationships/image" Target="../media/image25.png"/><Relationship Id="rId17" Type="http://schemas.openxmlformats.org/officeDocument/2006/relationships/image" Target="../media/image29.png"/><Relationship Id="rId18" Type="http://schemas.openxmlformats.org/officeDocument/2006/relationships/image" Target="../media/image23.png"/><Relationship Id="rId19" Type="http://schemas.openxmlformats.org/officeDocument/2006/relationships/image" Target="../media/image25.png"/><Relationship Id="rId20" Type="http://schemas.openxmlformats.org/officeDocument/2006/relationships/image" Target="../media/image30.png"/><Relationship Id="rId21" Type="http://schemas.openxmlformats.org/officeDocument/2006/relationships/image" Target="../media/image29.png"/><Relationship Id="rId22" Type="http://schemas.openxmlformats.org/officeDocument/2006/relationships/image" Target="../media/image23.png"/><Relationship Id="rId23" Type="http://schemas.openxmlformats.org/officeDocument/2006/relationships/image" Target="../media/image25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4572000" y="0"/>
            <a:ext cx="4861080" cy="6858000"/>
            <a:chOff x="4572000" y="0"/>
            <a:chExt cx="4861080" cy="68580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573800" y="3429000"/>
              <a:ext cx="4859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572000" y="0"/>
              <a:ext cx="4861080" cy="35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«Берегите эту Землю, эту вод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Даже маленькую былиночку люб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Берегите всех зверей внутри природ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Убивайте зверей внутри себя!»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0" descr="лось 7.jpg"/>
          <p:cNvPicPr/>
          <p:nvPr/>
        </p:nvPicPr>
        <p:blipFill>
          <a:blip r:embed="rId1"/>
          <a:stretch/>
        </p:blipFill>
        <p:spPr>
          <a:xfrm>
            <a:off x="3203640" y="2182680"/>
            <a:ext cx="3214800" cy="46753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68" name="Рисунок 13" descr="олень 2.jpg"/>
          <p:cNvPicPr/>
          <p:nvPr/>
        </p:nvPicPr>
        <p:blipFill>
          <a:blip r:embed="rId2"/>
          <a:stretch/>
        </p:blipFill>
        <p:spPr>
          <a:xfrm>
            <a:off x="0" y="2852640"/>
            <a:ext cx="3338640" cy="40053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69" name="Рисунок 15" descr="заяц 2jpg.jpg"/>
          <p:cNvPicPr/>
          <p:nvPr/>
        </p:nvPicPr>
        <p:blipFill>
          <a:blip r:embed="rId3"/>
          <a:stretch/>
        </p:blipFill>
        <p:spPr>
          <a:xfrm>
            <a:off x="6249960" y="3068640"/>
            <a:ext cx="2894040" cy="37893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70" name="Рисунок 14" descr="марал.jpg"/>
          <p:cNvPicPr/>
          <p:nvPr/>
        </p:nvPicPr>
        <p:blipFill>
          <a:blip r:embed="rId4"/>
          <a:stretch/>
        </p:blipFill>
        <p:spPr>
          <a:xfrm>
            <a:off x="4859280" y="333360"/>
            <a:ext cx="4284720" cy="287964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71" name="Picture 13" descr="Изображениеприложение"/>
          <p:cNvPicPr/>
          <p:nvPr/>
        </p:nvPicPr>
        <p:blipFill>
          <a:blip r:embed="rId5"/>
          <a:stretch/>
        </p:blipFill>
        <p:spPr>
          <a:xfrm>
            <a:off x="0" y="333360"/>
            <a:ext cx="4859280" cy="2901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8"/>
          <p:cNvSpPr/>
          <p:nvPr/>
        </p:nvSpPr>
        <p:spPr>
          <a:xfrm>
            <a:off x="1910160" y="61657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Л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4791240" y="633888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0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 ЛЕСУ ВОДЯТСЯ ТРАВОЯДНЫЕ ЖИВОТНЫ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8030160" y="623736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ЗАЯ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7850160" y="2492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Р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3276720" y="263700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24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4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зубры.jpg"/>
          <p:cNvPicPr/>
          <p:nvPr/>
        </p:nvPicPr>
        <p:blipFill>
          <a:blip r:embed="rId1"/>
          <a:stretch/>
        </p:blipFill>
        <p:spPr>
          <a:xfrm>
            <a:off x="3059280" y="2419200"/>
            <a:ext cx="6084720" cy="44388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79" name="Рисунок 7" descr="выхухоль 2.jpg"/>
          <p:cNvPicPr/>
          <p:nvPr/>
        </p:nvPicPr>
        <p:blipFill>
          <a:blip r:embed="rId2"/>
          <a:stretch/>
        </p:blipFill>
        <p:spPr>
          <a:xfrm>
            <a:off x="0" y="4791240"/>
            <a:ext cx="2987640" cy="20667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80" name="Рисунок 9" descr="благородный олень.jpg"/>
          <p:cNvPicPr/>
          <p:nvPr/>
        </p:nvPicPr>
        <p:blipFill>
          <a:blip r:embed="rId3"/>
          <a:stretch/>
        </p:blipFill>
        <p:spPr>
          <a:xfrm>
            <a:off x="2987640" y="4429080"/>
            <a:ext cx="2513160" cy="24289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81" name="Рисунок 8" descr="пятнистый олень.jpg"/>
          <p:cNvPicPr/>
          <p:nvPr/>
        </p:nvPicPr>
        <p:blipFill>
          <a:blip r:embed="rId4"/>
          <a:stretch/>
        </p:blipFill>
        <p:spPr>
          <a:xfrm>
            <a:off x="0" y="2421000"/>
            <a:ext cx="3006720" cy="23986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182" name="Rectangle 10"/>
          <p:cNvSpPr/>
          <p:nvPr/>
        </p:nvSpPr>
        <p:spPr>
          <a:xfrm>
            <a:off x="94680" y="646128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ВЫХУХ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4572000" y="6156360"/>
            <a:ext cx="26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Black"/>
              </a:rPr>
              <a:t>БЛАГОРОДНЫЙ ОЛ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0" y="83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которые из животных стали редкими и поэтому находятся под охраной. Здесь вы видите некоторых из них. Выхухоль раньше водилась в изобилии в пойме нашей реки Ик. Сейчас встречается редко. Для охраны зубра создан заповедник под названием «Беловежская Пущ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164160" y="2492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 Black"/>
              </a:rPr>
              <a:t>ПЯТНИСТЫЙ ОЛ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7596360" y="64008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Black"/>
              </a:rPr>
              <a:t>ЗУБ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9280" y="189000"/>
            <a:ext cx="83725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НАХОДЯТСЯ ПОД ОХРАНОЙ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advTm="1000">
    <p:comb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Рисунок 3" descr="лиса.jpg"/>
          <p:cNvPicPr/>
          <p:nvPr/>
        </p:nvPicPr>
        <p:blipFill>
          <a:blip r:embed="rId1"/>
          <a:stretch/>
        </p:blipFill>
        <p:spPr>
          <a:xfrm>
            <a:off x="3711600" y="260280"/>
            <a:ext cx="5432400" cy="41911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90" name="Рисунок 6" descr="рысь.jpg"/>
          <p:cNvPicPr/>
          <p:nvPr/>
        </p:nvPicPr>
        <p:blipFill>
          <a:blip r:embed="rId2"/>
          <a:stretch/>
        </p:blipFill>
        <p:spPr>
          <a:xfrm>
            <a:off x="5796000" y="4292640"/>
            <a:ext cx="2949480" cy="23004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91" name="Рисунок 5" descr="соболь 2.jpg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5606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92" name="Рисунок 4" descr="амурский тигр 2_.jpg"/>
          <p:cNvPicPr/>
          <p:nvPr/>
        </p:nvPicPr>
        <p:blipFill>
          <a:blip r:embed="rId4"/>
          <a:stretch/>
        </p:blipFill>
        <p:spPr>
          <a:xfrm>
            <a:off x="0" y="476280"/>
            <a:ext cx="4284720" cy="32130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193" name="Rectangle 8"/>
          <p:cNvSpPr/>
          <p:nvPr/>
        </p:nvSpPr>
        <p:spPr>
          <a:xfrm>
            <a:off x="2991960" y="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Хищные 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2" descr="волк 2.jpg"/>
          <p:cNvPicPr/>
          <p:nvPr/>
        </p:nvPicPr>
        <p:blipFill>
          <a:blip r:embed="rId5"/>
          <a:stretch/>
        </p:blipFill>
        <p:spPr>
          <a:xfrm>
            <a:off x="2843280" y="4149720"/>
            <a:ext cx="3325680" cy="24940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195" name="TextBox 9"/>
          <p:cNvSpPr/>
          <p:nvPr/>
        </p:nvSpPr>
        <p:spPr>
          <a:xfrm>
            <a:off x="555480" y="17002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Т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1401480" y="55166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Black"/>
              </a:rPr>
              <a:t>СОБ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2813040" y="4581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ВОЛ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8192520" y="5661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РЫ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4513680" y="28526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Л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2735280" y="47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десь представлены некоторые из 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2195640" y="64468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Хищники питаются травояд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Рисунок 4" descr="амурский тигр 2_.jpg"/>
          <p:cNvPicPr/>
          <p:nvPr/>
        </p:nvPicPr>
        <p:blipFill>
          <a:blip r:embed="rId6"/>
          <a:stretch/>
        </p:blipFill>
        <p:spPr>
          <a:xfrm>
            <a:off x="0" y="476280"/>
            <a:ext cx="4284720" cy="32130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03" name="Рисунок 3" descr="лиса.jpg"/>
          <p:cNvPicPr/>
          <p:nvPr/>
        </p:nvPicPr>
        <p:blipFill>
          <a:blip r:embed="rId7"/>
          <a:stretch/>
        </p:blipFill>
        <p:spPr>
          <a:xfrm>
            <a:off x="3711600" y="260280"/>
            <a:ext cx="5432400" cy="41911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04" name="Рисунок 4" descr="амурский тигр 2_.jpg"/>
          <p:cNvPicPr/>
          <p:nvPr/>
        </p:nvPicPr>
        <p:blipFill>
          <a:blip r:embed="rId8"/>
          <a:stretch/>
        </p:blipFill>
        <p:spPr>
          <a:xfrm>
            <a:off x="0" y="476280"/>
            <a:ext cx="4284720" cy="32130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05" name="Рисунок 2" descr="волк 2.jpg"/>
          <p:cNvPicPr/>
          <p:nvPr/>
        </p:nvPicPr>
        <p:blipFill>
          <a:blip r:embed="rId9"/>
          <a:stretch/>
        </p:blipFill>
        <p:spPr>
          <a:xfrm>
            <a:off x="2843280" y="4149720"/>
            <a:ext cx="3325680" cy="24940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06" name="Рисунок 3" descr="лиса.jpg"/>
          <p:cNvPicPr/>
          <p:nvPr/>
        </p:nvPicPr>
        <p:blipFill>
          <a:blip r:embed="rId10"/>
          <a:stretch/>
        </p:blipFill>
        <p:spPr>
          <a:xfrm>
            <a:off x="3711600" y="260280"/>
            <a:ext cx="5432400" cy="41911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07" name="Рисунок 4" descr="амурский тигр 2_.jpg"/>
          <p:cNvPicPr/>
          <p:nvPr/>
        </p:nvPicPr>
        <p:blipFill>
          <a:blip r:embed="rId11"/>
          <a:stretch/>
        </p:blipFill>
        <p:spPr>
          <a:xfrm>
            <a:off x="0" y="476280"/>
            <a:ext cx="4284720" cy="32130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08" name="Рисунок 5" descr="соболь 2.jpg"/>
          <p:cNvPicPr/>
          <p:nvPr/>
        </p:nvPicPr>
        <p:blipFill>
          <a:blip r:embed="rId12"/>
          <a:stretch/>
        </p:blipFill>
        <p:spPr>
          <a:xfrm>
            <a:off x="0" y="3716280"/>
            <a:ext cx="2808360" cy="25606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09" name="Рисунок 2" descr="волк 2.jpg"/>
          <p:cNvPicPr/>
          <p:nvPr/>
        </p:nvPicPr>
        <p:blipFill>
          <a:blip r:embed="rId13"/>
          <a:stretch/>
        </p:blipFill>
        <p:spPr>
          <a:xfrm>
            <a:off x="2843280" y="4149720"/>
            <a:ext cx="3325680" cy="24940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10" name="Рисунок 3" descr="лиса.jpg"/>
          <p:cNvPicPr/>
          <p:nvPr/>
        </p:nvPicPr>
        <p:blipFill>
          <a:blip r:embed="rId14"/>
          <a:stretch/>
        </p:blipFill>
        <p:spPr>
          <a:xfrm>
            <a:off x="3711600" y="260280"/>
            <a:ext cx="5432400" cy="41911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11" name="Рисунок 4" descr="амурский тигр 2_.jpg"/>
          <p:cNvPicPr/>
          <p:nvPr/>
        </p:nvPicPr>
        <p:blipFill>
          <a:blip r:embed="rId15"/>
          <a:stretch/>
        </p:blipFill>
        <p:spPr>
          <a:xfrm>
            <a:off x="0" y="476280"/>
            <a:ext cx="4284720" cy="32130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12" name="Рисунок 6" descr="рысь.jpg"/>
          <p:cNvPicPr/>
          <p:nvPr/>
        </p:nvPicPr>
        <p:blipFill>
          <a:blip r:embed="rId16"/>
          <a:stretch/>
        </p:blipFill>
        <p:spPr>
          <a:xfrm>
            <a:off x="5796000" y="4292640"/>
            <a:ext cx="2949480" cy="23004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13" name="Рисунок 5" descr="соболь 2.jpg"/>
          <p:cNvPicPr/>
          <p:nvPr/>
        </p:nvPicPr>
        <p:blipFill>
          <a:blip r:embed="rId17"/>
          <a:stretch/>
        </p:blipFill>
        <p:spPr>
          <a:xfrm>
            <a:off x="0" y="3716280"/>
            <a:ext cx="2808360" cy="25606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14" name="Рисунок 2" descr="волк 2.jpg"/>
          <p:cNvPicPr/>
          <p:nvPr/>
        </p:nvPicPr>
        <p:blipFill>
          <a:blip r:embed="rId18"/>
          <a:stretch/>
        </p:blipFill>
        <p:spPr>
          <a:xfrm>
            <a:off x="2843280" y="4149720"/>
            <a:ext cx="3325680" cy="24940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15" name="Рисунок 3" descr="лиса.jpg"/>
          <p:cNvPicPr/>
          <p:nvPr/>
        </p:nvPicPr>
        <p:blipFill>
          <a:blip r:embed="rId19"/>
          <a:stretch/>
        </p:blipFill>
        <p:spPr>
          <a:xfrm>
            <a:off x="3711600" y="260280"/>
            <a:ext cx="5432400" cy="41911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216" name="Рисунок 4" descr="амурский тигр 2_.jpg"/>
          <p:cNvPicPr/>
          <p:nvPr/>
        </p:nvPicPr>
        <p:blipFill>
          <a:blip r:embed="rId20"/>
          <a:stretch/>
        </p:blipFill>
        <p:spPr>
          <a:xfrm>
            <a:off x="0" y="476280"/>
            <a:ext cx="4284720" cy="32130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  <p:transition advTm="1000">
    <p:comb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50"/>
                            </p:stCondLst>
                            <p:childTnLst>
                              <p:par>
                                <p:cTn id="1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50"/>
                            </p:stCondLst>
                            <p:childTnLst>
                              <p:par>
                                <p:cTn id="2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427640" y="836640"/>
            <a:ext cx="4716360" cy="2635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5257800" cy="3352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880920"/>
            <a:ext cx="4446720" cy="5977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 rot="255000">
            <a:off x="2195280" y="0"/>
            <a:ext cx="496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дведь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427640" y="836640"/>
            <a:ext cx="4716360" cy="2635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0" y="880920"/>
            <a:ext cx="4446720" cy="5977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4427640" y="836640"/>
            <a:ext cx="4716360" cy="2635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3886200" y="3505320"/>
            <a:ext cx="5257800" cy="3352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0" y="880920"/>
            <a:ext cx="4446720" cy="5977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4427640" y="836640"/>
            <a:ext cx="4716360" cy="2635200"/>
          </a:xfrm>
          <a:prstGeom prst="rect">
            <a:avLst/>
          </a:prstGeom>
          <a:ln w="0">
            <a:noFill/>
          </a:ln>
        </p:spPr>
      </p:pic>
    </p:spTree>
  </p:cSld>
  <p:transition advTm="1000">
    <p:comb dir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 rot="186000">
            <a:off x="324000" y="0"/>
            <a:ext cx="40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РУНДУК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000">
    <p:comb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2628720" cy="23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1" name="Рисунок 2" descr="зяблик.jpeg"/>
          <p:cNvPicPr/>
          <p:nvPr/>
        </p:nvPicPr>
        <p:blipFill>
          <a:blip r:embed="rId2"/>
          <a:stretch/>
        </p:blipFill>
        <p:spPr>
          <a:xfrm>
            <a:off x="0" y="1341360"/>
            <a:ext cx="2359080" cy="21765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кукушка.jpg"/>
          <p:cNvPicPr/>
          <p:nvPr/>
        </p:nvPicPr>
        <p:blipFill>
          <a:blip r:embed="rId3"/>
          <a:stretch/>
        </p:blipFill>
        <p:spPr>
          <a:xfrm>
            <a:off x="1692360" y="4292640"/>
            <a:ext cx="1998720" cy="2224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сорока.jpg"/>
          <p:cNvPicPr/>
          <p:nvPr/>
        </p:nvPicPr>
        <p:blipFill>
          <a:blip r:embed="rId4"/>
          <a:stretch/>
        </p:blipFill>
        <p:spPr>
          <a:xfrm>
            <a:off x="6300720" y="0"/>
            <a:ext cx="2146320" cy="31399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0" descr="снегирь.jpg"/>
          <p:cNvPicPr/>
          <p:nvPr/>
        </p:nvPicPr>
        <p:blipFill>
          <a:blip r:embed="rId5"/>
          <a:stretch/>
        </p:blipFill>
        <p:spPr>
          <a:xfrm>
            <a:off x="0" y="4508640"/>
            <a:ext cx="1792440" cy="19746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1" descr="свирестель.jpg"/>
          <p:cNvPicPr/>
          <p:nvPr/>
        </p:nvPicPr>
        <p:blipFill>
          <a:blip r:embed="rId6"/>
          <a:stretch/>
        </p:blipFill>
        <p:spPr>
          <a:xfrm>
            <a:off x="3635280" y="4365720"/>
            <a:ext cx="1847880" cy="20239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2" descr="тетерев.jpg"/>
          <p:cNvPicPr/>
          <p:nvPr/>
        </p:nvPicPr>
        <p:blipFill>
          <a:blip r:embed="rId7"/>
          <a:stretch/>
        </p:blipFill>
        <p:spPr>
          <a:xfrm>
            <a:off x="5724360" y="4508640"/>
            <a:ext cx="2760840" cy="20667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кедровка.jpg"/>
          <p:cNvPicPr/>
          <p:nvPr/>
        </p:nvPicPr>
        <p:blipFill>
          <a:blip r:embed="rId8"/>
          <a:stretch/>
        </p:blipFill>
        <p:spPr>
          <a:xfrm>
            <a:off x="4572000" y="1773360"/>
            <a:ext cx="2286000" cy="1890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дятел.jpg"/>
          <p:cNvPicPr/>
          <p:nvPr/>
        </p:nvPicPr>
        <p:blipFill>
          <a:blip r:embed="rId9"/>
          <a:stretch/>
        </p:blipFill>
        <p:spPr>
          <a:xfrm>
            <a:off x="6588000" y="2637000"/>
            <a:ext cx="2194200" cy="2079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6"/>
          <p:cNvSpPr/>
          <p:nvPr/>
        </p:nvSpPr>
        <p:spPr>
          <a:xfrm>
            <a:off x="395280" y="40766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еги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067280" y="407664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едр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2772000" y="3645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уха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2194920" y="41497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уку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7666920" y="609300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етер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469440" y="35002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яб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7957080" y="213372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а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763560" y="640080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Какие птицы вам знаком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42920" y="260280"/>
            <a:ext cx="504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ицы лесной зоны</a:t>
            </a:r>
            <a:endParaRPr b="0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8" name="Рисунок 2" descr="зяблик.jpeg"/>
          <p:cNvPicPr/>
          <p:nvPr/>
        </p:nvPicPr>
        <p:blipFill>
          <a:blip r:embed="rId12"/>
          <a:stretch/>
        </p:blipFill>
        <p:spPr>
          <a:xfrm>
            <a:off x="0" y="1341360"/>
            <a:ext cx="2359080" cy="21765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7" descr="сорока.jpg"/>
          <p:cNvPicPr/>
          <p:nvPr/>
        </p:nvPicPr>
        <p:blipFill>
          <a:blip r:embed="rId13"/>
          <a:stretch/>
        </p:blipFill>
        <p:spPr>
          <a:xfrm>
            <a:off x="6300720" y="0"/>
            <a:ext cx="2146320" cy="31399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кедровка.jpg"/>
          <p:cNvPicPr/>
          <p:nvPr/>
        </p:nvPicPr>
        <p:blipFill>
          <a:blip r:embed="rId14"/>
          <a:stretch/>
        </p:blipFill>
        <p:spPr>
          <a:xfrm>
            <a:off x="4572000" y="1773360"/>
            <a:ext cx="2286000" cy="1890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2" descr="зяблик.jpeg"/>
          <p:cNvPicPr/>
          <p:nvPr/>
        </p:nvPicPr>
        <p:blipFill>
          <a:blip r:embed="rId15"/>
          <a:stretch/>
        </p:blipFill>
        <p:spPr>
          <a:xfrm>
            <a:off x="0" y="1341360"/>
            <a:ext cx="2359080" cy="217656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7" descr="сорока.jpg"/>
          <p:cNvPicPr/>
          <p:nvPr/>
        </p:nvPicPr>
        <p:blipFill>
          <a:blip r:embed="rId16"/>
          <a:stretch/>
        </p:blipFill>
        <p:spPr>
          <a:xfrm>
            <a:off x="6300720" y="0"/>
            <a:ext cx="2146320" cy="31399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" descr="кедровка.jpg"/>
          <p:cNvPicPr/>
          <p:nvPr/>
        </p:nvPicPr>
        <p:blipFill>
          <a:blip r:embed="rId17"/>
          <a:stretch/>
        </p:blipFill>
        <p:spPr>
          <a:xfrm>
            <a:off x="4572000" y="1773360"/>
            <a:ext cx="2286000" cy="18907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" descr="зяблик.jpeg"/>
          <p:cNvPicPr/>
          <p:nvPr/>
        </p:nvPicPr>
        <p:blipFill>
          <a:blip r:embed="rId18"/>
          <a:stretch/>
        </p:blipFill>
        <p:spPr>
          <a:xfrm>
            <a:off x="0" y="1341360"/>
            <a:ext cx="2359080" cy="2176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7" descr="сорока.jpg"/>
          <p:cNvPicPr/>
          <p:nvPr/>
        </p:nvPicPr>
        <p:blipFill>
          <a:blip r:embed="rId19"/>
          <a:stretch/>
        </p:blipFill>
        <p:spPr>
          <a:xfrm>
            <a:off x="6300720" y="0"/>
            <a:ext cx="2146320" cy="31399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дятел.jpg"/>
          <p:cNvPicPr/>
          <p:nvPr/>
        </p:nvPicPr>
        <p:blipFill>
          <a:blip r:embed="rId20"/>
          <a:stretch/>
        </p:blipFill>
        <p:spPr>
          <a:xfrm>
            <a:off x="6588000" y="2637000"/>
            <a:ext cx="2194200" cy="2079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6" descr="кедровка.jpg"/>
          <p:cNvPicPr/>
          <p:nvPr/>
        </p:nvPicPr>
        <p:blipFill>
          <a:blip r:embed="rId21"/>
          <a:stretch/>
        </p:blipFill>
        <p:spPr>
          <a:xfrm>
            <a:off x="4572000" y="1773360"/>
            <a:ext cx="2286000" cy="18907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2" descr="зяблик.jpeg"/>
          <p:cNvPicPr/>
          <p:nvPr/>
        </p:nvPicPr>
        <p:blipFill>
          <a:blip r:embed="rId22"/>
          <a:stretch/>
        </p:blipFill>
        <p:spPr>
          <a:xfrm>
            <a:off x="0" y="1341360"/>
            <a:ext cx="2359080" cy="21765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7" descr="сорока.jpg"/>
          <p:cNvPicPr/>
          <p:nvPr/>
        </p:nvPicPr>
        <p:blipFill>
          <a:blip r:embed="rId23"/>
          <a:stretch/>
        </p:blipFill>
        <p:spPr>
          <a:xfrm>
            <a:off x="6300720" y="0"/>
            <a:ext cx="2146320" cy="3139920"/>
          </a:xfrm>
          <a:prstGeom prst="rect">
            <a:avLst/>
          </a:prstGeom>
          <a:ln w="0">
            <a:noFill/>
          </a:ln>
        </p:spPr>
      </p:pic>
    </p:spTree>
  </p:cSld>
  <p:transition advTm="1000">
    <p:comb dir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000"/>
                            </p:stCondLst>
                            <p:childTnLst>
                              <p:par>
                                <p:cTn id="4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with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9800"/>
                            </p:stCondLst>
                            <p:childTnLst>
                              <p:par>
                                <p:cTn id="5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with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5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with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5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8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6800"/>
                            </p:stCondLst>
                            <p:childTnLst>
                              <p:par>
                                <p:cTn id="5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25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6500"/>
                            </p:stCondLst>
                            <p:childTnLst>
                              <p:par>
                                <p:cTn id="5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75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8500"/>
                            </p:stCondLst>
                            <p:childTnLst>
                              <p:par>
                                <p:cTn id="6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500"/>
                            </p:stCondLst>
                            <p:childTnLst>
                              <p:par>
                                <p:cTn id="6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2500"/>
                            </p:stCondLst>
                            <p:childTnLst>
                              <p:par>
                                <p:cTn id="6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3500"/>
                            </p:stCondLst>
                            <p:childTnLst>
                              <p:par>
                                <p:cTn id="6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914400" y="189000"/>
          <a:ext cx="8229600" cy="6119640"/>
        </p:xfrm>
        <a:graphic>
          <a:graphicData uri="http://schemas.openxmlformats.org/drawingml/2006/table">
            <a:tbl>
              <a:tblPr/>
              <a:tblGrid>
                <a:gridCol w="912960"/>
                <a:gridCol w="915840"/>
                <a:gridCol w="911160"/>
                <a:gridCol w="914400"/>
                <a:gridCol w="912960"/>
                <a:gridCol w="914400"/>
                <a:gridCol w="915840"/>
                <a:gridCol w="917640"/>
                <a:gridCol w="914400"/>
              </a:tblGrid>
              <a:tr h="882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8160">
                      <a:solidFill>
                        <a:srgbClr val="ff0000"/>
                      </a:solidFill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6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>
                      <a:noFill/>
                    </a:lnR>
                    <a:lnT w="381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>
                      <a:noFill/>
                    </a:lnR>
                    <a:lnT w="381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-1332000" y="37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971640" y="65674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389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81820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87280" y="404640"/>
            <a:ext cx="39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КРОССВОРД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767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24360" y="775008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79660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72360" y="8037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861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89740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1765440" y="692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1908000" y="141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052720" y="21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2413080" y="4365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2052720" y="767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56360" y="-45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40720" y="-60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747280" y="-747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468000" y="40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0" y="1844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685440" y="285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828360" y="5157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612360" y="6165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88360" y="77500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95640" y="-74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8360" y="87580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omb dir="vert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39 0.05017 C 0.15798 -0.02798 0.21909 -0.10497 0.246 -0.13642 C 0.27291 -0.16786 0.25642 -0.13919 0.25781 -0.14012 E">
                                      <p:cBhvr>
                                        <p:cTn id="641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-0.12856 C -0.04115 -0.16023 -0.11632 -0.19121 -0.06771 -0.26289 C -0.01928 -0.33434 0.25921 -0.50867 0.32466 -0.55769 E">
                                      <p:cBhvr>
                                        <p:cTn id="644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77 -0.02405 C -0.0974 -0.11052 -0.15973 -0.19653 -0.17049 -0.26058 C -0.18125 -0.32486 -0.18108 -0.33942 -0.1 -0.40902 C -0.01997 -0.47838 0.14774 -0.57827 0.31475 -0.67746 E">
                                      <p:cBhvr>
                                        <p:cTn id="647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3768 L 0.3349 -0.79283 E">
                                      <p:cBhvr>
                                        <p:cTn id="650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3 -0.06497 C -0.07986 -0.40809 -0.1283 -0.75075 -0.0823 -0.84301 C -0.03629 -0.93526 0.246 -0.61896 0.24461 -0.61896 C 0.24323 -0.61896 -0.03611 -0.80671 -0.09028 -0.84301 C -0.14445 -0.87931 -0.11268 -0.85804 -0.08073 -0.83653 E">
                                      <p:cBhvr>
                                        <p:cTn id="65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75 -0.01179 C -0.22327 -0.12393 -0.42361 -0.23584 -0.47361 -0.3415 C -0.52361 -0.44717 -0.34705 -0.5963 -0.32275 -0.64601 E">
                                      <p:cBhvr>
                                        <p:cTn id="657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4578 C 0.09965 -0.16739 0.20712 -0.28901 0.12882 -0.37572 C 0.05052 -0.46242 -0.21354 -0.51421 -0.47761 -0.56601 E">
                                      <p:cBhvr>
                                        <p:cTn id="66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28 -0.04948 C -0.15972 -0.14937 -0.30399 -0.24902 -0.32483 -0.33064 C -0.34566 -0.41226 -0.24323 -0.47607 -0.1408 -0.53989 E">
                                      <p:cBhvr>
                                        <p:cTn id="663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5549 C -0.0474 -0.20555 -0.08281 -0.35561 -0.1342 -0.44855 C -0.18559 -0.5415 -0.27639 -0.60763 -0.31997 -0.61364 C -0.36354 -0.61965 -0.37986 -0.55214 -0.39618 -0.48462 E">
                                      <p:cBhvr>
                                        <p:cTn id="666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07514 C 0.3507 0.03977 0.63837 0.00439 0.76459 0.04138 C 0.8908 0.07838 0.81094 0.25456 0.82014 0.29711 E">
                                      <p:cBhvr>
                                        <p:cTn id="67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0.0037 C 0.14132 -0.11168 0.25538 -0.22682 0.375 -0.23515 C 0.49462 -0.24347 0.66858 -0.13364 0.74497 -0.04694 C 0.82136 0.03977 0.82761 0.16231 0.83386 0.28485 E">
                                      <p:cBhvr>
                                        <p:cTn id="67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148 C 0.20469 -0.09965 0.37014 -0.18451 0.50608 -0.13318 C 0.64184 -0.08185 0.74757 0.1059 0.85382 0.29364 E">
                                      <p:cBhvr>
                                        <p:cTn id="67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000"/>
                            </p:stCondLst>
                            <p:childTnLst>
                              <p:par>
                                <p:cTn id="6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-0.01457 C 0.13854 -0.13665 0.24184 -0.2585 0.35764 -0.31284 C 0.47344 -0.36717 0.6408 -0.40486 0.73055 -0.34012 C 0.82066 -0.27538 0.85903 -0.09966 0.89739 0.0763 E">
                                      <p:cBhvr>
                                        <p:cTn id="679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3 -0.05018 C -0.03055 -0.14405 -0.06753 -0.23769 -0.02847 -0.32301 C 0.01059 -0.40833 0.17813 -0.52971 0.24115 -0.56185 C 0.30452 -0.59399 0.32761 -0.55468 0.35087 -0.51538 E">
                                      <p:cBhvr>
                                        <p:cTn id="683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72 -0.01942 C -0.18854 -0.04162 -0.19218 -0.06335 -0.23559 -0.01942 C -0.27899 0.02428 -0.42743 0.12647 -0.44514 0.24231 C -0.46284 0.35815 -0.40243 0.51699 -0.34184 0.67584 E">
                                      <p:cBhvr>
                                        <p:cTn id="686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99 -0.0007 C -0.20573 0.0578 -0.3533 0.11653 -0.41198 0.23167 C -0.47066 0.34682 -0.44063 0.51861 -0.41042 0.6904 E">
                                      <p:cBhvr>
                                        <p:cTn id="689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6000"/>
                            </p:stCondLst>
                            <p:childTnLst>
                              <p:par>
                                <p:cTn id="6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63 0.07098 C -0.18733 0.08254 -0.30886 0.09433 -0.36893 0.2 C -0.429 0.30566 -0.42761 0.50543 -0.42605 0.7052 E">
                                      <p:cBhvr>
                                        <p:cTn id="69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000"/>
                            </p:stCondLst>
                            <p:childTnLst>
                              <p:par>
                                <p:cTn id="6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77 0.06728 C -0.28733 0.08277 -0.44289 0.09849 -0.47136 0.17919 C -0.49983 0.25988 -0.33108 0.48948 -0.30313 0.55121 E">
                                      <p:cBhvr>
                                        <p:cTn id="695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8 0.00231 C -0.09323 0.06173 -0.12465 0.12139 -0.1316 0.14613 C -0.13854 0.17087 -0.0967 0.1193 -0.10312 0.15029 C -0.10955 0.18127 -0.13975 0.25665 -0.16979 0.33202 E">
                                      <p:cBhvr>
                                        <p:cTn id="698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5 -0.04509 C -0.09132 0.0104 -0.17691 0.0659 -0.19757 0.10497 C -0.21823 0.14405 -0.17378 0.1667 -0.12934 0.18936 E">
                                      <p:cBhvr>
                                        <p:cTn id="70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2 -0.05965 C -0.06615 -0.29225 -0.1184 -0.52485 -0.15816 -0.6326 C -0.19792 -0.74035 -0.225 -0.72347 -0.25191 -0.70659 E">
                                      <p:cBhvr>
                                        <p:cTn id="705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-0.03329 C -0.00868 -0.24069 -0.03629 -0.44786 -0.12865 -0.58497 C -0.22101 -0.72208 -0.51893 -0.83422 -0.53507 -0.85549 C -0.55122 -0.87676 -0.38837 -0.79445 -0.22552 -0.71214 E">
                                      <p:cBhvr>
                                        <p:cTn id="708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000"/>
                            </p:stCondLst>
                            <p:childTnLst>
                              <p:par>
                                <p:cTn id="7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8 -0.04578 C -0.33125 -0.42705 -0.60069 -0.80832 -0.60937 -0.94219 C -0.61805 -1.07607 -0.36614 -0.96277 -0.11423 -0.84924 E">
                                      <p:cBhvr>
                                        <p:cTn id="711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688 C 0.19184 0.04115 0.35226 0.09942 0.41389 0.12254 C 0.47552 0.14612 0.4573 0.09965 0.40122 0.12254 C 0.34514 0.14566 0.04445 0.19491 0.07743 0.26011 C 0.11042 0.32532 0.35504 0.41942 0.59966 0.51375 E">
                                      <p:cBhvr>
                                        <p:cTn id="714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8000"/>
                            </p:stCondLst>
                            <p:childTnLst>
                              <p:par>
                                <p:cTn id="7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78 -0.04924 C -0.35139 -0.51953 -0.67882 -0.98959 -0.82066 -1.10196 C -0.9625 -1.21433 -0.99826 -0.77872 -0.87448 -0.72346 C -0.75069 -0.6682 -0.41424 -0.71907 -0.07778 -0.76994 E">
                                      <p:cBhvr>
                                        <p:cTn id="717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8:02:47Z</dcterms:created>
  <dc:creator>Сервис</dc:creator>
  <dc:description/>
  <dc:language>en-US</dc:language>
  <cp:lastModifiedBy>KSP</cp:lastModifiedBy>
  <dcterms:modified xsi:type="dcterms:W3CDTF">2012-02-16T09:08:15Z</dcterms:modified>
  <cp:revision>53</cp:revision>
  <dc:subject/>
  <dc:title>Слайд 1</dc:title>
</cp:coreProperties>
</file>