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5110-CD84-4A38-80E8-256461322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DEEE-739A-4631-8EDD-E84AE6D88A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C65E-24B0-4B45-AE67-4CB629B924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4239-D296-41DD-B3F2-B926569F6E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125-4314-4374-B743-BE66992B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CA8-03C4-4610-9F5C-25274055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31A-850C-4848-9F4D-0A1B07F8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3E3-0934-491B-BBFC-5F3B64E6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E693-FB79-4CFC-BB4A-D3059185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143E-662C-48DD-882F-59CA3870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53D4-0911-4842-ACF7-86A0E759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6052-5A15-4C14-A7DC-19DA00F2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8C30-38EE-4D41-925D-66C4C682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2819-B3EC-412F-8416-62AA0416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796F-A0D7-41D3-A481-3773C12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ADA-F7E8-4DA7-A9AC-34FDC776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14DE-72D7-41D0-994E-C0989817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B9A5-92E6-4D91-926D-E152DF47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BA7C-E146-423F-8788-93AA4688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ED6F-4538-41A4-87DC-0ADC03CA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75D8-F7A7-4522-B39A-09CD0D21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8BD-B086-46E8-B010-C50E4F9D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B5E-9894-4CCB-976E-89D2891B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E57-2952-4693-A979-82718B78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399-B7AB-449C-B403-725487C6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C05-F909-480F-B636-66C9C8F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BC3-1AE6-49BA-82D8-2DDC64E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3A3-CDF9-4170-B0F2-C4CE4A5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9719-D01D-41A5-9E12-3F6A750F87A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A49F-54F5-478D-8319-B53A65F61A7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EB0FE7DA"/>
          <p:cNvPicPr/>
          <p:nvPr/>
        </p:nvPicPr>
        <p:blipFill>
          <a:blip r:embed="rId1"/>
          <a:stretch/>
        </p:blipFill>
        <p:spPr>
          <a:xfrm>
            <a:off x="0" y="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0" y="407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называются леса, расположенные южнее смешанных лес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чем отличаются смешанные леса от тайг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перечислите, какие лиственные и хвойные деревья растут в нашей мест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9" descr="84DCD5C6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5110200"/>
            <a:ext cx="8893080" cy="16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dobe Ming Std L"/>
              </a:rPr>
              <a:t>Лес – это дом лесных обитателей. Он предоставляет им убежище, корм. Здесь водится огромное количество разнообразных животных и птиц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1395360" y="7053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572000" y="0"/>
            <a:ext cx="4861080" cy="6858000"/>
            <a:chOff x="4572000" y="0"/>
            <a:chExt cx="4861080" cy="685800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4573800" y="3429000"/>
              <a:ext cx="4859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572000" y="0"/>
              <a:ext cx="4861080" cy="35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«Берегите эту Землю, эту вод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Даже маленькую былиночку люб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Берегите всех зверей внутри природ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Убивайте зверей внутри себя!»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">
    <p:comb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0" descr="лось 7.jpg"/>
          <p:cNvPicPr/>
          <p:nvPr/>
        </p:nvPicPr>
        <p:blipFill>
          <a:blip r:embed="rId1"/>
          <a:stretch/>
        </p:blipFill>
        <p:spPr>
          <a:xfrm>
            <a:off x="3203640" y="2182680"/>
            <a:ext cx="3214800" cy="46753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73" name="Рисунок 13" descr="олень 2.jpg"/>
          <p:cNvPicPr/>
          <p:nvPr/>
        </p:nvPicPr>
        <p:blipFill>
          <a:blip r:embed="rId2"/>
          <a:stretch/>
        </p:blipFill>
        <p:spPr>
          <a:xfrm>
            <a:off x="0" y="2852640"/>
            <a:ext cx="3338640" cy="40053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74" name="Рисунок 15" descr="заяц 2jpg.jpg"/>
          <p:cNvPicPr/>
          <p:nvPr/>
        </p:nvPicPr>
        <p:blipFill>
          <a:blip r:embed="rId3"/>
          <a:stretch/>
        </p:blipFill>
        <p:spPr>
          <a:xfrm>
            <a:off x="6249960" y="3068640"/>
            <a:ext cx="2894040" cy="37893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75" name="Рисунок 14" descr="марал.jpg"/>
          <p:cNvPicPr/>
          <p:nvPr/>
        </p:nvPicPr>
        <p:blipFill>
          <a:blip r:embed="rId4"/>
          <a:stretch/>
        </p:blipFill>
        <p:spPr>
          <a:xfrm>
            <a:off x="4859280" y="333360"/>
            <a:ext cx="4284720" cy="287964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76" name="Picture 13" descr="Изображениеприложение"/>
          <p:cNvPicPr/>
          <p:nvPr/>
        </p:nvPicPr>
        <p:blipFill>
          <a:blip r:embed="rId5"/>
          <a:stretch/>
        </p:blipFill>
        <p:spPr>
          <a:xfrm>
            <a:off x="0" y="333360"/>
            <a:ext cx="4859280" cy="29019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8"/>
          <p:cNvSpPr/>
          <p:nvPr/>
        </p:nvSpPr>
        <p:spPr>
          <a:xfrm>
            <a:off x="1910160" y="61657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Л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4791240" y="633888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 ЛЕСУ ВОДЯТСЯ ТРАВОЯДНЫЕ ЖИВОТНЫ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8030160" y="623736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ЗАЯ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7850160" y="2492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Р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3276720" y="263700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omb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24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8:02:47Z</dcterms:created>
  <dc:creator>Сервис</dc:creator>
  <dc:description/>
  <dc:language>en-US</dc:language>
  <cp:lastModifiedBy>KSP</cp:lastModifiedBy>
  <dcterms:modified xsi:type="dcterms:W3CDTF">2012-02-16T09:06:59Z</dcterms:modified>
  <cp:revision>53</cp:revision>
  <dc:subject/>
  <dc:title>Слайд 1</dc:title>
</cp:coreProperties>
</file>