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BAA-D7EB-4C7F-A5FA-538DB357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EBE-F5E3-4018-8855-4EEB95E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C02-F24B-44D6-AE8C-EE06158F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5FF-C3FA-409F-B327-C1035EC5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287-627E-4484-9D5B-45803F08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257-6A0A-466C-AA85-B31B65BA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8AD-F81E-4789-82A9-E4C2AAAE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96A-F3E5-4918-A6E1-40EB7FAE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B88-FB67-40E7-AD79-8DD2C7A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E6C-1072-4878-864E-4EFD283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2ED-855B-4F16-A9B8-3FDB683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930-D887-4604-937F-F2E6730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9323-CB97-4EB3-8C59-698DF15AF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Штукатур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1773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tt-RU" sz="8000" spc="-1" strike="noStrike">
                <a:solidFill>
                  <a:srgbClr val="ff3300"/>
                </a:solidFill>
                <a:latin typeface="Arial"/>
              </a:rPr>
              <a:t>лыласаң олыны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0" spc="-1" strike="noStrike">
                <a:solidFill>
                  <a:srgbClr val="ff3300"/>
                </a:solidFill>
                <a:latin typeface="Arial"/>
              </a:rPr>
              <a:t>олыларлар үзеңн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55736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ff"/>
                </a:solidFill>
                <a:latin typeface="comic"/>
              </a:rPr>
              <a:t>Әткәй, әнкәй, мин, апай, әби, бабай һәм бер песи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ff"/>
                </a:solidFill>
                <a:latin typeface="comic"/>
              </a:rPr>
              <a:t>Безнең өйдә без җидәү: безнең песи – җиденчес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tt-RU" sz="4800" spc="-1" strike="noStrike">
                <a:solidFill>
                  <a:srgbClr val="000000"/>
                </a:solidFill>
                <a:latin typeface="Arial"/>
              </a:rPr>
              <a:t>Габдулла Тук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2" descr="J0107446"/>
          <p:cNvPicPr/>
          <p:nvPr/>
        </p:nvPicPr>
        <p:blipFill>
          <a:blip r:embed="rId1"/>
          <a:stretch/>
        </p:blipFill>
        <p:spPr>
          <a:xfrm>
            <a:off x="395280" y="260280"/>
            <a:ext cx="2719440" cy="2735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0"/>
          <p:cNvSpPr/>
          <p:nvPr/>
        </p:nvSpPr>
        <p:spPr>
          <a:xfrm>
            <a:off x="1478160" y="1125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3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3851280" cy="23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7" name="Picture 54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3995640" cy="2693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8" name="Picture 55" descr=""/>
          <p:cNvPicPr/>
          <p:nvPr/>
        </p:nvPicPr>
        <p:blipFill>
          <a:blip r:embed="rId4"/>
          <a:stretch/>
        </p:blipFill>
        <p:spPr>
          <a:xfrm>
            <a:off x="4716360" y="3429000"/>
            <a:ext cx="4103640" cy="2658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0107446"/>
          <p:cNvPicPr/>
          <p:nvPr/>
        </p:nvPicPr>
        <p:blipFill>
          <a:blip r:embed="rId1"/>
          <a:stretch/>
        </p:blipFill>
        <p:spPr>
          <a:xfrm>
            <a:off x="395280" y="260280"/>
            <a:ext cx="271944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478160" y="1125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5333760" cy="3504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J0107446"/>
          <p:cNvPicPr/>
          <p:nvPr/>
        </p:nvPicPr>
        <p:blipFill>
          <a:blip r:embed="rId1"/>
          <a:stretch/>
        </p:blipFill>
        <p:spPr>
          <a:xfrm>
            <a:off x="395280" y="260280"/>
            <a:ext cx="2719440" cy="2735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478160" y="1125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3419640" y="1413000"/>
            <a:ext cx="5371920" cy="3466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0107446"/>
          <p:cNvPicPr/>
          <p:nvPr/>
        </p:nvPicPr>
        <p:blipFill>
          <a:blip r:embed="rId1"/>
          <a:stretch/>
        </p:blipFill>
        <p:spPr>
          <a:xfrm>
            <a:off x="395280" y="260280"/>
            <a:ext cx="2719440" cy="2735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478160" y="1125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7440" cy="4495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4643280" cy="3029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907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cc"/>
                </a:solidFill>
                <a:latin typeface="Arial"/>
              </a:rPr>
              <a:t>Ата-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өямен чын күңел белән үземнең әткә-әнкәм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раткан барча нәрсәмнән алар матур, алар ямь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Язу белдем, уку белдем, үзем сигезенче яшемдә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Бу нигъмәтләр насыйп булды аларның тәрбиясенд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инем бар әткәм-әнкәм, мин шуңар чып-чын бәхетлем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ларга мин бурычлымын, ничек үтәргә белм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өямен чын күңел белән үземнең әткә-әнкәм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лар олуг, алар матур, алар дөньяда иң ямь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tt-RU" sz="3600" spc="-1" strike="noStrike">
                <a:solidFill>
                  <a:srgbClr val="000000"/>
                </a:solidFill>
                <a:latin typeface="Arial"/>
              </a:rPr>
              <a:t>Мәҗит Гафу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E01160_"/>
          <p:cNvPicPr/>
          <p:nvPr/>
        </p:nvPicPr>
        <p:blipFill>
          <a:blip r:embed="rId1"/>
          <a:stretch/>
        </p:blipFill>
        <p:spPr>
          <a:xfrm>
            <a:off x="1258920" y="620640"/>
            <a:ext cx="6553080" cy="5504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763640" y="1916280"/>
            <a:ext cx="54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tt-RU" sz="4000" spc="-1" strike="noStrike">
                <a:solidFill>
                  <a:srgbClr val="0000ff"/>
                </a:solidFill>
                <a:latin typeface="Arial"/>
              </a:rPr>
              <a:t>Яхшы укыгы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0000ff"/>
                </a:solidFill>
                <a:latin typeface="Arial"/>
              </a:rPr>
              <a:t>Бәхетле булыгы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tt-RU" sz="3200" spc="-1" strike="noStrike">
                <a:solidFill>
                  <a:srgbClr val="a50021"/>
                </a:solidFill>
                <a:latin typeface="Arial"/>
              </a:rPr>
              <a:t>Руфия Риша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42:55Z</dcterms:created>
  <dc:creator>Рамиля</dc:creator>
  <dc:description/>
  <dc:language>en-US</dc:language>
  <cp:lastModifiedBy>User</cp:lastModifiedBy>
  <dcterms:modified xsi:type="dcterms:W3CDTF">2008-11-26T18:41:45Z</dcterms:modified>
  <cp:revision>4</cp:revision>
  <dc:subject/>
  <dc:title>Слайд 1</dc:title>
</cp:coreProperties>
</file>