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350D-C718-423F-99DC-C83EF602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4608-6B47-4FDB-A93D-68F2917A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DC14-C205-4A0D-A5B1-B1E2C42F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69B9-8F2C-420F-AE8D-D400CEA49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2D17-3316-420D-8971-62BF13B03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87FB-D435-46C1-BF50-22A7E399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BD07-43BE-402D-B2BC-A3FD98C2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AB46-1AD1-455D-9F55-BE4AD667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AB29-8342-42FE-8768-5FE49AAF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CA72-FC07-4D58-942E-07FCDA21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E942-38C5-49B2-8B44-7A648F3F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D6E3-F645-4E75-BBC5-B46C3D75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05C2-256C-4AA7-AE47-93AD22E0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E793-B9D6-41D8-8C83-B71CBED6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0E0C-AFA9-4138-9085-17766058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6E2D-4619-4C83-8D9A-EF113865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1A1E-048D-4B4F-A975-968F98DE1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D765B-8FF5-404B-A57D-8734B490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DC55B-9070-4C7F-AE9D-D8FF9C18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3B3D2-B615-496F-A4B9-38E02AAB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B118F-1BC1-4860-9CE9-9DCBBF7A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B202A-2B57-463D-828D-54B1EBAB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6C76-E3B8-4E65-A99E-512ADE76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2961D-CAE0-4745-84D6-2752BCB3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E9EEC-5490-48D5-8744-7BC91A5E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5D83F-FE40-4BB7-92BA-E90D8D78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8462F-07C5-48B6-92A0-BFDF19B2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44EEF-469F-449B-AFDE-74FD8ACA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FEC4F-2BF2-4C0F-987F-10284E46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B71BB-0F15-4376-8E3A-7FE8D8C35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97963-F73C-4F0D-AC49-2126332CE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EF1CF-03DD-456F-9187-B6B9AF41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DB6E1-4F78-4D92-A8FA-AB729326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A2E1-6DF2-426D-B3DD-278A2BB8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22CBA-0C44-4335-BA0E-A0B3B346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9F1ED-8600-4BA9-93C2-B7A7577C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BB1E9-4B05-4205-9A28-0C3B5C90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15334-DC81-469C-802D-A0043BDB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EB2DF-C171-43FA-8C13-6F280278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6E654-0C8A-4E5D-97BA-72B2164C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59476-F234-44CD-BF95-33733585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CA79A-2733-459E-A2E8-FD1C46CA6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AFB02-5309-4EC9-897A-C4AEFD1B3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38803-4EAC-4AEB-AEBC-4141A15C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B391-935B-49A9-990E-F9696C77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084A4-FE66-49F3-84C2-3905A1C4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AF585-A025-468E-A551-FA334C00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6D357-1A14-42B1-80BA-62A9D2D0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2C1E3-BE1E-4F1D-82ED-1D1EFDA8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FE764-6198-43DC-819E-4BE04EB7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2F60F-1342-4BA1-BDE2-270A5851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2D3B4-746F-48F4-A55B-45C42C9F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121AD-5AD8-4552-8F2F-F0CAB169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A1E3E-627E-498A-8CF1-7A4F986D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62FBF-6F67-4EE4-9CAB-8C77D796B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261F-F3E3-4F39-AD90-19934955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1A521-CE44-4949-B148-10B1E466D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0BB56-1885-4842-A462-7576B9C6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01005-9842-4ADD-B7E8-7287DC1E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5937F-F27E-4448-82F2-BE9739A1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A45B1-3F03-492C-A459-F6FF6441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80F64-B118-4EF3-A329-89ABE03A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A32CC-E5C3-44BC-8C7A-BF6A7D78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23B2B-1BC5-4999-9B15-48421269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AB9FE-F2E9-4659-A847-2C4EDC94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DF948-7C7B-4FF0-ACD7-F64D5DDD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CF21-ECF6-4C86-8390-EEF0A536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B0734-F22E-46C9-80A4-C638AEDC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7251C-33CD-47DD-AE44-175156F9A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08904-D6C6-4C0F-AD00-91E657DED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5E8E-8E10-4627-A6B0-5DC206EB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D457-ECF5-40B2-B3E3-BEBEB024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97AC-83C3-4EE2-92B6-2C43F61B407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3638-9F03-4DC7-8EC5-AA0933B64A38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A95E-EF8E-4CF3-8F66-6EC1CB15F6E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7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3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4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37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38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40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7549-D41C-4052-8B4F-BBCB1C9DEEF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91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95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01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05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0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49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51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5386-445A-42F2-AD6A-C61C028F78B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96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98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02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8DB8-7F14-45F1-A976-F543E83BE2F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Технология определения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индивидуального маршрута комплексного психолого-медико-педагогического сопровождения в рамках коррекционно-развивающей работы  специалистов 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ППМС-центра «Истоки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4643280" y="404640"/>
          <a:ext cx="3889440" cy="619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404640"/>
                    <a:ext cx="3889440" cy="619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468360" y="333360"/>
          <a:ext cx="3887640" cy="6202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333360"/>
                    <a:ext cx="3887640" cy="62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IV 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этап</a:t>
            </a:r>
            <a:br>
              <a:rPr sz="2400"/>
            </a:b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Мониторинг психолого-педагогического сопровождения (отслеживание динамики развития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2411280" y="1197000"/>
          <a:ext cx="4392720" cy="540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197000"/>
                    <a:ext cx="43927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9400"/>
                            </p:stCondLst>
                            <p:childTnLst>
                              <p:par>
                                <p:cTn id="1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Мониторинг эффективности коррекционной работы отражается в графиках, диаграмма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755640" y="1484280"/>
          <a:ext cx="763272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84280"/>
                    <a:ext cx="763272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100"/>
                            </p:stCondLst>
                            <p:childTnLst>
                              <p:par>
                                <p:cTn id="1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02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66"/>
                </a:solidFill>
                <a:latin typeface="Times New Roman"/>
              </a:rPr>
              <a:t>Психолого-педагогическое сопровождение родителей (законных представителей) по вопросам развития, воспитания и обучения детей с ограниченными возможностями здоровья</a:t>
            </a: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14040" y="1599840"/>
            <a:ext cx="380988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онсультирование родителей(законных представителей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   заполнение анке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ыдача консультатив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атериала (буклетов, памято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610160" y="1828800"/>
            <a:ext cx="4138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бучение родителей способам взаимодействия с ребенком, специальным приемам работы с ребенком в домашних условиях (ведение журнала наблюдений родителями за ребенком, выполнение комплексов упражнений и игр дома по рекомендациям специалиста) с целью формирования заданных навы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84000" y="3933360"/>
            <a:ext cx="3771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бязательное присутствие родителей про проведении диагностики, активное привлечение к совместной игре с ребенком в ходе проведения зан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643280" y="4220640"/>
            <a:ext cx="3772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сихологическое сопровождение родителей по гармонизации детско-родительских отно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700"/>
                            </p:stCondLst>
                            <p:childTnLst>
                              <p:par>
                                <p:cTn id="1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77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9700"/>
                            </p:stCondLst>
                            <p:childTnLst>
                              <p:par>
                                <p:cTn id="1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1700"/>
                            </p:stCondLst>
                            <p:childTnLst>
                              <p:par>
                                <p:cTn id="1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87280" y="69192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этап</a:t>
            </a:r>
            <a:br>
              <a:rPr sz="2400"/>
            </a:b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Выдвижение психолого-медико-педагогической гипотезы относительно причин и характера отклонений в развитии, определение структуры дефект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2349000"/>
            <a:ext cx="3810240" cy="37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зучение врачебных заключ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зучение выписки из истории болезн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зучение выписки из протокола ГУО «Центр диагностики и консультирования» г. Краснода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144760" y="2421000"/>
            <a:ext cx="3809880" cy="37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зучение заключений специалистов ОУ/ДО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зучение педагогической характеристик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3900"/>
                            </p:stCondLst>
                            <p:childTnLst>
                              <p:par>
                                <p:cTn id="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4900"/>
                            </p:stCondLst>
                            <p:childTnLst>
                              <p:par>
                                <p:cTn id="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900"/>
                            </p:stCondLst>
                            <p:childTnLst>
                              <p:par>
                                <p:cTn id="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6900"/>
                            </p:stCondLst>
                            <p:childTnLst>
                              <p:par>
                                <p:cTn id="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7900"/>
                            </p:stCondLst>
                            <p:childTnLst>
                              <p:par>
                                <p:cTn id="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II 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этап</a:t>
            </a:r>
            <a:br>
              <a:rPr sz="2400"/>
            </a:b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Углубленная диагности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2411280" y="1197000"/>
          <a:ext cx="5112000" cy="54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197000"/>
                    <a:ext cx="511200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760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2268360" y="260280"/>
          <a:ext cx="4888080" cy="637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60280"/>
                    <a:ext cx="4888080" cy="63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2411280" y="189000"/>
          <a:ext cx="4537080" cy="64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89000"/>
                    <a:ext cx="4537080" cy="64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5" name=""/>
          <p:cNvGraphicFramePr/>
          <p:nvPr/>
        </p:nvGraphicFramePr>
        <p:xfrm>
          <a:off x="2195640" y="189000"/>
          <a:ext cx="4838400" cy="64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89000"/>
                    <a:ext cx="4838400" cy="64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785016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III 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этап</a:t>
            </a:r>
            <a:br>
              <a:rPr sz="2000"/>
            </a:b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Выбор оптимальных методов и форм для коррекционной работ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2627280" y="907920"/>
          <a:ext cx="4105440" cy="561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907920"/>
                    <a:ext cx="410544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2556000" y="152280"/>
          <a:ext cx="4608360" cy="65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52280"/>
                    <a:ext cx="4608360" cy="65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2556000" y="260280"/>
          <a:ext cx="4573440" cy="651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60280"/>
                    <a:ext cx="4573440" cy="65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2:07:49Z</dcterms:created>
  <dc:creator>SamLab.ws</dc:creator>
  <dc:description/>
  <dc:language>en-US</dc:language>
  <cp:lastModifiedBy>NIKE</cp:lastModifiedBy>
  <dcterms:modified xsi:type="dcterms:W3CDTF">2012-02-16T10:00:12Z</dcterms:modified>
  <cp:revision>28</cp:revision>
  <dc:subject/>
  <dc:title>Муниципальный психолого-педагогический медико-социальный центр  диагностики и консультирования «Истоки»</dc:title>
</cp:coreProperties>
</file>