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7BF8-2D9F-48DD-BB68-0BA84D6C2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8873-000F-408C-8255-8EDC76E5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56D3-8207-45DC-8189-B6A4558BA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4C8F-5E67-4229-91B0-8523F7364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4D94-7254-4B05-AA6D-BE3E675B0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7380-97E9-467E-9504-C0650562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B672-517A-4BAC-B82A-E2B84A7D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3D2B-B8BF-4CAB-A84C-987BACCF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253D-6785-4BFF-A869-36C78698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0B3A-73BA-42FA-9BC8-3B9E298A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C0F0-C519-45B9-80A2-46416F5F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D951-A284-480A-AAA9-00F378CB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E892-1E84-46EA-9778-1031739F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59D4-AB18-4894-9C9F-422890A4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192E-5A8F-4CAA-94B1-920CAE2E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00BA-800A-44C2-BAF3-154805509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C489-2C2C-4D7C-B740-31EC5AF29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39CE-2405-429F-87EB-29DA8965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2B13-1CFA-4B34-A11E-5B43592F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9616-8211-49C0-97C3-54236F51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AE55-187C-45AD-987F-A98AE488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0D07-1A1E-4FC9-8FA8-3F742398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7062-BB95-4CA7-86DA-C25ADEB4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7E2B-5160-4C0D-9D9C-F9C16A39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718B-927E-4D16-A5C7-4BC000F9C6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8793-2711-442D-B271-E5E4F79B88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chool2100.ru/upload/iblock/cd1/cd18da99327ba408e10dc007b58621ba.pdf" TargetMode="External"/><Relationship Id="rId2" Type="http://schemas.openxmlformats.org/officeDocument/2006/relationships/hyperlink" Target="http://www.school2100.ru/upload/iblock/cd1/cd18da99327ba408e10dc007b58621ba.pdf" TargetMode="External"/><Relationship Id="rId3" Type="http://schemas.openxmlformats.org/officeDocument/2006/relationships/hyperlink" Target="http://www.school2100.ru/upload/iblock/cd1/cd18da99327ba408e10dc007b58621ba.pdf" TargetMode="External"/><Relationship Id="rId4" Type="http://schemas.openxmlformats.org/officeDocument/2006/relationships/hyperlink" Target="http://www.school2100.ru/upload/iblock/cd1/cd18da99327ba408e10dc007b58621ba.pdf" TargetMode="External"/><Relationship Id="rId5" Type="http://schemas.openxmlformats.org/officeDocument/2006/relationships/hyperlink" Target="http://www.school2100.ru/upload/iblock/cd1/cd18da99327ba408e10dc007b58621ba.pdf" TargetMode="External"/><Relationship Id="rId6" Type="http://schemas.openxmlformats.org/officeDocument/2006/relationships/hyperlink" Target="http://www.school2100.ru/upload/iblock/cd1/cd18da99327ba408e10dc007b58621ba.pdf" TargetMode="External"/><Relationship Id="rId7" Type="http://schemas.openxmlformats.org/officeDocument/2006/relationships/hyperlink" Target="http://www.proshkolu.ru/user/nelbourne/blog/116251/" TargetMode="External"/><Relationship Id="rId8" Type="http://schemas.openxmlformats.org/officeDocument/2006/relationships/hyperlink" Target="http://www.proshkolu.ru/user/nelbourne/blog/116251/" TargetMode="External"/><Relationship Id="rId9" Type="http://schemas.openxmlformats.org/officeDocument/2006/relationships/hyperlink" Target="http://www.proshkolu.ru/user/nelbourne/blog/116251/" TargetMode="External"/><Relationship Id="rId10" Type="http://schemas.openxmlformats.org/officeDocument/2006/relationships/hyperlink" Target="http://www.proshkolu.ru/user/nelbourne/blog/116251/" TargetMode="External"/><Relationship Id="rId11" Type="http://schemas.openxmlformats.org/officeDocument/2006/relationships/hyperlink" Target="http://www.proshkolu.ru/user/nelbourne/blog/116251/" TargetMode="External"/><Relationship Id="rId12" Type="http://schemas.openxmlformats.org/officeDocument/2006/relationships/hyperlink" Target="http://www.proshkolu.ru/user/nelbourne/blog/116251/" TargetMode="External"/><Relationship Id="rId13" Type="http://schemas.openxmlformats.org/officeDocument/2006/relationships/hyperlink" Target="http://www.proshkolu.ru/user/nelbourne/blog/116251/" TargetMode="External"/><Relationship Id="rId14" Type="http://schemas.openxmlformats.org/officeDocument/2006/relationships/hyperlink" Target="http://www.proshkolu.ru/user/nelbourne/blog/116251/" TargetMode="External"/><Relationship Id="rId15" Type="http://schemas.openxmlformats.org/officeDocument/2006/relationships/hyperlink" Target="http://www.proshkolu.ru/user/nelbourne/blog/116251/" TargetMode="External"/><Relationship Id="rId16" Type="http://schemas.openxmlformats.org/officeDocument/2006/relationships/hyperlink" Target="http://www.proshkolu.ru/user/nelbourne/blog/116251/" TargetMode="External"/><Relationship Id="rId17" Type="http://schemas.openxmlformats.org/officeDocument/2006/relationships/hyperlink" Target="http://ru.wikipedia.org/wiki/&#1056;&#1091;&#1096;&#1077;&#1074;&#1072;,_&#1053;&#1072;&#1076;&#1077;&#1078;&#1076;&#1072;_&#1053;&#1080;&#1082;&#1086;&#1083;&#1072;&#1077;&#1074;&#1085;&#1072;" TargetMode="External"/><Relationship Id="rId18" Type="http://schemas.openxmlformats.org/officeDocument/2006/relationships/hyperlink" Target="http://ru.wikipedia.org/wiki/&#1056;&#1091;&#1096;&#1077;&#1074;&#1072;,_&#1053;&#1072;&#1076;&#1077;&#1078;&#1076;&#1072;_&#1053;&#1080;&#1082;&#1086;&#1083;&#1072;&#1077;&#1074;&#1085;&#1072;" TargetMode="External"/><Relationship Id="rId19" Type="http://schemas.openxmlformats.org/officeDocument/2006/relationships/hyperlink" Target="http://ru.wikipedia.org/wiki/&#1056;&#1091;&#1096;&#1077;&#1074;&#1072;,_&#1053;&#1072;&#1076;&#1077;&#1078;&#1076;&#1072;_&#1053;&#1080;&#1082;&#1086;&#1083;&#1072;&#1077;&#1074;&#1085;&#1072;" TargetMode="External"/><Relationship Id="rId20" Type="http://schemas.openxmlformats.org/officeDocument/2006/relationships/hyperlink" Target="http://ru.wikipedia.org/wiki/&#1056;&#1091;&#1096;&#1077;&#1074;&#1072;,_&#1053;&#1072;&#1076;&#1077;&#1078;&#1076;&#1072;_&#1053;&#1080;&#1082;&#1086;&#1083;&#1072;&#1077;&#1074;&#1085;&#1072;" TargetMode="External"/><Relationship Id="rId21" Type="http://schemas.openxmlformats.org/officeDocument/2006/relationships/hyperlink" Target="http://ru.wikipedia.org/wiki/&#1056;&#1091;&#1096;&#1077;&#1074;&#1072;,_&#1053;&#1072;&#1076;&#1077;&#1078;&#1076;&#1072;_&#1053;&#1080;&#1082;&#1086;&#1083;&#1072;&#1077;&#1074;&#1085;&#1072;" TargetMode="External"/><Relationship Id="rId2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Презентация проекта по внеклассной работе в 4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-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м классе, посвященного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60-летнему юбилею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Нади Рушевой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«Вечноживущая Найдан»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73771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ставитель:учитель начальны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лассов Кара-оол М.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.Туран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011-2012 учебный год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Цели проекта: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оспитывать и развивать ребён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ерез его самостоятельную познавательную деятельность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еализовать способности и замыслы ученика в продуктах его деятельност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Задачи: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общить полученные знания,применить их на практике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ормировать устойчивый познавательный интерес к предмету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ить детей овладевать навыками ораторского искусст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одготовка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. Определяются следующие этапы работы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тивационный (учитель заявляет общий замысел, ученики обсуждают его, предлагают собственные идеи)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анирующий – подготовительный (определяется тема, цели, задачи, вырабатывается план действий, устанавливаются критерии оценки результата и процесса, согласовываются способы совместной деятельности)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формационно-операционны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ученики собирают материал, работают с литературой и другими источниками, непосредственно выполняют проект; учитель наблюдает, координирует, проводит консультации)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флексивно-оценочный (ученики представляют проекты, участвуют в коллективном обсуждении, оценивают результат и процесс работы, осуществляют устную и письменную самооценку, учитель выступает участником коллективной оценочной деятельности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. Распределение учащихся по проектным группа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бор информации по группа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-я группа – представление информации о художнице Наде Рушев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-я группа – викторина о жизни и творчестве Нади Рушев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-я группа – изготовление альбома из рисунков Нади Рушев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.Посещение музея имени Н.Д.Ажикмаа-Рушевой в средней школе села Сесерлиг Пий-Хемского кожууна. </a:t>
            </a:r>
            <a:br>
              <a:rPr sz="1800"/>
            </a:br>
            <a:br>
              <a:rPr sz="14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орудование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ультимедийный проектор, учебники, материалы интернет-сайтов и экскурс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жидаемый результат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едиа-приложение  к предмету изобразительное искусство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льбом (СД) «Биография Нади Рушевой»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рошюра о творчестве Нади Рушево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Использованные материалы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нтернет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йты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://www.school2100.ru/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upload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/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imes New Roman"/>
                <a:hlinkClick r:id="rId5"/>
              </a:rPr>
              <a:t>iblock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imes New Roman"/>
                <a:hlinkClick r:id="rId6"/>
              </a:rPr>
              <a:t>/cd1/cd18da99327ba408e10dc007b58621ba.pdf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Times New Roman"/>
                <a:hlinkClick r:id="rId7"/>
              </a:rPr>
              <a:t>http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imes New Roman"/>
                <a:hlinkClick r:id="rId8"/>
              </a:rPr>
              <a:t>://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imes New Roman"/>
                <a:hlinkClick r:id="rId9"/>
              </a:rPr>
              <a:t>www.proshkolu.ru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imes New Roman"/>
                <a:hlinkClick r:id="rId10"/>
              </a:rPr>
              <a:t>/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imes New Roman"/>
                <a:hlinkClick r:id="rId11"/>
              </a:rPr>
              <a:t>user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imes New Roman"/>
                <a:hlinkClick r:id="rId12"/>
              </a:rPr>
              <a:t>/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imes New Roman"/>
                <a:hlinkClick r:id="rId13"/>
              </a:rPr>
              <a:t>nelbourne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imes New Roman"/>
                <a:hlinkClick r:id="rId14"/>
              </a:rPr>
              <a:t>/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imes New Roman"/>
                <a:hlinkClick r:id="rId15"/>
              </a:rPr>
              <a:t>blog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imes New Roman"/>
                <a:hlinkClick r:id="rId16"/>
              </a:rPr>
              <a:t>/116251/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Times New Roman"/>
                <a:hlinkClick r:id="rId17"/>
              </a:rPr>
              <a:t>http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imes New Roman"/>
                <a:hlinkClick r:id="rId18"/>
              </a:rPr>
              <a:t>://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imes New Roman"/>
                <a:hlinkClick r:id="rId19"/>
              </a:rPr>
              <a:t>ru.wikipedia.org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imes New Roman"/>
                <a:hlinkClick r:id="rId20"/>
              </a:rPr>
              <a:t>/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imes New Roman"/>
                <a:hlinkClick r:id="rId21"/>
              </a:rPr>
              <a:t>wik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0T15:29:09Z</dcterms:created>
  <dc:creator>Admin</dc:creator>
  <dc:description/>
  <dc:language>en-US</dc:language>
  <cp:lastModifiedBy>Admin</cp:lastModifiedBy>
  <dcterms:modified xsi:type="dcterms:W3CDTF">2012-02-10T16:23:48Z</dcterms:modified>
  <cp:revision>4</cp:revision>
  <dc:subject/>
  <dc:title>Проект по внеклассной работе в 4-м классе, посвященный 60-летнему юбилею Нади Рушевой «Вечноживущая Найдан»</dc:title>
</cp:coreProperties>
</file>