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1B9-567E-4859-8A60-3127D6A9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D083-ACBD-4873-B6F0-6E1D001F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607-F67B-431B-AF55-BFE9AEDF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52F-C4E7-4277-AA29-BCEE8619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50C0-5147-47E2-9CB5-E36F17E1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8036-C3E1-4665-86F4-091D2A36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24F1-CCCC-47B3-BA11-17FD95C4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4C77-1F92-4689-8D3A-A5CA9507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3A61-DEB3-4295-B2F8-0E9F4737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C688-EFE3-48CA-AB38-28708590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2313-F0ED-4E0D-9965-4E95ED8A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18C-F28A-4A9C-9B10-BDE5781E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E5F4-B192-4FBF-8CAF-C5FA385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FF44-216D-4626-981E-1ED46C38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D39F-9AE4-461C-8C11-8D9A2166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4D20-85BF-4DCA-BEE8-9E10E029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F5B1-F18F-47F0-A781-D8ECC1E0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5F6-798B-4D9C-8512-0D7E935A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24A-A9A8-479C-9F3F-6D19E3B9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363-D4D4-453E-8785-2EC1FF1F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2D0-CF16-44FC-8567-32A47863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D161-18E9-43BA-A027-B3D9E35F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045-24F6-4E92-84B6-10144C41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C4F-E6F6-4A82-B2C2-1341D6F2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BB65-4EC6-42FF-9883-EB9C16C8DFA4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7774-3402-4F62-A94A-9DDB3109171B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«Профессиональное резюме»</a:t>
            </a: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классный час для старшеклассников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258920" y="3716280"/>
            <a:ext cx="7345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ыбирая профессию, мы выбираем судьбу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***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Учиться находить решения различных проблем нужно уже сейчас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.И.Дереклеев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Что это?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56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идоров Иван Петрович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та рождения: 02.01.1969 г.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бочий телефон: 88-88-88 (звонить с 8:30 до 18:00)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Должность главного бухгалтера предприятия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бразование: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0г. - 1995г. Уральский государственный университет, экономический факультет. Получен диплом о высшем образовании. Присвоена квалификация - экономист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пыт работы:      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9г. - по наст. время - Акционерный коммерческий банк. Заместитель главного бухгалтера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обрел опыт организации руководства финансово-экономической деятельностью банка.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5г. - 1999г. Муниципальное предприятие. Начальник финансового отдела. За время работы разработал и внедрил принципиально новую модель учета и контроля финансовых потоков предприятия.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ополнительная информация: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вободно владею персональным компьютером как пользователь.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остранный язык - английский (хорошо).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мею водительские права кат. «В», личный автомобиль, стаж вождения - 8 лет.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Личные качества: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налитический склад ума, работоспособность, способность к прогнозированию, настойчивость.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 января 2004 г.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3280" y="1773360"/>
            <a:ext cx="4316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ООО «Руно» Сидоров Петр Иванович работает с 26.02.2004 года в должности менеджера по работе с региональными клиентами. За время работы в компании зарекомендовал себя как исполнительный, дисциплинированный, аккуратный (ответственный, самостоятельный, инициативный, добросовестный) сотрудник. Придерживается норм поведения, принятых в кампании.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общении с коллегами дружелюбен и приветлив, с партнерами и клиентами фирмы – обходителен и вежлив, в затруднительных ситуациях всегда нацелен на нахождение компромиссных решений, к решению задач подходит творчески. Внимателен к людям, тактичен. Имеет навыки делового общения.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 мая 2007г.   Директор ООО «Руно»…………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08000" y="981000"/>
          <a:ext cx="4392720" cy="576108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643280" y="1700280"/>
          <a:ext cx="4320720" cy="4105080"/>
        </p:xfrm>
        <a:graphic>
          <a:graphicData uri="http://schemas.openxmlformats.org/drawingml/2006/table">
            <a:tbl>
              <a:tblPr/>
              <a:tblGrid>
                <a:gridCol w="4320720"/>
              </a:tblGrid>
              <a:tr h="41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2997360"/>
            <a:ext cx="345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Цель резюме: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аткая форма изложения основных личных и профессиональных данны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8360" y="378936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ать знания, опыт и личные качества работодателю таким образом и в той форме, чтобы он обратил на них внимание и пригласил на собеседовани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4360" y="765000"/>
            <a:ext cx="23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Резюме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Стандартный пример резюме</a:t>
            </a:r>
            <a:r>
              <a:rPr b="0" lang="en-US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172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ые данные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 ФИО, дата рождения, контактная информация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формулируется должность, на которую Вы претендуете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разование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указывается основное и дополнительное образование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пыт работы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представляются сведения о вашем трудовом опыте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фессиональные навыки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перечень тех знаний и умений, которые Вы приобрели в ходе своей профессиональной деятельности.  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нание иностранных языков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Вы указываете все иностранные языки и степень (в совершенстве, свободно, разговорный, базовый), в которой Вы ими владеете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ладение компьютером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ведения о Ваших навыках работы на ПК (пользователь, опытный пользователь, программист), а также программах, средах, языках, базах данных, с которыми Вы работали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ополнительная информация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 Вы сообщаете те сведения, которые Вы считаете необходимым донести до работодателя. Сюда можно также включить интересы, увлечения и личные качества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20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Times New Roman"/>
              </a:rPr>
              <a:t>Основные правила составления резюме: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зюме должно быть кратким. Оптимальный объем -1 стр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зюме должно быть безупречным. Не доверяйте компьютерному редактору. Обязательно перечитайте его текст вслух после написания, чтобы убедиться в отсутствии ошибок и двусмысленности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зюме должно быть продуманным, иметь ярко выраженную структуру. У работодателя должно уйти минимум времени на просмотр резюме и принятие решения по нему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зюме должно быть доказательным. Приведите результаты вашей последней работы, используя числа и проценты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зюме должно быть простым. Не увлекайтесь графическими рисунками, вычурными рамками, виньетками. Не следует прилагать к резюме свою фотографию (кроме тех случаев, когда это требует работодатель)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Подумаем вместе…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785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бирая профессию, мы выбираем       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удьбу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ься находить решения различных проблем нужно уже сейчас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.И.Дереклеев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116000" y="2205000"/>
            <a:ext cx="6769080" cy="24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383ad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Удачи!</a:t>
            </a:r>
            <a:endParaRPr b="0" lang="en-US" sz="1800" spc="1" strike="noStrike">
              <a:ln w="9360">
                <a:solidFill>
                  <a:srgbClr val="8383ad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8:20:55Z</dcterms:created>
  <dc:creator>office</dc:creator>
  <dc:description/>
  <dc:language>en-US</dc:language>
  <cp:lastModifiedBy>office</cp:lastModifiedBy>
  <dcterms:modified xsi:type="dcterms:W3CDTF">2009-04-20T06:38:58Z</dcterms:modified>
  <cp:revision>14</cp:revision>
  <dc:subject/>
  <dc:title>«Профессиональное резюме» </dc:title>
</cp:coreProperties>
</file>