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B74F42-62C7-4334-B96F-934E9E4E12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6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169651-295E-4770-BA46-2FEC0BB257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4D96C-AF1D-4691-8B8B-4DC73F6283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BC5BC-29DA-46B9-92CD-DA00BED6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FB265-5D91-49E1-9C99-F8A98D20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981B8-1899-406F-A56E-9C342DA2CC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D366B-472B-478C-AD1C-59FF43BE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5314B-9BCC-4111-9EEA-A00AF2F4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0DCD2-81FA-4B1C-9345-EAC4E5DA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0DF75-CFA2-478E-A4F7-601BC20E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6622E-51D6-4043-B4F9-D3A69248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59652-6898-4109-A33F-70F29B1F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15EC8-A26C-4C99-BBD4-B138F6CE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6A9C5-402A-4204-AAEA-F35EF801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D5EB8A-21BD-492C-84C6-BA20A236BD9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14240" y="428760"/>
            <a:ext cx="77724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  <a:ea typeface="SimSun"/>
              </a:rPr>
              <a:t>Сложение  и вычитание натуральных чисе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20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SimSun"/>
              </a:rPr>
              <a:t>«Счёт и вычисления – основа порядка в голов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  <a:ea typeface="SimSun"/>
              </a:rPr>
              <a:t>И. Песталоцци</a:t>
            </a:r>
            <a:r>
              <a:rPr b="0" i="1" lang="ru-RU" sz="2800" spc="-1" strike="noStrike">
                <a:solidFill>
                  <a:srgbClr val="898989"/>
                </a:solidFill>
                <a:latin typeface="Calibri"/>
                <a:ea typeface="SimSu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Устная рабо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Ну-ка , в сторону каранда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Ни бумажек, ни ручек, ни ме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Устный счет! Мы творим это д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Только силой ума и ду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0" y="0"/>
            <a:ext cx="8786880" cy="4143240"/>
            <a:chOff x="0" y="0"/>
            <a:chExt cx="8786880" cy="4143240"/>
          </a:xfrm>
        </p:grpSpPr>
        <p:pic>
          <p:nvPicPr>
            <p:cNvPr id="82" name="" descr=""/>
            <p:cNvPicPr/>
            <p:nvPr/>
          </p:nvPicPr>
          <p:blipFill>
            <a:blip r:embed="rId2"/>
            <a:srcRect l="2992" t="0" r="2992" b="0"/>
            <a:stretch/>
          </p:blipFill>
          <p:spPr>
            <a:xfrm>
              <a:off x="0" y="0"/>
              <a:ext cx="8786880" cy="41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0"/>
              <a:ext cx="8786880" cy="41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0" y="4357800"/>
            <a:ext cx="87868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SimSun"/>
              </a:rPr>
              <a:t>Поехал Иван-царевич вместе с  войском выручать Елену Прекрасную. Вышли они к  бурной реке(1 препятствие), и нужно пройти ее, перепрыгивая с камушка на камушек, друг за другом по цепоч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85880" y="3286080"/>
            <a:ext cx="1357200" cy="914400"/>
          </a:xfrm>
          <a:prstGeom prst="ellipse">
            <a:avLst/>
          </a:prstGeom>
          <a:solidFill>
            <a:srgbClr val="7fd13b"/>
          </a:solidFill>
          <a:ln w="55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1840" y="1785960"/>
            <a:ext cx="1357200" cy="914400"/>
          </a:xfrm>
          <a:prstGeom prst="ellipse">
            <a:avLst/>
          </a:prstGeom>
          <a:solidFill>
            <a:srgbClr val="7fd13b"/>
          </a:solidFill>
          <a:ln w="55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14960" y="1714680"/>
            <a:ext cx="1285920" cy="914400"/>
          </a:xfrm>
          <a:prstGeom prst="ellipse">
            <a:avLst/>
          </a:prstGeom>
          <a:solidFill>
            <a:srgbClr val="7fd13b"/>
          </a:solidFill>
          <a:ln w="55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29280" y="3286080"/>
            <a:ext cx="1357560" cy="857160"/>
          </a:xfrm>
          <a:prstGeom prst="ellipse">
            <a:avLst/>
          </a:prstGeom>
          <a:solidFill>
            <a:srgbClr val="7fd13b"/>
          </a:solidFill>
          <a:ln w="55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86280" y="4929120"/>
            <a:ext cx="1428840" cy="914400"/>
          </a:xfrm>
          <a:prstGeom prst="ellipse">
            <a:avLst/>
          </a:prstGeom>
          <a:solidFill>
            <a:srgbClr val="7fd13b"/>
          </a:solidFill>
          <a:ln w="55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5" idx="7"/>
            <a:endCxn id="86" idx="3"/>
          </p:cNvCxnSpPr>
          <p:nvPr/>
        </p:nvCxnSpPr>
        <p:spPr>
          <a:xfrm flipV="1">
            <a:off x="1093680" y="2567880"/>
            <a:ext cx="853200" cy="82620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91" name=""/>
          <p:cNvCxnSpPr/>
          <p:nvPr/>
        </p:nvCxnSpPr>
        <p:spPr>
          <a:xfrm>
            <a:off x="4000320" y="2214720"/>
            <a:ext cx="1215000" cy="3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92" name=""/>
          <p:cNvCxnSpPr/>
          <p:nvPr/>
        </p:nvCxnSpPr>
        <p:spPr>
          <a:xfrm>
            <a:off x="6286320" y="2499840"/>
            <a:ext cx="1215000" cy="716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93" name=""/>
          <p:cNvCxnSpPr/>
          <p:nvPr/>
        </p:nvCxnSpPr>
        <p:spPr>
          <a:xfrm flipV="1" rot="10800000">
            <a:off x="6144480" y="4144680"/>
            <a:ext cx="859680" cy="429120"/>
          </a:xfrm>
          <a:prstGeom prst="bentConnector3">
            <a:avLst>
              <a:gd name="adj1" fmla="val 49979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94" name=""/>
          <p:cNvSpPr/>
          <p:nvPr/>
        </p:nvSpPr>
        <p:spPr>
          <a:xfrm>
            <a:off x="1285920" y="250020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00680" y="1357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221472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*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58040" y="44290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Найдите ошиб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x+25=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x=25+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x=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А что такое уравнени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Что мы называем корнем уравн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Что значит решить уравн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00040" y="-1116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SimSun"/>
              </a:rPr>
              <a:t>«Ум без догадки гроша не стоит»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SimSun"/>
              </a:rPr>
              <a:t>(гласит народная мудрость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Догадайся, как удобнее выполнить вычисления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(245+38)-14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166-(66+17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137-(37+1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Какими свойствами вы пользовались при решении данных пример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28760" y="20160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SimSun"/>
              </a:rPr>
              <a:t>На берегу лежит огромный камень и закрывает дорогу на мо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57120" y="1500120"/>
            <a:ext cx="4040280" cy="5357880"/>
            <a:chOff x="357120" y="1500120"/>
            <a:chExt cx="4040280" cy="535788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357120" y="1500120"/>
              <a:ext cx="4040280" cy="535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57120" y="1500120"/>
              <a:ext cx="404028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5080" y="2143080"/>
            <a:ext cx="404172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На камне задача волшебная, кто отгадает тот дальше пройд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42920" y="0"/>
            <a:ext cx="2786040" cy="3571920"/>
            <a:chOff x="142920" y="0"/>
            <a:chExt cx="2786040" cy="357192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42920" y="0"/>
              <a:ext cx="2786040" cy="35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42920" y="0"/>
              <a:ext cx="2786040" cy="357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5080" y="214200"/>
            <a:ext cx="4041720" cy="62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SimSun"/>
              </a:rPr>
              <a:t>«Автор сказки «Красная шапочка» Шарль Перро родился в 1628 году, автор сказки «Сказка о рыбаке и рыбки» А.С. Пушкин родился на 171 год позже, а автор сказки «Три медведя» Л.Н. Толстой родился на 29 лет позже А.С. Пушкина. Сколько лет прошло со дня рождения авторов любимых детских сказок  до наших дней?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42920" y="3429000"/>
            <a:ext cx="2786040" cy="3214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571840" y="1785960"/>
            <a:ext cx="235728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85840" y="285840"/>
            <a:ext cx="4357440" cy="5840280"/>
            <a:chOff x="285840" y="285840"/>
            <a:chExt cx="4357440" cy="584028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285840" y="285840"/>
              <a:ext cx="4357440" cy="584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85840" y="285840"/>
              <a:ext cx="4357440" cy="58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5080" y="428760"/>
            <a:ext cx="404172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SimSun"/>
              </a:rPr>
              <a:t>Огромный камень повернулся и освободил доро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SimSun"/>
              </a:rPr>
              <a:t>(преодолено 2 препятстви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Работа с тес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Дальше дорога привела войско к волшебной ст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Нужно воинам показать, как быстро и метко они стреля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Вам предлагается решить тест по вариант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28760" y="285840"/>
            <a:ext cx="8229600" cy="19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SimSun"/>
              </a:rPr>
              <a:t>Ответы:</a:t>
            </a: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SimSun"/>
              </a:rPr>
              <a:t> (Прошли 3 препятствие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1800360"/>
          <a:ext cx="9142560" cy="1260360"/>
        </p:xfrm>
        <a:graphic>
          <a:graphicData uri="http://schemas.openxmlformats.org/drawingml/2006/table">
            <a:tbl>
              <a:tblPr/>
              <a:tblGrid>
                <a:gridCol w="914040"/>
                <a:gridCol w="914040"/>
                <a:gridCol w="914040"/>
                <a:gridCol w="914040"/>
                <a:gridCol w="895320"/>
                <a:gridCol w="933120"/>
                <a:gridCol w="914040"/>
                <a:gridCol w="914040"/>
                <a:gridCol w="914040"/>
                <a:gridCol w="915840"/>
              </a:tblGrid>
              <a:tr h="591840">
                <a:tc>
                  <a:txBody>
                    <a:bodyPr lIns="68760" rIns="68760" tIns="1260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483480"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483480"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20160" bIns="0" anchor="t">
                      <a:noAutofit/>
                    </a:bodyPr>
                    <a:p>
                      <a:pPr marL="34920" indent="34920" algn="ctr">
                        <a:lnSpc>
                          <a:spcPct val="95000"/>
                        </a:lnSpc>
                        <a:tabLst>
                          <a:tab algn="l" pos="0"/>
                          <a:tab algn="l" pos="34920"/>
                          <a:tab algn="l" pos="949320"/>
                          <a:tab algn="l" pos="1863720"/>
                          <a:tab algn="l" pos="2778120"/>
                          <a:tab algn="l" pos="3692520"/>
                          <a:tab algn="l" pos="4606920"/>
                          <a:tab algn="l" pos="5521320"/>
                          <a:tab algn="l" pos="6435720"/>
                          <a:tab algn="l" pos="7350120"/>
                          <a:tab algn="l" pos="8264520"/>
                          <a:tab algn="l" pos="9178920"/>
                          <a:tab algn="l" pos="1009332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5840" y="69840"/>
            <a:ext cx="82296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Цели учебного занят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28800"/>
            <a:ext cx="8229600" cy="55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Образовательны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SimSun"/>
              </a:rPr>
              <a:t>Обобщить и закрепить знания учащихся по теме «Сложение и вычитание натуральных чис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Развивающ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SimSun"/>
              </a:rPr>
              <a:t>создать условия для развития у учащихся умения структурировать информаци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SimSun"/>
              </a:rPr>
              <a:t>создать условия для развития речевых навыков у школьни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SimSun"/>
              </a:rPr>
              <a:t>содействовать развитию у школьников научного мышления, интеллекта, творческих умений и навыков, индивидуальн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Воспитательны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SimSun"/>
              </a:rPr>
              <a:t>содействовать развитию у учащихся умения сотрудничать, выслушивать товарища, уважать мнение оппонен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SimSun"/>
              </a:rPr>
              <a:t>создать условия для развития у школьников стремления к познани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SimSun"/>
              </a:rPr>
              <a:t>Воспитывать усидчивость и трудолюб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Поднимает руки класс-это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Повертелась голова-это д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Руки вниз,вперед смотри-это т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Руки в сторону пошире-на четы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С силой их к плечам прижать -это п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Всем ребятам тихо сесть – это ш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123840"/>
            <a:ext cx="30081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Решение уравн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75160" y="272880"/>
            <a:ext cx="5111640" cy="59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  <a:ea typeface="SimSun"/>
              </a:rPr>
              <a:t>От стены дорога вела в лес. Попал Иван-царевич с войском в лес, к избушке Бабы-яг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  <a:ea typeface="SimSun"/>
              </a:rPr>
              <a:t>Она давно враждовала с Кощеем Бессмертным и согласилась помочь Ивану-царевичу справиться с Кощеем, отдать ларец, в котором заключена его смер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  <a:ea typeface="SimSun"/>
              </a:rPr>
              <a:t>Но прежде воины должны решить уравнение. Из каждого ряда по 1 воину к доске (на доске записать уравнения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43496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28760" y="1500120"/>
            <a:ext cx="3143160" cy="2143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28760" y="3643200"/>
            <a:ext cx="3071520" cy="25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0" y="14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-144360"/>
            <a:ext cx="9144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32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-12=39       41-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11)=25         380+(135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=580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576440" y="1601640"/>
            <a:ext cx="5991120" cy="4523040"/>
            <a:chOff x="1576440" y="1601640"/>
            <a:chExt cx="5991120" cy="452304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1576440" y="1601640"/>
              <a:ext cx="5991120" cy="452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576440" y="1601640"/>
              <a:ext cx="5991120" cy="45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58680"/>
            <a:ext cx="822960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И раскрыл Иван нужный ларец. Вынул из него стрелу с  кощеевой смертью, переломил ее. Покончено с Кощеем Бессмертным. Освободилась Елена Прекрасна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42960" y="2643120"/>
            <a:ext cx="3286080" cy="3571920"/>
            <a:chOff x="642960" y="2643120"/>
            <a:chExt cx="3286080" cy="3571920"/>
          </a:xfrm>
        </p:grpSpPr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642960" y="2643120"/>
              <a:ext cx="3286080" cy="35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42960" y="2643120"/>
              <a:ext cx="3286080" cy="357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072040" y="2643120"/>
            <a:ext cx="3643200" cy="36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Хорошо справилось  войско с препятствиями страны "Натуральных чисел". Знают воины премудрости  сложения и вычитания, не боятся никаких заданий, есть у них 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И Иван-царевич благодарен воинам, и каждого он награждает оцен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786720" y="4643280"/>
            <a:ext cx="235728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171360"/>
            <a:ext cx="82296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Вот и сказке конец и на этом заканчивается наш урок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Окончен урок, и выполнен план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Спасибо , ребята, огромное ва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За то , что упорно и дружно трудились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И знания точно уж вам пригодились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286080"/>
            <a:ext cx="8229600" cy="28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А теперь , внимание, домашнее задание: Придумать и творчески представить сказочную задачу по теме « Сложение и вычитание натуральных чисел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572160" y="4714920"/>
            <a:ext cx="257184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28760" y="21276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Рефлекс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А теперь , ребята , поднимите сигнальные карточки с вашим настро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Урок закончен , друзья , до скорого свида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357720" y="3571920"/>
            <a:ext cx="55004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Рефлекс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Давайте, ребята , узнаем какое у вас настро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Покажите сигнальную карточку, зависящую от вашего настро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 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У меня оч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       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хорош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    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настрое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71680" y="3714840"/>
            <a:ext cx="464328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5840" y="1714680"/>
            <a:ext cx="840096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Задача, конечно, не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слишком прост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Играя учить и 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                 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играя,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Но если с учебой сло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     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развле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То праздником ста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  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любое учень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214200"/>
            <a:ext cx="3809880" cy="642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5840" y="139680"/>
            <a:ext cx="822960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SimSun"/>
              </a:rPr>
              <a:t>Сегодня вместе с Иваном-Царевичем мы совершим увлекательное путешествие в страну «Натуральных чисел» и выясним, как вы умеете выполнять сложение и вычитание над натуральными числам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SimSun"/>
              </a:rPr>
              <a:t>Итак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76360" y="2928960"/>
            <a:ext cx="3781440" cy="3500280"/>
            <a:chOff x="576360" y="2928960"/>
            <a:chExt cx="3781440" cy="350028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576360" y="2928960"/>
              <a:ext cx="3781440" cy="35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76360" y="2928960"/>
              <a:ext cx="3781440" cy="35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4648320" y="2786040"/>
            <a:ext cx="4038480" cy="35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В некотором царстве, в некотором государстве жил-был Иван-царевич. Он очень любил путешествов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00040" y="357120"/>
            <a:ext cx="4286160" cy="5572080"/>
            <a:chOff x="500040" y="357120"/>
            <a:chExt cx="4286160" cy="557208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500040" y="357120"/>
              <a:ext cx="4286160" cy="557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00040" y="357120"/>
              <a:ext cx="4286160" cy="55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648320" y="285840"/>
            <a:ext cx="4038480" cy="61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SimSu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SimSun"/>
              </a:rPr>
              <a:t>И вот однажды он повстречал Елену Прекрасную. Полюбили они друг друга и решили пожениться. Но злой кощей Бессмертный узнал про это и похитил Елену Прекрасную. Унес ее в далекую сказочную страну «Натуральных чисе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85840" y="4429080"/>
            <a:ext cx="85723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4240" y="285840"/>
            <a:ext cx="7500960" cy="3571920"/>
            <a:chOff x="714240" y="285840"/>
            <a:chExt cx="7500960" cy="3571920"/>
          </a:xfrm>
        </p:grpSpPr>
        <p:pic>
          <p:nvPicPr>
            <p:cNvPr id="71" name="" descr=""/>
            <p:cNvPicPr/>
            <p:nvPr/>
          </p:nvPicPr>
          <p:blipFill>
            <a:blip r:embed="rId2"/>
            <a:srcRect l="9767" t="0" r="9767" b="0"/>
            <a:stretch/>
          </p:blipFill>
          <p:spPr>
            <a:xfrm>
              <a:off x="714240" y="285840"/>
              <a:ext cx="7500960" cy="35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14240" y="285840"/>
              <a:ext cx="7500960" cy="357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85840" y="3929040"/>
            <a:ext cx="857232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SimSun"/>
              </a:rPr>
              <a:t>Иван-царевич решил спасти Елену Прекрасную, но для этого ему понадобилось умное, сообразительное войско, которое помогло бы в неизвестной для него стр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SimSun"/>
              </a:rPr>
              <a:t>Стал он испытывать своих воинов. Для начала проверил как прибывшие дружины (1,2,3р) со своими воеводами справились с домашней раб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Проверка домашне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7120" y="785880"/>
            <a:ext cx="8229600" cy="63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                    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№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4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а)х-10+14=85;                     б)16+х-23=19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х+(14-10)=85;                      х+16=19+2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х+4=85;                                 х+16=4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х=85-4;                                  х=42-1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х=81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                     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 х=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81-10+14=85;                       16+26-23=19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85=85.                                   19=19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Ответ: Первоначально     Ответ: Мальч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было 81 гриб.                       Купил 26 марок.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№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4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1)(138+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m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)-95=(138-95)+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m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=43+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m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2)(198+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)-36=(198-36)+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=162+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3)(х-39)+65=х+(65-39)=х+2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4)(у-56)+114=у+(114-56)=у+5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17:26:58Z</dcterms:created>
  <dc:creator>Admin</dc:creator>
  <dc:description/>
  <dc:language>en-US</dc:language>
  <cp:lastModifiedBy>Admin</cp:lastModifiedBy>
  <dcterms:modified xsi:type="dcterms:W3CDTF">2011-10-23T18:37:02Z</dcterms:modified>
  <cp:revision>39</cp:revision>
  <dc:subject/>
  <dc:title>Сложение  и вычитание натуральных чисел</dc:title>
</cp:coreProperties>
</file>