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B05F-D0DE-4AC6-9967-EFB24986C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8A9F-40F5-4B1F-A1D8-2921C760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9123-BDA5-4386-8656-1B01133C5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2209-0DF2-40B9-9C7F-90639B1C5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8C75-9A8C-45E2-983A-99399A05C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BD00-EC1A-497B-A6F4-E4765BA0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89649-95EA-4C1B-A555-3079E8B1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A6D2-BCB3-4E41-BD7E-1E138B22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FD45-C39E-4958-9ED9-8D15E261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E094-CB9B-451C-ADCB-813F70CE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9ACB-62BE-4CD8-9C8E-5F3F46A5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E4AB-DF6B-4EB8-9E77-F98E9D9B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25CAB-6D3A-45C4-A4BE-30972F02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B307B-B954-4AF7-A0D5-1C1ED6A3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AC24-4799-4116-BCED-1EFD6692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5965-19C4-4534-8DEF-7336456FE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15A2-0FE0-4DEB-AE42-40D91417F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093D-5BCA-4180-A3E2-F26BA285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39A2-E7D3-4912-9FDB-1BB91A62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1482-86AB-4F2F-BEBA-EB57EBFC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6735-1069-48CD-A46A-4AC0FC02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2BC5-B738-4933-A594-B422D90F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4669-AA26-4B54-A6CA-5803F324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5EB3-06AF-4792-B192-3818F7C4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6675-489B-4BD9-9AC4-E38A97C42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c1c2c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13DA-A4DD-4FC0-A74C-C2C0F37FD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1557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300" spc="-1" strike="noStrike">
                <a:solidFill>
                  <a:srgbClr val="000000"/>
                </a:solidFill>
                <a:latin typeface="Arial Black"/>
              </a:rPr>
              <a:t>Слушание произведений о животных</a:t>
            </a:r>
            <a:endParaRPr b="1" lang="en-US" sz="6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0328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37720" y="1904760"/>
            <a:ext cx="8007480" cy="4190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932360" y="1268280"/>
            <a:ext cx="3887640" cy="2592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258920" y="2133720"/>
            <a:ext cx="3241800" cy="4174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716360" y="3933720"/>
            <a:ext cx="4030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38080" y="1904760"/>
            <a:ext cx="3927600" cy="41907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00000" y="260280"/>
            <a:ext cx="3889440" cy="3097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932360" y="260280"/>
            <a:ext cx="3816360" cy="3095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826920" y="3645000"/>
            <a:ext cx="3673800" cy="2663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4932360" y="3573360"/>
            <a:ext cx="37432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447040" cy="63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2" name="" descr="Картинка 18 из 2691"/>
          <p:cNvPicPr/>
          <p:nvPr/>
        </p:nvPicPr>
        <p:blipFill>
          <a:blip r:embed="rId1"/>
          <a:stretch/>
        </p:blipFill>
        <p:spPr>
          <a:xfrm>
            <a:off x="1547640" y="1989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39640" y="404640"/>
            <a:ext cx="7920000" cy="1295640"/>
          </a:xfrm>
          <a:prstGeom prst="rect">
            <a:avLst/>
          </a:prstGeom>
          <a:solidFill>
            <a:srgbClr val="f1f1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Ложбинка – углублен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411280" y="692280"/>
            <a:ext cx="21600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32000" y="404640"/>
            <a:ext cx="6840360" cy="1584360"/>
          </a:xfrm>
          <a:prstGeom prst="rect">
            <a:avLst/>
          </a:prstGeom>
          <a:solidFill>
            <a:srgbClr val="f1f1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Тешили – забавлял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Картинка 12 из 1806"/>
          <p:cNvPicPr/>
          <p:nvPr/>
        </p:nvPicPr>
        <p:blipFill>
          <a:blip r:embed="rId1"/>
          <a:stretch/>
        </p:blipFill>
        <p:spPr>
          <a:xfrm>
            <a:off x="1332000" y="2276640"/>
            <a:ext cx="6912000" cy="424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flipH="1">
            <a:off x="2340000" y="47628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16000" y="549360"/>
            <a:ext cx="7343640" cy="1727280"/>
          </a:xfrm>
          <a:prstGeom prst="rect">
            <a:avLst/>
          </a:prstGeom>
          <a:solidFill>
            <a:srgbClr val="f1f1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Былинки – травинк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Картинка 167 из 6552"/>
          <p:cNvPicPr/>
          <p:nvPr/>
        </p:nvPicPr>
        <p:blipFill>
          <a:blip r:embed="rId1"/>
          <a:stretch/>
        </p:blipFill>
        <p:spPr>
          <a:xfrm>
            <a:off x="1403280" y="2421000"/>
            <a:ext cx="6726240" cy="41464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 flipH="1">
            <a:off x="3203640" y="105264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95280" y="404640"/>
            <a:ext cx="8497800" cy="2374920"/>
          </a:xfrm>
          <a:prstGeom prst="rect">
            <a:avLst/>
          </a:prstGeom>
          <a:solidFill>
            <a:srgbClr val="f1f1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Косится – смотрит искоса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сбоку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834920" y="83664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3284640"/>
            <a:ext cx="8351640" cy="2232000"/>
          </a:xfrm>
          <a:prstGeom prst="rect">
            <a:avLst/>
          </a:prstGeom>
          <a:solidFill>
            <a:srgbClr val="f1f1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Ступать – идт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850920" y="393372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8512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Александр Александрович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Блок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Картинка 8 из 40450"/>
          <p:cNvPicPr/>
          <p:nvPr/>
        </p:nvPicPr>
        <p:blipFill>
          <a:blip r:embed="rId1"/>
          <a:stretch/>
        </p:blipFill>
        <p:spPr>
          <a:xfrm>
            <a:off x="3708360" y="620640"/>
            <a:ext cx="521964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Картинка 58 из 12274"/>
          <p:cNvPicPr/>
          <p:nvPr/>
        </p:nvPicPr>
        <p:blipFill>
          <a:blip r:embed="rId1"/>
          <a:stretch/>
        </p:blipFill>
        <p:spPr>
          <a:xfrm>
            <a:off x="-324000" y="1413000"/>
            <a:ext cx="9753840" cy="6769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-324000" y="0"/>
            <a:ext cx="9468000" cy="1846440"/>
          </a:xfrm>
          <a:prstGeom prst="rect">
            <a:avLst/>
          </a:prstGeom>
          <a:solidFill>
            <a:srgbClr val="f1f1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Спасибо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18:12:41Z</dcterms:created>
  <dc:creator>Ildar</dc:creator>
  <dc:description/>
  <dc:language>en-US</dc:language>
  <cp:lastModifiedBy>Ildar</cp:lastModifiedBy>
  <dcterms:modified xsi:type="dcterms:W3CDTF">2011-12-18T17:35:14Z</dcterms:modified>
  <cp:revision>6</cp:revision>
  <dc:subject/>
  <dc:title>Слушание произведений о природе</dc:title>
</cp:coreProperties>
</file>