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BC1-5D2A-4482-B068-9C200B4A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BEA-FA3A-4AEE-A46F-A1C2DA29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F8A-A79C-40F4-B30C-44C69BE5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D8B-A188-44B0-BF19-511E1106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F6EA-5B1D-449F-B33C-FE41F7DA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D3E9-1601-4210-A01A-5BFAF059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229A-AA16-4C48-A703-8440B8B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D80-E3AD-4A88-9396-F899F002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BEB-D5E4-4AD9-9BDC-3714BB70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752C-C52E-4185-9DA5-1ED5AF6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99C2-3F9F-45DC-B199-3D80A3B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3CA-29CB-4670-95FE-2865C8FA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14F7-B160-4735-AA06-F6C5383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AEAD-F011-4F97-8417-3C97B475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7F62-ED09-49DB-A61E-8DF419D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3857-D5C8-4F52-AC83-7E8A7B6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BA04-0C30-4536-907A-F2B769E0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35B-232F-4D87-864E-6E036C5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B9C-7814-4DDD-A97E-EA3B902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67D-A631-49F1-B724-DEC6A17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77B-94A2-4FBC-ADCB-AF333BE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6CD-6984-4498-9283-1AAB1CAD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7E6-F922-48D8-BFB8-44469EB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B95-EE5C-4294-A337-ED2A7B78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7835-0A10-470E-9741-C21BF55D73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431-1D4A-4DDE-B7D9-BB6B28D1EA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mallbay.ru/images6/u9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smallbay.ru/images6/u3.jpg" TargetMode="External"/><Relationship Id="rId4" Type="http://schemas.openxmlformats.org/officeDocument/2006/relationships/hyperlink" Target="http://smallbay.ru/images6/u3.jpg" TargetMode="External"/><Relationship Id="rId5" Type="http://schemas.openxmlformats.org/officeDocument/2006/relationships/hyperlink" Target="http://smallbay.ru/images6/u3.jpg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086;&#1082;&#1090;&#1103;&#1073;&#1088;&#1103;" TargetMode="External"/><Relationship Id="rId2" Type="http://schemas.openxmlformats.org/officeDocument/2006/relationships/hyperlink" Target="http://ru.wikipedia.org/wiki/1889" TargetMode="External"/><Relationship Id="rId3" Type="http://schemas.openxmlformats.org/officeDocument/2006/relationships/hyperlink" Target="http://ru.wikipedia.org/wiki/&#1055;&#1072;&#1088;&#1080;&#1078;" TargetMode="External"/><Relationship Id="rId4" Type="http://schemas.openxmlformats.org/officeDocument/2006/relationships/hyperlink" Target="http://ru.wikipedia.org/wiki/&#1060;&#1088;&#1072;&#1085;&#1094;&#1080;&#1103;" TargetMode="External"/><Relationship Id="rId5" Type="http://schemas.openxmlformats.org/officeDocument/2006/relationships/hyperlink" Target="http://ru.wikipedia.org/wiki/&#1069;&#1081;&#1092;&#1077;&#1083;&#1100;,_&#1043;&#1091;&#1089;&#1090;&#1072;&#1074;_&#1040;&#1083;&#1077;&#1082;&#1089;&#1072;&#1085;&#1076;&#1088;" TargetMode="External"/><Relationship Id="rId6" Type="http://schemas.openxmlformats.org/officeDocument/2006/relationships/hyperlink" Target="http://ru.wikipedia.org/wiki/&#1042;&#1089;&#1077;&#1084;&#1080;&#1088;&#1085;&#1072;&#1103;_&#1074;&#1099;&#1089;&#1090;&#1072;&#1074;&#1082;&#1072;_(1889)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allbay.ru/images6/u91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mallbay.ru/images6/u9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allbay.ru/images6/u0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mallbay.ru/images6/u92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smallbay.ru/images6/u5.jpg" TargetMode="External"/><Relationship Id="rId4" Type="http://schemas.openxmlformats.org/officeDocument/2006/relationships/hyperlink" Target="http://smallbay.ru/images6/u5.jpg" TargetMode="External"/><Relationship Id="rId5" Type="http://schemas.openxmlformats.org/officeDocument/2006/relationships/hyperlink" Target="http://smallbay.ru/images6/u5.jpg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тиль модерн, его роль в развитии новаторской архитектур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кусство конца XIX начала XX ве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нтастические, мистические чувства пронизывают самую знаменитую постройку Гауди - собор Саграда Фамилья (Святого Семейства) в Барселоне. Восемнадцать башен, в число которых входит и 170-метровый «Христос», и «Дева Мария», и «евангелисты», и «апостолы». Строительство церкви Святого семейства началось в 1884 году и продолжается по сей день. Она была задумана как символ незыблемости католической христианской веры и должна была стать средоточием целого комплекса зданий, главным образом, школ и других воспитательных учреждений. Незавершенная церковь известна во всем мире как главное творение знаменитого архитектора Антонио Гауд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962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Музей искусств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12-1920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лянд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ельс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u93"/>
          <p:cNvPicPr/>
          <p:nvPr/>
        </p:nvPicPr>
        <p:blipFill>
          <a:blip r:embed="rId2"/>
          <a:stretch/>
        </p:blipFill>
        <p:spPr>
          <a:xfrm>
            <a:off x="4114800" y="0"/>
            <a:ext cx="4851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u3"/>
          <p:cNvPicPr/>
          <p:nvPr/>
        </p:nvPicPr>
        <p:blipFill>
          <a:blip r:embed="rId1"/>
          <a:stretch/>
        </p:blipFill>
        <p:spPr>
          <a:xfrm>
            <a:off x="4495680" y="152280"/>
            <a:ext cx="4469040" cy="647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u4"/>
          <p:cNvPicPr/>
          <p:nvPr/>
        </p:nvPicPr>
        <p:blipFill>
          <a:blip r:embed="rId2"/>
          <a:stretch/>
        </p:blipFill>
        <p:spPr>
          <a:xfrm>
            <a:off x="228600" y="228600"/>
            <a:ext cx="4060800" cy="6324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98720" y="304560"/>
            <a:ext cx="3911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Каза Баттло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_x000b_</a:t>
            </a: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Антонио Гауд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05-1907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ания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рсел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йфелева башн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Файл:Eiffel tower and the seine at night.jpg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Э́йфелева ба́шн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строительство окончено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25 октябр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8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г.) — самая узнаваемая архитектурная достопримечательность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Париж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семирно известная как символ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Фран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названная в честь своего конструктора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Густава Эйфел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всю историю башни на ней побывало — 236 445 812 человек. То есть башня является самой посещаемой достопримечательностью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символ Парижа задумывался как временное сооружение — башня служила входной аркой парижской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Всемирной выстав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1889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да. Планировался  снос (через 20 лет после выставки), но  башню спасли радиоантенны, установленные на самом верху, — это была эпоха внедрения ради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Файл:Tour eiffel at sunrise from the trocadero.jpg"/>
          <p:cNvPicPr/>
          <p:nvPr/>
        </p:nvPicPr>
        <p:blipFill>
          <a:blip r:embed="rId7"/>
          <a:stretch/>
        </p:blipFill>
        <p:spPr>
          <a:xfrm>
            <a:off x="5334120" y="457200"/>
            <a:ext cx="3809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5715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бытия и фа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имой 2004/2005 года на нижней площадке Эйфелевой башни был залит ледовый каток для рекламы Парижа как кандидата на принятие летней Олимпиады 201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Железная дама» противостоит разрушающему действию времени благодаря 57 тоннам краски, обновлять каждые 7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громная железная башня не особо страдает от ветра. Даже самый сильный шторм, случившийся в Париже (примерно 180 км/ч), отклонил верхушку башни лишь на 12 см. Значительно больше на неё действует Солнце. Обращенная к солнцу сторона расширяется от жары так, что верхушка отклоняется в сторону на 18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2002 году число посетителей башни перевалило за 200 миллион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Файл:Paris - Eiffelturm - frontal vom Marsfeld.jpg"/>
          <p:cNvPicPr/>
          <p:nvPr/>
        </p:nvPicPr>
        <p:blipFill>
          <a:blip r:embed="rId1"/>
          <a:stretch/>
        </p:blipFill>
        <p:spPr>
          <a:xfrm>
            <a:off x="5638680" y="304920"/>
            <a:ext cx="3205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ясните понятия «Модер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основные течения Модер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едите примеры сооружений в стиле Модер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главное творение Антонио Гауд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события и факты относительно Эйфелевой баш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Архитектура стиля модерн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ДЕР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от фр. moderne, — новый, современный) —стил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лавной целью которого было стремление художников противопоставить свое творчество искусству XIX столет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Хронологические рамки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кусства Модерн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лизительно 1886-1914 гг. - рубеж XIX-XX вв. (всего тридцать лет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одерн - это множество различных стилей и течений составляющих период, не менее важный, чем эпоха Возрождения XVI в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сновные течения искусства Модерн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оромантическое (национально-романтическое)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рациональное, или геометрическое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"неопластицизм", или "органическую архитектуру"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неоклассицизм.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u91 (1)"/>
          <p:cNvPicPr/>
          <p:nvPr/>
        </p:nvPicPr>
        <p:blipFill>
          <a:blip r:embed="rId1"/>
          <a:stretch/>
        </p:blipFill>
        <p:spPr>
          <a:xfrm>
            <a:off x="8380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инляндия, Хельсинки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6248160"/>
            <a:ext cx="6934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Центральный вокза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Tahoma"/>
              </a:rPr>
              <a:t>1907-1910</a:t>
            </a:r>
            <a:br>
              <a:rPr sz="2000"/>
            </a:br>
            <a:r>
              <a:rPr b="0" lang="ru-RU" sz="20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u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216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ехия, Пра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Центральный вокзал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909-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u0"/>
          <p:cNvPicPr/>
          <p:nvPr/>
        </p:nvPicPr>
        <p:blipFill>
          <a:blip r:embed="rId1"/>
          <a:stretch/>
        </p:blipFill>
        <p:spPr>
          <a:xfrm>
            <a:off x="838080" y="0"/>
            <a:ext cx="7848720" cy="6927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Казанский вокза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5867280"/>
            <a:ext cx="792504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сия, Моск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А.В.Щусев,1913-192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u92"/>
          <p:cNvPicPr/>
          <p:nvPr/>
        </p:nvPicPr>
        <p:blipFill>
          <a:blip r:embed="rId1"/>
          <a:stretch/>
        </p:blipFill>
        <p:spPr>
          <a:xfrm>
            <a:off x="1828800" y="0"/>
            <a:ext cx="57880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инляндия, Турк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440" y="6171840"/>
            <a:ext cx="57913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Жилой 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18-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u5"/>
          <p:cNvPicPr/>
          <p:nvPr/>
        </p:nvPicPr>
        <p:blipFill>
          <a:blip r:embed="rId1"/>
          <a:stretch/>
        </p:blipFill>
        <p:spPr>
          <a:xfrm>
            <a:off x="228600" y="609480"/>
            <a:ext cx="4567320" cy="624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u6"/>
          <p:cNvPicPr/>
          <p:nvPr/>
        </p:nvPicPr>
        <p:blipFill>
          <a:blip r:embed="rId2"/>
          <a:stretch/>
        </p:blipFill>
        <p:spPr>
          <a:xfrm>
            <a:off x="5105520" y="0"/>
            <a:ext cx="3870360" cy="624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Церковь Святого Семейства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_x000b_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61722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Антонио Гауд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спания, Барселона, с 188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9T05:47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