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84D-8BC4-418A-8FB3-1FA0CE3D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B1B-5299-41C3-AAC1-8C057F5D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068B2-A609-43B0-B658-34044354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6F56F-0D7E-4CC2-A1B2-E8098463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03FB4-761E-4761-AF9B-C2765645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1DC81-BADD-46B4-B881-9005BFD7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627AE-123C-41D3-9750-FE74EEC0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73F96-D6B1-468F-9952-DD7165BD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1C2E3-10C1-4DF1-8F4B-118B9359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D8B82-25D7-4139-A11B-10E01BCF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6E9A9-F2C5-402B-93C7-70287889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CB66E-4480-4A5B-AEC9-0E035EAD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E37F-AE50-4CCE-951B-B17BE65A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59853-95E7-4CA6-A402-233B684E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366F3-F849-4862-99BB-AF7D21F0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6C65F-77F4-45B5-B4D0-1C56A0F4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ACF18-BC45-49B8-874E-994FBDBC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B44F1-5A85-4761-AD15-2621D146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3AF4E-4214-45D4-930E-594F80E7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1BB1A-8A5B-4B59-B103-919C0B91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9EDC4-800A-4784-8437-CFA1E9D3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383BE-5B4C-46E3-9308-B3C6C8C4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27F00-CB9B-4856-8938-72F805CF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05B7-F41C-4810-A314-47117178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D4001-5082-4FF1-BCF2-E192FFA2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157A5-613A-4339-8FC9-E22FF9A9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AA9D7-2F3F-41FC-BE24-31CC8237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414CE-1897-4611-972C-8D404B29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F1AB8-90C2-4358-B709-0CFE26BA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F252E-0CD3-4F8A-A68C-091C4A54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F3967-E541-4AEA-8444-6F50FBFF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B5E3A-34E3-4D61-9B98-29C84696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83A77-953D-4F80-AE44-DD1B783E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CCFEA-594D-4926-80BA-BB2648B8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93CF-C54D-4FF3-A91F-17415F4D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9C916-7A33-42EC-A3EF-8CE3B36B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0B82F-9609-43EA-82B5-FBAF3192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6A293-6B76-4F41-90B9-66CCF9A6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EB450-D463-4926-B8B9-FB8CD062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B234D-2715-480A-BF76-9A7AB0B4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7D421-CFA6-4AAF-8CC7-133A166C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13D2F-D407-4317-B643-4943999F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84C26-01B6-4442-A595-18EC3789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4A4D9-9B9B-42BD-A18F-BF755D1E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FF008-D18A-4B6C-BC09-FA9B5FC3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97E8-62D5-4AFC-8819-C8B8650A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45A2A-A3F0-4FE6-A2F7-01324B1E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C364B-2C36-4B0D-A54B-00ED47E6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45EFE-A42E-46A1-BB1C-A87ECA02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7CB55-B40D-4BC7-9735-07B195ED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2F495-89AB-49E3-AE75-7DF649FB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18F9F-3885-4CA7-B500-8031DF43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19A8F-3389-47AC-BC1A-2F38381E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9FA8B-1046-4047-A63C-AC9577DF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135DBC-E345-49F3-AE76-B36BE001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1356F3-30DC-4321-A338-C820098B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8738-A720-4B54-8D40-0FA3F68A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24D05-84BC-497F-B075-985BE7DF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D755B-D5E2-4B89-AE73-A5200813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9EE6AB-08D4-436A-93C5-29274863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EEBB52-3373-4527-B381-0D9B57AD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FAE4A-7C8B-400F-8436-F2D9B77C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47C86-46D5-4A21-B33A-D8D0C938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A71CD-5FE5-4B02-936F-9DAF17C0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71752A-0492-4F85-BC13-065AF44D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4445C0-E093-443F-BCEE-889E1066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D4C2D9-3911-4EF7-89B7-41C872A7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3014-392B-4055-B271-9CEAAD85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1E990B-86B0-49DC-88D3-E9782952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DC2CC9-6A8B-49E1-94CF-39001E4C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54B378-870E-4AC7-916D-28B19564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97127B-D1DD-4F72-B2ED-29857F4C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48A96A-132B-479B-A239-BC9F06A1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417AAB-3725-4612-8C25-C5AB0A68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8E3AD8-52BE-4128-96A7-BD95C0EC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7A9789-A2B7-4E8A-8CE8-DF195FE6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02D979-5340-499A-9EFB-BED3F6C2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494033-94E8-47A8-B937-D7991D6E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55ED-0587-4671-A334-71E22BD2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44DB1-E713-4AD0-94F0-13FAA4D4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49A468-5D2E-49BD-8D85-D964C10E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B6811C-4C5D-4823-A656-5300EACC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4A852D-DF1B-488C-9436-1B403DCF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DEFDB1-3BD2-4AA1-BFDF-D4625F92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8483F8-5C93-4CE5-8BAE-2752188A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1BD6A9-066C-4568-8DD9-8729B2F1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DBC61-0376-410C-8C89-62D2AAC8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D3887A-2122-4BCB-AC5D-9082BF95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6B5991-9AC1-45F5-94E6-152BEF97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5B0A-9638-45E6-9A57-009AA6E6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5B8315-FD95-4BC1-8034-3DA73D9A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F7A678-EB7C-43B6-A807-04E0B227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C1D72A-7B8C-41BA-A9BC-29776DE1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124EDD-BBFB-475A-A87D-FDB7C624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BF5475-E883-4B63-B7EF-70F398BC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F12D19-8972-4A45-A17A-5BAA2CC0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1A2A85-35EF-48EC-BAE7-DF247BBA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1908AF-6E0E-4733-BE05-4A304D22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1D0CEA-A3E8-45DA-AE65-5BB68469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CF2EE6-85F0-4607-9A65-561B022A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282F-8CE7-4D2E-944F-3C26991D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9C4E1E-8C81-4F89-AF43-DACA7494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BFA5FA-7E30-4633-9843-BF9C8A7B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C8E9A9-2BEC-4741-8EF4-836C75CE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6674B2-F8F3-4881-8F41-2D18D0B3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B93AE7-C6E0-46DA-92C9-D23970DA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72B1C3-1099-4360-848B-5200ACC1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F935E4-80A2-437A-B291-2C03B3D3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70AE16-C54E-46A8-8163-B8A02BF5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70B39C-917C-4FDF-BFE1-A10EF2C5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4098F7-5321-4862-A3FF-1B3AE163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BDB-C642-4AC3-8173-87757F2A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B09C-2773-4788-9904-20762F4F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29A79A-40C8-4B3C-AB69-62CBF9C7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55102F-8399-4398-BBF3-FE0DA0FB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C66580-CCBC-4A84-A4AF-89CD8EA5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A57E90-FF54-4408-9703-438F78E7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361481-8CBD-45DC-937F-D6B8F3F6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2BB934-B2FB-43F8-96E4-14CE0215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75A922-F0CE-4050-8B18-3D04C4E8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30A487-128F-4FE2-BCE2-7A17825F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5709F6-07AB-4B21-86BA-8279A90B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429CF3-4E04-47B8-A270-34E4B8DB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B17F-9410-4F78-913A-5404DF8F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E06B03-24B5-42F5-A138-49E431CD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3C5FD2-728D-4857-B10D-799D1ED2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BA97F7-3942-4CF6-ADF9-D48C783C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B6AE9F-FCD1-47B8-B4C8-BCAABF8D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E9FDFA-8323-4C2E-B954-ECCD5BBE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17D226-C865-4BE4-8755-4A0516EA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EED1CE-5EEE-40A1-ACF7-32C347A3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6663004-047D-4A36-B68F-028AD001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34BBCC1-1815-409C-B264-0403B7FA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3645BE0-B058-4397-8572-A9A01489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516C-BB4E-4279-B933-ABFC7107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3D0A3F5-0DE0-4CE1-A021-CABD0267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986F2EE-8DD8-4A17-8386-00EFE128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79CB6C7-42B7-4FA5-87F8-9F32436D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4A5B745-6E7E-495F-A964-3C8F94A8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2F3216E-C3BF-4C2D-8887-CE1DB4E4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F8427AA-EB6E-46A0-B733-6F2A3C0D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F4F057F-1BD5-4421-9257-D3160A20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B51F637-EB7C-41D0-98D6-E22E8FD4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E78D9AE-CC5D-413F-860E-B608574E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3A9C4D-5A7A-4964-94ED-29647F87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03A0-D3BB-46DD-9DCE-6BA26F12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228E8C-4BEB-4CD8-A1E8-5E9E5017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0B5BE7-FE80-45C5-90B9-4C1F69ED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C48717-9A88-494E-B9E2-2D6E0DF5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042F04-5F00-41DE-8AE5-64040A5E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75BD79-21F0-469C-807B-78D0CF92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8A15C4-97BF-4953-AEDB-12766CEF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5B982E-5186-4F2D-9896-D7AF7EA0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8DFED4-3CE1-4C45-A0D7-3FA4EA52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0636F5-737C-471E-9E89-F4849F29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33756D-618A-48F6-9954-EC0E944B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22C5-A4A3-49DE-825F-AC3696CF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EF8A60-DCCD-4C4C-9F0F-CDA7B1DF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A41A4DC-0BDD-46A9-8BE8-2BF287B5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ADD078F-963D-4BAF-BE98-DB817225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2A7FE14-5654-46B3-8AFA-513EBA62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5744DDA-6D61-48B8-A511-4D8C3E78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7728E5F-9470-4320-A607-FAB39555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04EC4A0-2795-4726-814D-618125DB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E285511-C557-4472-B5F3-0A462061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49FF2D7-DF52-44B6-9DC3-AFB16390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82A9192-0C82-45F8-BBFF-22D62B48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AE107-C1F3-4288-99C5-E7F704A0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80D58FF-A00E-495A-97D5-3147DA33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C574530-DE1D-4DB3-9CD3-A55FD100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46AC9E6-7AE6-44AC-BF28-92259510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952D74-E7DC-4FBF-8176-C7482C19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6FC9EF-21F6-4A7E-A8B9-23C20E88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FBDFF2-20BA-4179-800E-71569303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545AF7-B6B4-4C0D-9BC2-ECCF7AD9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392E55-4FB4-417D-A912-25164CA6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3BDCDD-5D33-49DA-BDA9-42BC1BE5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946E0A-04C4-4BCC-A9D2-2C479107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3DA34-E4BF-47C8-A2AD-273FBC36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BC57C3-2E66-4B70-A8C2-FC34D900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D2FCF8-6BB1-4A9A-8C9C-454C7848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7337E4-07A9-48E5-ACC8-1842EFAE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ED68A2-11DF-4E17-8D53-B49F855F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41C5E4-61A0-4241-B55A-ED9B03B9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41B7A8-697D-43D2-B6B6-CF1C43A7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DF285D-85ED-4E00-83DE-6144722A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3F9CD6-01A4-4428-B7AD-D366E54B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B2B7D4-5AF5-4BD5-B566-353392E7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BCA9C0-8591-44BF-BDE7-EE27585C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0396C-1C86-4E6C-8B07-A439CC9B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373029-6373-4DBD-8054-FDF94156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9597C0-A261-436E-87CA-816D00E1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019D37-5840-4BC2-A41D-ABF39A2A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CC672A-4B3A-4C1F-BEEE-455C9C5D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383C1C-6297-4791-ACAC-B39C98AC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716CA9-BCE0-45DA-B565-9A366250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EFA804-A117-4907-98F4-B8764E8C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B5B732-1C1B-4DC9-B504-2F87A920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BA96B9-35A0-489A-AA38-034597EC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45FD6B-7A10-40C2-ABAF-C3032DFC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5E481-2AA4-4C8E-A100-05717C82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A1AC2E-60E5-4F04-80C7-68CF3918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B73431-6EF3-4CDC-95B4-23B686C0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6DEC7A-9D60-4295-A6D6-79FC98F8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EFF822-969D-40A8-B09F-9BDC1379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7ACE01-448B-4133-8E6C-D3591403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D2DEEA-5D10-451E-A8BC-19979074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B8BF81-50FD-4BC8-8A73-1828A5D6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4B268C-E540-4735-BF2B-2EFDBC52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029975-ACBC-47F5-869E-760B2C39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A9AA367-CE9D-4282-9759-2CA236CE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7C442-298E-4603-BEA0-8218A48C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2E5F297-B45F-4A57-821E-F167DACC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56E8FAE-DAFF-40DB-8D5F-B0FCEBE3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50B07C0-213E-42DE-B581-95EC8FD2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9EE8668-336E-402B-B14B-F7AD798B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3957B9D-C60C-4A12-B635-B5F18B75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C88770C-AFF2-4E33-9AF2-F8FD16F5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E1379F7-680D-4F54-80C4-162B9E99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021645D-F264-49BC-ABFD-49D264A1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B085B9E-9115-417E-B7BE-F1B54EBC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FFAA95E-5560-46FD-B5E9-D4F7F0FC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9EDD-5EDA-46FC-BF99-AACB9440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17ADC-54F3-45B6-A2DB-092B064F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CC477DF-3CE1-491D-BC16-BD57CCC8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5D77CEC-AF89-4705-8C53-DFCEB425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B311050-19BF-4D34-86F3-613DAAE5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2171F83-E38C-4455-853B-FF8F62D6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C13791D-BB66-47E4-8EF4-5A17B63E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25E5132-3686-44EF-9499-81D7F07C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A648BC6-2213-47A8-B8E7-C236E7A4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52938D9-94D8-4D27-A764-939F3C4C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F450757-C9D2-4A18-9053-D9B9D37A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8DE130D-E260-4CDF-853F-EABEE7C4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DFACF-F1DD-4ED6-8957-42379BDA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50C1687-9391-4DC0-BB06-791E84E9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14B5887-7879-4606-92AA-E64A295C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E8C20FF-DD6A-4CCA-A16C-0A061AAA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30AB2-9CF8-44AF-AE22-8CC0DD12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F70F2-D1A9-4B47-B39D-98791F91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4E232-731C-4CA8-8FF8-47F83FCE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2FE01-1008-4562-BB97-290FD0BF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37DD3-CD1A-44AA-A584-99EA2478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B5D6C-2DBC-42A8-87FB-B1ACE614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86812-F6CF-42F9-9A57-F501C3AE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D6F14-F4C1-4D02-AC20-493900B0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64A-17B8-4C6B-8AD8-630538FF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71D20-DDAF-4D23-88BD-2E94E374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F623E-1C33-420F-AA65-FBB63C8D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F2779-06C6-4848-BF80-4B2F3FCA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32C40-0FB7-4646-B9F4-D0D81D77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84691-9CB5-493E-BAB1-0E089382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C9571-E6FD-4282-B6E9-FE5895AA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3D37A-5F0D-47BE-BFAF-D08A1207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31B88-CCD5-4A33-836B-42E2A8A2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51D38-CD57-4D34-9701-E6B61A31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942C7-0008-42B9-9919-B8B63B8D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080-AF40-4F35-BB6F-9F154870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B7E61-5658-4007-9490-D3614897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602FB-1282-4586-8170-D7F1327E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58575-D3BC-4D0B-BF40-D00D1A3B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26353-6F59-4C7B-985A-DF565667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7090A-3FD0-45C8-9763-1C74044F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7B431-524A-4B9E-9144-B70D9129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F816F-1ADA-4591-9A6C-82DF9DD1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8FBA0-9019-4308-9DD4-435B1368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BFD32-DAE6-43A6-8A38-4B8D4BE2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D1227-FA35-4257-AFF3-66A34E67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4D0D-EA30-4388-B8D8-9DE6342C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460CA-8C24-41A8-8D01-42870698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122D6-22C5-4320-B8E4-B765F199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12333-289C-467E-A215-B4CDA196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AED79-6032-413E-9F22-1E3CF1E6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D7229-2749-44F6-843C-6DC65252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65185-FB9C-465A-A8C3-3628EAFE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53413-B44B-4385-BA3E-61179744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5D970-3399-4DD6-B845-78E2A0EE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159C7-F62B-4414-BC75-93200C6C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4F17B-1568-4FA0-A89F-EDA67134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DEB8-0335-4AEF-B656-F41BB5EB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501F3-BB1B-4B5F-99BC-F7F5FAFA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2FA1C-6F35-4DAA-A5F8-2F4E0E15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D22AC-4603-48D0-897C-62A54FDE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CE6ED-233E-47EB-9BC8-70A51E5E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4F3E9-E3CD-42DB-A6EB-13FE02D7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ED1CD-1BBA-495C-99BB-5298FA10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B38A6-CF4A-4D6F-B787-50FB7733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409CB-BDD8-426E-A185-AA02A462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6AD3A-7951-4E84-9AAA-165B2EB8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7EAEA-5E83-446D-B87A-FC39C6C7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03F-EB7A-407A-A9A0-DD4FB351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056CA-EDF3-48FD-AA54-6C9B75E4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7810A-9E6F-43A2-95A1-9FBE2036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85F7C-102A-4B83-8581-DD257EF5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95C74-6FDD-4ABD-91FB-AE1CD5B9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45A92-B00D-4D09-8155-5B574366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7459E-764E-4062-822A-79C9F5F8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9F845-9CD3-4B94-AF19-580044AD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E06EC-472C-4774-A8DE-B74BF1A8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188BE-9962-4AC4-9239-C25090A5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AEA66-ACA6-48A9-B6DD-31E832F5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1B0-7528-4301-ABA5-0CA85E9A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19463-38B1-4D23-87CE-D78DB5A7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59069-A46E-457E-86E7-6392E5A7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07E9E-0583-4D5F-8BB3-9293473A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C1B48-C6D4-4B65-974A-A0FB208A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CFFDB-0202-4109-91F4-7ED90810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60776-0246-4794-B960-203DCAC0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B0DDE-069F-4009-897F-9C804E34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3A65F-1386-4164-A4BF-C5261FD9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FEBD5-6D0A-418C-8B9B-43AF922A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CF1C9-E6B7-4620-AD1B-3747558A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1DBC-C406-4A27-87A8-960FC7B930D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30D1-5DBB-40EF-A45D-9A29E6A4C96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C9A2-6B69-48CE-830A-280E32FDE9D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31A9-F528-41BB-8B57-79A0F95E9BD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626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28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E6B6-5688-447D-861E-E29E8F1B90F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672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673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4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5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6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7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8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9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80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6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687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8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9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90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691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94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695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6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7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98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699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0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1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02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703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4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5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06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38BE-38A9-4A26-BA10-46CF7771552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5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5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5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6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6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76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6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77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7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AB4E-EA70-43B2-A6C8-3F33D5D326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6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47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48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EA24-1009-4AFF-8133-FF7D52504D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6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6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E143-2325-4DB4-B47C-37F36C494461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911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2F2E-B7E1-4F8F-A8C8-151732C1B46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956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5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sldNum" idx="5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E6BF-C88A-4522-A7BE-C1DE696227C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ftr" idx="5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9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1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4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6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1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62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5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6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9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0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3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4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7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A7EE-6489-4BF8-BD31-35DDC6281D8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0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02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60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44EA-46B2-42E3-9D42-A341C0DBDA9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dt" idx="61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sldNum" idx="62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200B-1FC6-44C6-9984-E5E03A1264F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 type="ftr" idx="63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8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8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6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6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66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51D4-42DC-4A83-B7B6-5563748562E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3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34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6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6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69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A1F0-7E98-46AF-B2E0-68C5D8EECA9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7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80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dt" idx="7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ftr" idx="7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 type="sldNum" idx="7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F5B6-E409-48D7-9117-F0760066432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dt" idx="73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 type="sldNum" idx="74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AD7D-ABFC-4F3B-927B-EA864C07BEE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 type="ftr" idx="75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7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sldNum" idx="7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6025-41F7-4B5F-8928-FE04F13792B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ftr" idx="7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A8DC-82EC-44A3-9071-4F6094BA9B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6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0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71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7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3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7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1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8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0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1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2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43D6-E945-46A6-84EB-5F336C95C2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6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6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6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2158-C263-4F14-8D57-BEB883581A8C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99F5-8591-415D-AD17-45439203ED8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ftr" idx="1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4C29-2DE4-4DF2-A30E-7BC70D1F28D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3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0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8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409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1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D113-CDDB-4332-80F8-0C9F655F5AE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5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456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8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9024-7833-40E2-A527-33A700B8546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" Target="slide3.xml"/><Relationship Id="rId5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" Target="slide3.xml"/><Relationship Id="rId5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8.xm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6" name="WordArt 8"/>
          <p:cNvSpPr txBox="1"/>
          <p:nvPr/>
        </p:nvSpPr>
        <p:spPr>
          <a:xfrm>
            <a:off x="1612800" y="266760"/>
            <a:ext cx="5870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и приме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7" name="Picture 10" descr="Рисунок4"/>
          <p:cNvPicPr/>
          <p:nvPr/>
        </p:nvPicPr>
        <p:blipFill>
          <a:blip r:embed="rId1"/>
          <a:stretch/>
        </p:blipFill>
        <p:spPr>
          <a:xfrm>
            <a:off x="6353280" y="2468520"/>
            <a:ext cx="2401920" cy="335916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1" descr="Рисунок3"/>
          <p:cNvPicPr/>
          <p:nvPr/>
        </p:nvPicPr>
        <p:blipFill>
          <a:blip r:embed="rId2"/>
          <a:stretch/>
        </p:blipFill>
        <p:spPr>
          <a:xfrm>
            <a:off x="514440" y="1095480"/>
            <a:ext cx="2328840" cy="3438360"/>
          </a:xfrm>
          <a:prstGeom prst="rect">
            <a:avLst/>
          </a:prstGeom>
          <a:ln w="0">
            <a:noFill/>
          </a:ln>
        </p:spPr>
      </p:pic>
      <p:sp>
        <p:nvSpPr>
          <p:cNvPr id="1309" name="WordArt 12"/>
          <p:cNvSpPr txBox="1"/>
          <p:nvPr/>
        </p:nvSpPr>
        <p:spPr>
          <a:xfrm>
            <a:off x="2878200" y="1160640"/>
            <a:ext cx="2924280" cy="15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9+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10" name="AutoShape 13">
            <a:hlinkClick r:id="" action="ppaction://hlinkshowjump?jump=nextslide"/>
            <a:hlinkClick r:id="rId3"/>
          </p:cNvPr>
          <p:cNvSpPr/>
          <p:nvPr/>
        </p:nvSpPr>
        <p:spPr>
          <a:xfrm>
            <a:off x="2894040" y="4587840"/>
            <a:ext cx="1844640" cy="598680"/>
          </a:xfrm>
          <a:custGeom>
            <a:avLst/>
            <a:gdLst>
              <a:gd name="textAreaLeft" fmla="*/ 38520 w 1844640"/>
              <a:gd name="textAreaRight" fmla="*/ 1806120 w 1844640"/>
              <a:gd name="textAreaTop" fmla="*/ 38520 h 598680"/>
              <a:gd name="textAreaBottom" fmla="*/ 560160 h 598680"/>
            </a:gdLst>
            <a:ahLst/>
            <a:rect l="textAreaLeft" t="textAreaTop" r="textAreaRight" b="textAreaBottom"/>
            <a:pathLst>
              <a:path w="66526" h="21600">
                <a:moveTo>
                  <a:pt x="0" y="0"/>
                </a:moveTo>
                <a:lnTo>
                  <a:pt x="66526" y="0"/>
                </a:lnTo>
                <a:lnTo>
                  <a:pt x="66526" y="21600"/>
                </a:lnTo>
                <a:lnTo>
                  <a:pt x="0" y="21600"/>
                </a:lnTo>
                <a:close/>
              </a:path>
              <a:path fill="lightenLess" w="66526" h="21600">
                <a:moveTo>
                  <a:pt x="0" y="0"/>
                </a:moveTo>
                <a:lnTo>
                  <a:pt x="66526" y="0"/>
                </a:lnTo>
                <a:lnTo>
                  <a:pt x="65126" y="1400"/>
                </a:lnTo>
                <a:lnTo>
                  <a:pt x="1400" y="1400"/>
                </a:lnTo>
                <a:close/>
              </a:path>
              <a:path fill="darken" w="66526" h="21600">
                <a:moveTo>
                  <a:pt x="66526" y="0"/>
                </a:moveTo>
                <a:lnTo>
                  <a:pt x="66526" y="21600"/>
                </a:lnTo>
                <a:lnTo>
                  <a:pt x="65126" y="20200"/>
                </a:lnTo>
                <a:lnTo>
                  <a:pt x="65126" y="1400"/>
                </a:lnTo>
                <a:close/>
              </a:path>
              <a:path fill="darkenLess" w="66526" h="21600">
                <a:moveTo>
                  <a:pt x="66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126" y="20200"/>
                </a:lnTo>
                <a:close/>
              </a:path>
              <a:path fill="lighten" w="66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526" h="21600">
                <a:moveTo>
                  <a:pt x="26257" y="3794"/>
                </a:moveTo>
                <a:lnTo>
                  <a:pt x="40270" y="10800"/>
                </a:lnTo>
                <a:lnTo>
                  <a:pt x="26257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AutoShape 17">
            <a:hlinkClick r:id="rId4" action="ppaction://hlinksldjump"/>
          </p:cNvPr>
          <p:cNvSpPr/>
          <p:nvPr/>
        </p:nvSpPr>
        <p:spPr>
          <a:xfrm>
            <a:off x="2928960" y="3259080"/>
            <a:ext cx="1979640" cy="719280"/>
          </a:xfrm>
          <a:custGeom>
            <a:avLst/>
            <a:gdLst>
              <a:gd name="textAreaLeft" fmla="*/ 46440 w 1979640"/>
              <a:gd name="textAreaRight" fmla="*/ 1933200 w 1979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59430" h="21600">
                <a:moveTo>
                  <a:pt x="0" y="0"/>
                </a:moveTo>
                <a:lnTo>
                  <a:pt x="59430" y="0"/>
                </a:lnTo>
                <a:lnTo>
                  <a:pt x="59430" y="21600"/>
                </a:lnTo>
                <a:lnTo>
                  <a:pt x="0" y="21600"/>
                </a:lnTo>
                <a:close/>
              </a:path>
              <a:path fill="lightenLess" w="59430" h="21600">
                <a:moveTo>
                  <a:pt x="0" y="0"/>
                </a:moveTo>
                <a:lnTo>
                  <a:pt x="59430" y="0"/>
                </a:lnTo>
                <a:lnTo>
                  <a:pt x="58030" y="1400"/>
                </a:lnTo>
                <a:lnTo>
                  <a:pt x="1400" y="1400"/>
                </a:lnTo>
                <a:close/>
              </a:path>
              <a:path fill="darken" w="59430" h="21600">
                <a:moveTo>
                  <a:pt x="59430" y="0"/>
                </a:moveTo>
                <a:lnTo>
                  <a:pt x="59430" y="21600"/>
                </a:lnTo>
                <a:lnTo>
                  <a:pt x="58030" y="20200"/>
                </a:lnTo>
                <a:lnTo>
                  <a:pt x="58030" y="1400"/>
                </a:lnTo>
                <a:close/>
              </a:path>
              <a:path fill="darkenLess" w="59430" h="21600">
                <a:moveTo>
                  <a:pt x="5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30" y="20200"/>
                </a:lnTo>
                <a:close/>
              </a:path>
              <a:path fill="lighten" w="5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430" h="21600">
                <a:moveTo>
                  <a:pt x="22708" y="3794"/>
                </a:moveTo>
                <a:lnTo>
                  <a:pt x="36721" y="10800"/>
                </a:lnTo>
                <a:lnTo>
                  <a:pt x="22708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WordArt 18"/>
          <p:cNvSpPr txBox="1"/>
          <p:nvPr/>
        </p:nvSpPr>
        <p:spPr>
          <a:xfrm>
            <a:off x="5378400" y="4467240"/>
            <a:ext cx="652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3" name="WordArt 19"/>
          <p:cNvSpPr txBox="1"/>
          <p:nvPr/>
        </p:nvSpPr>
        <p:spPr>
          <a:xfrm>
            <a:off x="5437080" y="3205080"/>
            <a:ext cx="682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2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7" name="Picture 3" descr="Рисунок5"/>
          <p:cNvPicPr/>
          <p:nvPr/>
        </p:nvPicPr>
        <p:blipFill>
          <a:blip r:embed="rId1"/>
          <a:stretch/>
        </p:blipFill>
        <p:spPr>
          <a:xfrm>
            <a:off x="303120" y="1517760"/>
            <a:ext cx="2932200" cy="3644640"/>
          </a:xfrm>
          <a:prstGeom prst="rect">
            <a:avLst/>
          </a:prstGeom>
          <a:ln w="0">
            <a:noFill/>
          </a:ln>
        </p:spPr>
      </p:pic>
      <p:pic>
        <p:nvPicPr>
          <p:cNvPr id="1388" name="Picture 4" descr="Рисунок3"/>
          <p:cNvPicPr/>
          <p:nvPr/>
        </p:nvPicPr>
        <p:blipFill>
          <a:blip r:embed="rId2"/>
          <a:stretch/>
        </p:blipFill>
        <p:spPr>
          <a:xfrm>
            <a:off x="6815160" y="1514520"/>
            <a:ext cx="2328840" cy="3438360"/>
          </a:xfrm>
          <a:prstGeom prst="rect">
            <a:avLst/>
          </a:prstGeom>
          <a:ln w="0">
            <a:noFill/>
          </a:ln>
        </p:spPr>
      </p:pic>
      <p:sp>
        <p:nvSpPr>
          <p:cNvPr id="1389" name="WordArt 5"/>
          <p:cNvSpPr txBox="1"/>
          <p:nvPr/>
        </p:nvSpPr>
        <p:spPr>
          <a:xfrm>
            <a:off x="685800" y="152280"/>
            <a:ext cx="6870600" cy="16002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и приме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0" name="WordArt 6"/>
          <p:cNvSpPr txBox="1"/>
          <p:nvPr/>
        </p:nvSpPr>
        <p:spPr>
          <a:xfrm>
            <a:off x="3325680" y="2085840"/>
            <a:ext cx="1590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5+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91" name="AutoShape 7">
            <a:hlinkClick r:id="" action="ppaction://hlinkshowjump?jump=nextslide"/>
            <a:hlinkClick r:id="rId3"/>
          </p:cNvPr>
          <p:cNvSpPr/>
          <p:nvPr/>
        </p:nvSpPr>
        <p:spPr>
          <a:xfrm>
            <a:off x="3071880" y="4543560"/>
            <a:ext cx="1724040" cy="509400"/>
          </a:xfrm>
          <a:custGeom>
            <a:avLst/>
            <a:gdLst>
              <a:gd name="textAreaLeft" fmla="*/ 32760 w 1724040"/>
              <a:gd name="textAreaRight" fmla="*/ 1691280 w 172404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73068" h="21600">
                <a:moveTo>
                  <a:pt x="0" y="0"/>
                </a:moveTo>
                <a:lnTo>
                  <a:pt x="73068" y="0"/>
                </a:lnTo>
                <a:lnTo>
                  <a:pt x="73068" y="21600"/>
                </a:lnTo>
                <a:lnTo>
                  <a:pt x="0" y="21600"/>
                </a:lnTo>
                <a:close/>
              </a:path>
              <a:path fill="lightenLess" w="73068" h="21600">
                <a:moveTo>
                  <a:pt x="0" y="0"/>
                </a:moveTo>
                <a:lnTo>
                  <a:pt x="73068" y="0"/>
                </a:lnTo>
                <a:lnTo>
                  <a:pt x="71668" y="1400"/>
                </a:lnTo>
                <a:lnTo>
                  <a:pt x="1400" y="1400"/>
                </a:lnTo>
                <a:close/>
              </a:path>
              <a:path fill="darken" w="73068" h="21600">
                <a:moveTo>
                  <a:pt x="73068" y="0"/>
                </a:moveTo>
                <a:lnTo>
                  <a:pt x="73068" y="21600"/>
                </a:lnTo>
                <a:lnTo>
                  <a:pt x="71668" y="20200"/>
                </a:lnTo>
                <a:lnTo>
                  <a:pt x="71668" y="1400"/>
                </a:lnTo>
                <a:close/>
              </a:path>
              <a:path fill="darkenLess" w="73068" h="21600">
                <a:moveTo>
                  <a:pt x="73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668" y="20200"/>
                </a:lnTo>
                <a:close/>
              </a:path>
              <a:path fill="lighten" w="73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068" h="21600">
                <a:moveTo>
                  <a:pt x="29527" y="3794"/>
                </a:moveTo>
                <a:lnTo>
                  <a:pt x="43540" y="10800"/>
                </a:lnTo>
                <a:lnTo>
                  <a:pt x="29527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AutoShape 8">
            <a:hlinkClick r:id="rId4"/>
          </p:cNvPr>
          <p:cNvSpPr/>
          <p:nvPr/>
        </p:nvSpPr>
        <p:spPr>
          <a:xfrm>
            <a:off x="3089160" y="3357720"/>
            <a:ext cx="1724040" cy="509400"/>
          </a:xfrm>
          <a:custGeom>
            <a:avLst/>
            <a:gdLst>
              <a:gd name="textAreaLeft" fmla="*/ 32760 w 1724040"/>
              <a:gd name="textAreaRight" fmla="*/ 1691280 w 172404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73068" h="21600">
                <a:moveTo>
                  <a:pt x="0" y="0"/>
                </a:moveTo>
                <a:lnTo>
                  <a:pt x="73068" y="0"/>
                </a:lnTo>
                <a:lnTo>
                  <a:pt x="73068" y="21600"/>
                </a:lnTo>
                <a:lnTo>
                  <a:pt x="0" y="21600"/>
                </a:lnTo>
                <a:close/>
              </a:path>
              <a:path fill="lightenLess" w="73068" h="21600">
                <a:moveTo>
                  <a:pt x="0" y="0"/>
                </a:moveTo>
                <a:lnTo>
                  <a:pt x="73068" y="0"/>
                </a:lnTo>
                <a:lnTo>
                  <a:pt x="71668" y="1400"/>
                </a:lnTo>
                <a:lnTo>
                  <a:pt x="1400" y="1400"/>
                </a:lnTo>
                <a:close/>
              </a:path>
              <a:path fill="darken" w="73068" h="21600">
                <a:moveTo>
                  <a:pt x="73068" y="0"/>
                </a:moveTo>
                <a:lnTo>
                  <a:pt x="73068" y="21600"/>
                </a:lnTo>
                <a:lnTo>
                  <a:pt x="71668" y="20200"/>
                </a:lnTo>
                <a:lnTo>
                  <a:pt x="71668" y="1400"/>
                </a:lnTo>
                <a:close/>
              </a:path>
              <a:path fill="darkenLess" w="73068" h="21600">
                <a:moveTo>
                  <a:pt x="73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668" y="20200"/>
                </a:lnTo>
                <a:close/>
              </a:path>
              <a:path fill="lighten" w="73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068" h="21600">
                <a:moveTo>
                  <a:pt x="29527" y="3794"/>
                </a:moveTo>
                <a:lnTo>
                  <a:pt x="43540" y="10800"/>
                </a:lnTo>
                <a:lnTo>
                  <a:pt x="29527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WordArt 9"/>
          <p:cNvSpPr txBox="1"/>
          <p:nvPr/>
        </p:nvSpPr>
        <p:spPr>
          <a:xfrm>
            <a:off x="5396040" y="3235320"/>
            <a:ext cx="419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4" name="WordArt 10"/>
          <p:cNvSpPr txBox="1"/>
          <p:nvPr/>
        </p:nvSpPr>
        <p:spPr>
          <a:xfrm>
            <a:off x="5754600" y="4495680"/>
            <a:ext cx="561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WordArt 4"/>
          <p:cNvSpPr txBox="1"/>
          <p:nvPr/>
        </p:nvSpPr>
        <p:spPr>
          <a:xfrm>
            <a:off x="1946160" y="2711520"/>
            <a:ext cx="5626080" cy="26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5" name="WordArt 3"/>
          <p:cNvSpPr txBox="1"/>
          <p:nvPr/>
        </p:nvSpPr>
        <p:spPr>
          <a:xfrm>
            <a:off x="1612800" y="266760"/>
            <a:ext cx="5870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и приме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6" name="Picture 4" descr="Рисунок4"/>
          <p:cNvPicPr/>
          <p:nvPr/>
        </p:nvPicPr>
        <p:blipFill>
          <a:blip r:embed="rId1"/>
          <a:stretch/>
        </p:blipFill>
        <p:spPr>
          <a:xfrm>
            <a:off x="6413400" y="1330200"/>
            <a:ext cx="2401920" cy="335916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5" descr="Рисунок3"/>
          <p:cNvPicPr/>
          <p:nvPr/>
        </p:nvPicPr>
        <p:blipFill>
          <a:blip r:embed="rId2"/>
          <a:stretch/>
        </p:blipFill>
        <p:spPr>
          <a:xfrm>
            <a:off x="514440" y="1095480"/>
            <a:ext cx="2328840" cy="3438360"/>
          </a:xfrm>
          <a:prstGeom prst="rect">
            <a:avLst/>
          </a:prstGeom>
          <a:ln w="0">
            <a:noFill/>
          </a:ln>
        </p:spPr>
      </p:pic>
      <p:sp>
        <p:nvSpPr>
          <p:cNvPr id="1318" name="WordArt 6"/>
          <p:cNvSpPr txBox="1"/>
          <p:nvPr/>
        </p:nvSpPr>
        <p:spPr>
          <a:xfrm>
            <a:off x="2878200" y="1160640"/>
            <a:ext cx="2924280" cy="15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3+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19" name="AutoShape 7">
            <a:hlinkClick r:id="" action="ppaction://hlinkshowjump?jump=nextslide"/>
            <a:hlinkClick r:id="rId3"/>
          </p:cNvPr>
          <p:cNvSpPr/>
          <p:nvPr/>
        </p:nvSpPr>
        <p:spPr>
          <a:xfrm>
            <a:off x="2787480" y="3598920"/>
            <a:ext cx="1874880" cy="584280"/>
          </a:xfrm>
          <a:custGeom>
            <a:avLst/>
            <a:gdLst>
              <a:gd name="textAreaLeft" fmla="*/ 37800 w 1874880"/>
              <a:gd name="textAreaRight" fmla="*/ 1837080 w 1874880"/>
              <a:gd name="textAreaTop" fmla="*/ 37800 h 584280"/>
              <a:gd name="textAreaBottom" fmla="*/ 546480 h 584280"/>
            </a:gdLst>
            <a:ahLst/>
            <a:rect l="textAreaLeft" t="textAreaTop" r="textAreaRight" b="textAreaBottom"/>
            <a:pathLst>
              <a:path w="69282" h="21600">
                <a:moveTo>
                  <a:pt x="0" y="0"/>
                </a:moveTo>
                <a:lnTo>
                  <a:pt x="69282" y="0"/>
                </a:lnTo>
                <a:lnTo>
                  <a:pt x="69282" y="21600"/>
                </a:lnTo>
                <a:lnTo>
                  <a:pt x="0" y="21600"/>
                </a:lnTo>
                <a:close/>
              </a:path>
              <a:path fill="lightenLess" w="69282" h="21600">
                <a:moveTo>
                  <a:pt x="0" y="0"/>
                </a:moveTo>
                <a:lnTo>
                  <a:pt x="69282" y="0"/>
                </a:lnTo>
                <a:lnTo>
                  <a:pt x="67882" y="1400"/>
                </a:lnTo>
                <a:lnTo>
                  <a:pt x="1400" y="1400"/>
                </a:lnTo>
                <a:close/>
              </a:path>
              <a:path fill="darken" w="69282" h="21600">
                <a:moveTo>
                  <a:pt x="69282" y="0"/>
                </a:moveTo>
                <a:lnTo>
                  <a:pt x="69282" y="21600"/>
                </a:lnTo>
                <a:lnTo>
                  <a:pt x="67882" y="20200"/>
                </a:lnTo>
                <a:lnTo>
                  <a:pt x="67882" y="1400"/>
                </a:lnTo>
                <a:close/>
              </a:path>
              <a:path fill="darkenLess" w="69282" h="21600">
                <a:moveTo>
                  <a:pt x="692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882" y="20200"/>
                </a:lnTo>
                <a:close/>
              </a:path>
              <a:path fill="lighten" w="692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282" h="21600">
                <a:moveTo>
                  <a:pt x="27635" y="3794"/>
                </a:moveTo>
                <a:lnTo>
                  <a:pt x="41648" y="10800"/>
                </a:lnTo>
                <a:lnTo>
                  <a:pt x="27635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AutoShape 8">
            <a:hlinkClick r:id="rId4" action="ppaction://hlinksldjump"/>
          </p:cNvPr>
          <p:cNvSpPr/>
          <p:nvPr/>
        </p:nvSpPr>
        <p:spPr>
          <a:xfrm>
            <a:off x="2765520" y="4638600"/>
            <a:ext cx="1979640" cy="719280"/>
          </a:xfrm>
          <a:custGeom>
            <a:avLst/>
            <a:gdLst>
              <a:gd name="textAreaLeft" fmla="*/ 46440 w 1979640"/>
              <a:gd name="textAreaRight" fmla="*/ 1933200 w 1979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59430" h="21600">
                <a:moveTo>
                  <a:pt x="0" y="0"/>
                </a:moveTo>
                <a:lnTo>
                  <a:pt x="59430" y="0"/>
                </a:lnTo>
                <a:lnTo>
                  <a:pt x="59430" y="21600"/>
                </a:lnTo>
                <a:lnTo>
                  <a:pt x="0" y="21600"/>
                </a:lnTo>
                <a:close/>
              </a:path>
              <a:path fill="lightenLess" w="59430" h="21600">
                <a:moveTo>
                  <a:pt x="0" y="0"/>
                </a:moveTo>
                <a:lnTo>
                  <a:pt x="59430" y="0"/>
                </a:lnTo>
                <a:lnTo>
                  <a:pt x="58030" y="1400"/>
                </a:lnTo>
                <a:lnTo>
                  <a:pt x="1400" y="1400"/>
                </a:lnTo>
                <a:close/>
              </a:path>
              <a:path fill="darken" w="59430" h="21600">
                <a:moveTo>
                  <a:pt x="59430" y="0"/>
                </a:moveTo>
                <a:lnTo>
                  <a:pt x="59430" y="21600"/>
                </a:lnTo>
                <a:lnTo>
                  <a:pt x="58030" y="20200"/>
                </a:lnTo>
                <a:lnTo>
                  <a:pt x="58030" y="1400"/>
                </a:lnTo>
                <a:close/>
              </a:path>
              <a:path fill="darkenLess" w="59430" h="21600">
                <a:moveTo>
                  <a:pt x="5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30" y="20200"/>
                </a:lnTo>
                <a:close/>
              </a:path>
              <a:path fill="lighten" w="5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430" h="21600">
                <a:moveTo>
                  <a:pt x="22708" y="3794"/>
                </a:moveTo>
                <a:lnTo>
                  <a:pt x="36721" y="10800"/>
                </a:lnTo>
                <a:lnTo>
                  <a:pt x="22708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WordArt 9"/>
          <p:cNvSpPr txBox="1"/>
          <p:nvPr/>
        </p:nvSpPr>
        <p:spPr>
          <a:xfrm>
            <a:off x="5902200" y="350676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2" name="WordArt 10"/>
          <p:cNvSpPr txBox="1"/>
          <p:nvPr/>
        </p:nvSpPr>
        <p:spPr>
          <a:xfrm>
            <a:off x="5872320" y="4614840"/>
            <a:ext cx="247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4" name="WordArt 3"/>
          <p:cNvSpPr txBox="1"/>
          <p:nvPr/>
        </p:nvSpPr>
        <p:spPr>
          <a:xfrm>
            <a:off x="1612800" y="266760"/>
            <a:ext cx="5870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и приме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5" name="Picture 4" descr="Рисунок4"/>
          <p:cNvPicPr/>
          <p:nvPr/>
        </p:nvPicPr>
        <p:blipFill>
          <a:blip r:embed="rId1"/>
          <a:stretch/>
        </p:blipFill>
        <p:spPr>
          <a:xfrm>
            <a:off x="6413400" y="1330200"/>
            <a:ext cx="2401920" cy="3359160"/>
          </a:xfrm>
          <a:prstGeom prst="rect">
            <a:avLst/>
          </a:prstGeom>
          <a:ln w="0">
            <a:noFill/>
          </a:ln>
        </p:spPr>
      </p:pic>
      <p:pic>
        <p:nvPicPr>
          <p:cNvPr id="1326" name="Picture 5" descr="Рисунок3"/>
          <p:cNvPicPr/>
          <p:nvPr/>
        </p:nvPicPr>
        <p:blipFill>
          <a:blip r:embed="rId2"/>
          <a:stretch/>
        </p:blipFill>
        <p:spPr>
          <a:xfrm>
            <a:off x="514440" y="1095480"/>
            <a:ext cx="2328840" cy="3438360"/>
          </a:xfrm>
          <a:prstGeom prst="rect">
            <a:avLst/>
          </a:prstGeom>
          <a:ln w="0">
            <a:noFill/>
          </a:ln>
        </p:spPr>
      </p:pic>
      <p:sp>
        <p:nvSpPr>
          <p:cNvPr id="1327" name="WordArt 6"/>
          <p:cNvSpPr txBox="1"/>
          <p:nvPr/>
        </p:nvSpPr>
        <p:spPr>
          <a:xfrm>
            <a:off x="2878200" y="1160640"/>
            <a:ext cx="2924280" cy="15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10-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28" name="AutoShape 7">
            <a:hlinkClick r:id="rId3" action="ppaction://hlinksldjump"/>
          </p:cNvPr>
          <p:cNvSpPr/>
          <p:nvPr/>
        </p:nvSpPr>
        <p:spPr>
          <a:xfrm>
            <a:off x="2787480" y="3463920"/>
            <a:ext cx="1979640" cy="719280"/>
          </a:xfrm>
          <a:custGeom>
            <a:avLst/>
            <a:gdLst>
              <a:gd name="textAreaLeft" fmla="*/ 46440 w 1979640"/>
              <a:gd name="textAreaRight" fmla="*/ 1933200 w 1979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59430" h="21600">
                <a:moveTo>
                  <a:pt x="0" y="0"/>
                </a:moveTo>
                <a:lnTo>
                  <a:pt x="59430" y="0"/>
                </a:lnTo>
                <a:lnTo>
                  <a:pt x="59430" y="21600"/>
                </a:lnTo>
                <a:lnTo>
                  <a:pt x="0" y="21600"/>
                </a:lnTo>
                <a:close/>
              </a:path>
              <a:path fill="lightenLess" w="59430" h="21600">
                <a:moveTo>
                  <a:pt x="0" y="0"/>
                </a:moveTo>
                <a:lnTo>
                  <a:pt x="59430" y="0"/>
                </a:lnTo>
                <a:lnTo>
                  <a:pt x="58030" y="1400"/>
                </a:lnTo>
                <a:lnTo>
                  <a:pt x="1400" y="1400"/>
                </a:lnTo>
                <a:close/>
              </a:path>
              <a:path fill="darken" w="59430" h="21600">
                <a:moveTo>
                  <a:pt x="59430" y="0"/>
                </a:moveTo>
                <a:lnTo>
                  <a:pt x="59430" y="21600"/>
                </a:lnTo>
                <a:lnTo>
                  <a:pt x="58030" y="20200"/>
                </a:lnTo>
                <a:lnTo>
                  <a:pt x="58030" y="1400"/>
                </a:lnTo>
                <a:close/>
              </a:path>
              <a:path fill="darkenLess" w="59430" h="21600">
                <a:moveTo>
                  <a:pt x="5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30" y="20200"/>
                </a:lnTo>
                <a:close/>
              </a:path>
              <a:path fill="lighten" w="5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430" h="21600">
                <a:moveTo>
                  <a:pt x="22708" y="3794"/>
                </a:moveTo>
                <a:lnTo>
                  <a:pt x="36721" y="10800"/>
                </a:lnTo>
                <a:lnTo>
                  <a:pt x="22708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AutoShape 8">
            <a:hlinkClick r:id="" action="ppaction://hlinkshowjump?jump=nextslide"/>
            <a:hlinkClick r:id="rId4"/>
          </p:cNvPr>
          <p:cNvSpPr/>
          <p:nvPr/>
        </p:nvSpPr>
        <p:spPr>
          <a:xfrm>
            <a:off x="2765520" y="4638600"/>
            <a:ext cx="1979640" cy="719280"/>
          </a:xfrm>
          <a:custGeom>
            <a:avLst/>
            <a:gdLst>
              <a:gd name="textAreaLeft" fmla="*/ 46440 w 1979640"/>
              <a:gd name="textAreaRight" fmla="*/ 1933200 w 1979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59430" h="21600">
                <a:moveTo>
                  <a:pt x="0" y="0"/>
                </a:moveTo>
                <a:lnTo>
                  <a:pt x="59430" y="0"/>
                </a:lnTo>
                <a:lnTo>
                  <a:pt x="59430" y="21600"/>
                </a:lnTo>
                <a:lnTo>
                  <a:pt x="0" y="21600"/>
                </a:lnTo>
                <a:close/>
              </a:path>
              <a:path fill="lightenLess" w="59430" h="21600">
                <a:moveTo>
                  <a:pt x="0" y="0"/>
                </a:moveTo>
                <a:lnTo>
                  <a:pt x="59430" y="0"/>
                </a:lnTo>
                <a:lnTo>
                  <a:pt x="58030" y="1400"/>
                </a:lnTo>
                <a:lnTo>
                  <a:pt x="1400" y="1400"/>
                </a:lnTo>
                <a:close/>
              </a:path>
              <a:path fill="darken" w="59430" h="21600">
                <a:moveTo>
                  <a:pt x="59430" y="0"/>
                </a:moveTo>
                <a:lnTo>
                  <a:pt x="59430" y="21600"/>
                </a:lnTo>
                <a:lnTo>
                  <a:pt x="58030" y="20200"/>
                </a:lnTo>
                <a:lnTo>
                  <a:pt x="58030" y="1400"/>
                </a:lnTo>
                <a:close/>
              </a:path>
              <a:path fill="darkenLess" w="59430" h="21600">
                <a:moveTo>
                  <a:pt x="5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30" y="20200"/>
                </a:lnTo>
                <a:close/>
              </a:path>
              <a:path fill="lighten" w="5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430" h="21600">
                <a:moveTo>
                  <a:pt x="22708" y="3794"/>
                </a:moveTo>
                <a:lnTo>
                  <a:pt x="36721" y="10800"/>
                </a:lnTo>
                <a:lnTo>
                  <a:pt x="22708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WordArt 9"/>
          <p:cNvSpPr txBox="1"/>
          <p:nvPr/>
        </p:nvSpPr>
        <p:spPr>
          <a:xfrm>
            <a:off x="5902200" y="350676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1" name="WordArt 10"/>
          <p:cNvSpPr txBox="1"/>
          <p:nvPr/>
        </p:nvSpPr>
        <p:spPr>
          <a:xfrm>
            <a:off x="5872320" y="4614840"/>
            <a:ext cx="247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3" name="WordArt 3"/>
          <p:cNvSpPr txBox="1"/>
          <p:nvPr/>
        </p:nvSpPr>
        <p:spPr>
          <a:xfrm>
            <a:off x="1612800" y="266760"/>
            <a:ext cx="5870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и приме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4" name="Picture 4" descr="Рисунок4"/>
          <p:cNvPicPr/>
          <p:nvPr/>
        </p:nvPicPr>
        <p:blipFill>
          <a:blip r:embed="rId1"/>
          <a:stretch/>
        </p:blipFill>
        <p:spPr>
          <a:xfrm>
            <a:off x="6413400" y="1330200"/>
            <a:ext cx="2401920" cy="3359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5" descr="Рисунок3"/>
          <p:cNvPicPr/>
          <p:nvPr/>
        </p:nvPicPr>
        <p:blipFill>
          <a:blip r:embed="rId2"/>
          <a:stretch/>
        </p:blipFill>
        <p:spPr>
          <a:xfrm>
            <a:off x="514440" y="1095480"/>
            <a:ext cx="2328840" cy="3438360"/>
          </a:xfrm>
          <a:prstGeom prst="rect">
            <a:avLst/>
          </a:prstGeom>
          <a:ln w="0">
            <a:noFill/>
          </a:ln>
        </p:spPr>
      </p:pic>
      <p:sp>
        <p:nvSpPr>
          <p:cNvPr id="1336" name="WordArt 6"/>
          <p:cNvSpPr txBox="1"/>
          <p:nvPr/>
        </p:nvSpPr>
        <p:spPr>
          <a:xfrm>
            <a:off x="2878200" y="1160640"/>
            <a:ext cx="2924280" cy="15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9-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37" name="AutoShape 7">
            <a:hlinkClick r:id="" action="ppaction://hlinkshowjump?jump=nextslide"/>
            <a:hlinkClick r:id="rId3"/>
          </p:cNvPr>
          <p:cNvSpPr/>
          <p:nvPr/>
        </p:nvSpPr>
        <p:spPr>
          <a:xfrm>
            <a:off x="2787480" y="3643200"/>
            <a:ext cx="1935360" cy="540000"/>
          </a:xfrm>
          <a:custGeom>
            <a:avLst/>
            <a:gdLst>
              <a:gd name="textAreaLeft" fmla="*/ 34920 w 1935360"/>
              <a:gd name="textAreaRight" fmla="*/ 1900440 w 1935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77377" h="21600">
                <a:moveTo>
                  <a:pt x="0" y="0"/>
                </a:moveTo>
                <a:lnTo>
                  <a:pt x="77377" y="0"/>
                </a:lnTo>
                <a:lnTo>
                  <a:pt x="77377" y="21600"/>
                </a:lnTo>
                <a:lnTo>
                  <a:pt x="0" y="21600"/>
                </a:lnTo>
                <a:close/>
              </a:path>
              <a:path fill="lightenLess" w="77377" h="21600">
                <a:moveTo>
                  <a:pt x="0" y="0"/>
                </a:moveTo>
                <a:lnTo>
                  <a:pt x="77377" y="0"/>
                </a:lnTo>
                <a:lnTo>
                  <a:pt x="75977" y="1400"/>
                </a:lnTo>
                <a:lnTo>
                  <a:pt x="1400" y="1400"/>
                </a:lnTo>
                <a:close/>
              </a:path>
              <a:path fill="darken" w="77377" h="21600">
                <a:moveTo>
                  <a:pt x="77377" y="0"/>
                </a:moveTo>
                <a:lnTo>
                  <a:pt x="77377" y="21600"/>
                </a:lnTo>
                <a:lnTo>
                  <a:pt x="75977" y="20200"/>
                </a:lnTo>
                <a:lnTo>
                  <a:pt x="75977" y="1400"/>
                </a:lnTo>
                <a:close/>
              </a:path>
              <a:path fill="darkenLess" w="77377" h="21600">
                <a:moveTo>
                  <a:pt x="77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977" y="20200"/>
                </a:lnTo>
                <a:close/>
              </a:path>
              <a:path fill="lighten" w="77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377" h="21600">
                <a:moveTo>
                  <a:pt x="31682" y="3794"/>
                </a:moveTo>
                <a:lnTo>
                  <a:pt x="45695" y="10800"/>
                </a:lnTo>
                <a:lnTo>
                  <a:pt x="31682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AutoShape 8">
            <a:hlinkClick r:id="rId4"/>
          </p:cNvPr>
          <p:cNvSpPr/>
          <p:nvPr/>
        </p:nvSpPr>
        <p:spPr>
          <a:xfrm>
            <a:off x="2765520" y="4638600"/>
            <a:ext cx="1979640" cy="719280"/>
          </a:xfrm>
          <a:custGeom>
            <a:avLst/>
            <a:gdLst>
              <a:gd name="textAreaLeft" fmla="*/ 46440 w 1979640"/>
              <a:gd name="textAreaRight" fmla="*/ 1933200 w 1979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59430" h="21600">
                <a:moveTo>
                  <a:pt x="0" y="0"/>
                </a:moveTo>
                <a:lnTo>
                  <a:pt x="59430" y="0"/>
                </a:lnTo>
                <a:lnTo>
                  <a:pt x="59430" y="21600"/>
                </a:lnTo>
                <a:lnTo>
                  <a:pt x="0" y="21600"/>
                </a:lnTo>
                <a:close/>
              </a:path>
              <a:path fill="lightenLess" w="59430" h="21600">
                <a:moveTo>
                  <a:pt x="0" y="0"/>
                </a:moveTo>
                <a:lnTo>
                  <a:pt x="59430" y="0"/>
                </a:lnTo>
                <a:lnTo>
                  <a:pt x="58030" y="1400"/>
                </a:lnTo>
                <a:lnTo>
                  <a:pt x="1400" y="1400"/>
                </a:lnTo>
                <a:close/>
              </a:path>
              <a:path fill="darken" w="59430" h="21600">
                <a:moveTo>
                  <a:pt x="59430" y="0"/>
                </a:moveTo>
                <a:lnTo>
                  <a:pt x="59430" y="21600"/>
                </a:lnTo>
                <a:lnTo>
                  <a:pt x="58030" y="20200"/>
                </a:lnTo>
                <a:lnTo>
                  <a:pt x="58030" y="1400"/>
                </a:lnTo>
                <a:close/>
              </a:path>
              <a:path fill="darkenLess" w="59430" h="21600">
                <a:moveTo>
                  <a:pt x="5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30" y="20200"/>
                </a:lnTo>
                <a:close/>
              </a:path>
              <a:path fill="lighten" w="5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430" h="21600">
                <a:moveTo>
                  <a:pt x="22708" y="3794"/>
                </a:moveTo>
                <a:lnTo>
                  <a:pt x="36721" y="10800"/>
                </a:lnTo>
                <a:lnTo>
                  <a:pt x="22708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WordArt 9"/>
          <p:cNvSpPr txBox="1"/>
          <p:nvPr/>
        </p:nvSpPr>
        <p:spPr>
          <a:xfrm>
            <a:off x="5902200" y="350676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0" name="WordArt 10"/>
          <p:cNvSpPr txBox="1"/>
          <p:nvPr/>
        </p:nvSpPr>
        <p:spPr>
          <a:xfrm>
            <a:off x="5872320" y="4614840"/>
            <a:ext cx="247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2" name="WordArt 3"/>
          <p:cNvSpPr txBox="1"/>
          <p:nvPr/>
        </p:nvSpPr>
        <p:spPr>
          <a:xfrm>
            <a:off x="1612800" y="266760"/>
            <a:ext cx="5870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и приме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3" name="Picture 4" descr="Рисунок4"/>
          <p:cNvPicPr/>
          <p:nvPr/>
        </p:nvPicPr>
        <p:blipFill>
          <a:blip r:embed="rId1"/>
          <a:stretch/>
        </p:blipFill>
        <p:spPr>
          <a:xfrm>
            <a:off x="6413400" y="1330200"/>
            <a:ext cx="2401920" cy="335916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5" descr="Рисунок3"/>
          <p:cNvPicPr/>
          <p:nvPr/>
        </p:nvPicPr>
        <p:blipFill>
          <a:blip r:embed="rId2"/>
          <a:stretch/>
        </p:blipFill>
        <p:spPr>
          <a:xfrm>
            <a:off x="514440" y="1095480"/>
            <a:ext cx="2328840" cy="3438360"/>
          </a:xfrm>
          <a:prstGeom prst="rect">
            <a:avLst/>
          </a:prstGeom>
          <a:ln w="0">
            <a:noFill/>
          </a:ln>
        </p:spPr>
      </p:pic>
      <p:sp>
        <p:nvSpPr>
          <p:cNvPr id="1345" name="WordArt 6"/>
          <p:cNvSpPr txBox="1"/>
          <p:nvPr/>
        </p:nvSpPr>
        <p:spPr>
          <a:xfrm>
            <a:off x="2878200" y="1160640"/>
            <a:ext cx="2924280" cy="15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5+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6" name="AutoShape 7">
            <a:hlinkClick r:id="rId3"/>
          </p:cNvPr>
          <p:cNvSpPr/>
          <p:nvPr/>
        </p:nvSpPr>
        <p:spPr>
          <a:xfrm>
            <a:off x="3236760" y="4753080"/>
            <a:ext cx="1784520" cy="554040"/>
          </a:xfrm>
          <a:custGeom>
            <a:avLst/>
            <a:gdLst>
              <a:gd name="textAreaLeft" fmla="*/ 35640 w 1784520"/>
              <a:gd name="textAreaRight" fmla="*/ 1748880 w 1784520"/>
              <a:gd name="textAreaTop" fmla="*/ 35640 h 554040"/>
              <a:gd name="textAreaBottom" fmla="*/ 518400 h 554040"/>
            </a:gdLst>
            <a:ahLst/>
            <a:rect l="textAreaLeft" t="textAreaTop" r="textAreaRight" b="textAreaBottom"/>
            <a:pathLst>
              <a:path w="69541" h="21600">
                <a:moveTo>
                  <a:pt x="0" y="0"/>
                </a:moveTo>
                <a:lnTo>
                  <a:pt x="69541" y="0"/>
                </a:lnTo>
                <a:lnTo>
                  <a:pt x="69541" y="21600"/>
                </a:lnTo>
                <a:lnTo>
                  <a:pt x="0" y="21600"/>
                </a:lnTo>
                <a:close/>
              </a:path>
              <a:path fill="lightenLess" w="69541" h="21600">
                <a:moveTo>
                  <a:pt x="0" y="0"/>
                </a:moveTo>
                <a:lnTo>
                  <a:pt x="69541" y="0"/>
                </a:lnTo>
                <a:lnTo>
                  <a:pt x="68141" y="1400"/>
                </a:lnTo>
                <a:lnTo>
                  <a:pt x="1400" y="1400"/>
                </a:lnTo>
                <a:close/>
              </a:path>
              <a:path fill="darken" w="69541" h="21600">
                <a:moveTo>
                  <a:pt x="69541" y="0"/>
                </a:moveTo>
                <a:lnTo>
                  <a:pt x="69541" y="21600"/>
                </a:lnTo>
                <a:lnTo>
                  <a:pt x="68141" y="20200"/>
                </a:lnTo>
                <a:lnTo>
                  <a:pt x="68141" y="1400"/>
                </a:lnTo>
                <a:close/>
              </a:path>
              <a:path fill="darkenLess" w="69541" h="21600">
                <a:moveTo>
                  <a:pt x="69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141" y="20200"/>
                </a:lnTo>
                <a:close/>
              </a:path>
              <a:path fill="lighten" w="69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541" h="21600">
                <a:moveTo>
                  <a:pt x="27764" y="3794"/>
                </a:moveTo>
                <a:lnTo>
                  <a:pt x="41777" y="10800"/>
                </a:lnTo>
                <a:lnTo>
                  <a:pt x="2776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AutoShape 8">
            <a:hlinkClick r:id="" action="ppaction://hlinkshowjump?jump=nextslide"/>
            <a:hlinkClick r:id="rId4"/>
          </p:cNvPr>
          <p:cNvSpPr/>
          <p:nvPr/>
        </p:nvSpPr>
        <p:spPr>
          <a:xfrm>
            <a:off x="3259080" y="3108240"/>
            <a:ext cx="1979640" cy="523800"/>
          </a:xfrm>
          <a:custGeom>
            <a:avLst/>
            <a:gdLst>
              <a:gd name="textAreaLeft" fmla="*/ 33840 w 1979640"/>
              <a:gd name="textAreaRight" fmla="*/ 1945800 w 197964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81593" h="21600">
                <a:moveTo>
                  <a:pt x="0" y="0"/>
                </a:moveTo>
                <a:lnTo>
                  <a:pt x="81593" y="0"/>
                </a:lnTo>
                <a:lnTo>
                  <a:pt x="81593" y="21600"/>
                </a:lnTo>
                <a:lnTo>
                  <a:pt x="0" y="21600"/>
                </a:lnTo>
                <a:close/>
              </a:path>
              <a:path fill="lightenLess" w="81593" h="21600">
                <a:moveTo>
                  <a:pt x="0" y="0"/>
                </a:moveTo>
                <a:lnTo>
                  <a:pt x="81593" y="0"/>
                </a:lnTo>
                <a:lnTo>
                  <a:pt x="80193" y="1400"/>
                </a:lnTo>
                <a:lnTo>
                  <a:pt x="1400" y="1400"/>
                </a:lnTo>
                <a:close/>
              </a:path>
              <a:path fill="darken" w="81593" h="21600">
                <a:moveTo>
                  <a:pt x="81593" y="0"/>
                </a:moveTo>
                <a:lnTo>
                  <a:pt x="81593" y="21600"/>
                </a:lnTo>
                <a:lnTo>
                  <a:pt x="80193" y="20200"/>
                </a:lnTo>
                <a:lnTo>
                  <a:pt x="80193" y="1400"/>
                </a:lnTo>
                <a:close/>
              </a:path>
              <a:path fill="darkenLess" w="81593" h="21600">
                <a:moveTo>
                  <a:pt x="81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193" y="20200"/>
                </a:lnTo>
                <a:close/>
              </a:path>
              <a:path fill="lighten" w="81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593" h="21600">
                <a:moveTo>
                  <a:pt x="33790" y="3794"/>
                </a:moveTo>
                <a:lnTo>
                  <a:pt x="47803" y="10800"/>
                </a:lnTo>
                <a:lnTo>
                  <a:pt x="33790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WordArt 9"/>
          <p:cNvSpPr txBox="1"/>
          <p:nvPr/>
        </p:nvSpPr>
        <p:spPr>
          <a:xfrm>
            <a:off x="5932440" y="4884840"/>
            <a:ext cx="2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9" name="WordArt 10"/>
          <p:cNvSpPr txBox="1"/>
          <p:nvPr/>
        </p:nvSpPr>
        <p:spPr>
          <a:xfrm>
            <a:off x="5691240" y="2995560"/>
            <a:ext cx="546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1" name="WordArt 3"/>
          <p:cNvSpPr txBox="1"/>
          <p:nvPr/>
        </p:nvSpPr>
        <p:spPr>
          <a:xfrm>
            <a:off x="1612800" y="266760"/>
            <a:ext cx="5870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и приме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2" name="Picture 4" descr="Рисунок4"/>
          <p:cNvPicPr/>
          <p:nvPr/>
        </p:nvPicPr>
        <p:blipFill>
          <a:blip r:embed="rId1"/>
          <a:stretch/>
        </p:blipFill>
        <p:spPr>
          <a:xfrm>
            <a:off x="6413400" y="1330200"/>
            <a:ext cx="2401920" cy="3359160"/>
          </a:xfrm>
          <a:prstGeom prst="rect">
            <a:avLst/>
          </a:prstGeom>
          <a:ln w="0">
            <a:noFill/>
          </a:ln>
        </p:spPr>
      </p:pic>
      <p:pic>
        <p:nvPicPr>
          <p:cNvPr id="1353" name="Picture 5" descr="Рисунок3"/>
          <p:cNvPicPr/>
          <p:nvPr/>
        </p:nvPicPr>
        <p:blipFill>
          <a:blip r:embed="rId2"/>
          <a:stretch/>
        </p:blipFill>
        <p:spPr>
          <a:xfrm>
            <a:off x="514440" y="1095480"/>
            <a:ext cx="2328840" cy="3438360"/>
          </a:xfrm>
          <a:prstGeom prst="rect">
            <a:avLst/>
          </a:prstGeom>
          <a:ln w="0">
            <a:noFill/>
          </a:ln>
        </p:spPr>
      </p:pic>
      <p:sp>
        <p:nvSpPr>
          <p:cNvPr id="1354" name="WordArt 6"/>
          <p:cNvSpPr txBox="1"/>
          <p:nvPr/>
        </p:nvSpPr>
        <p:spPr>
          <a:xfrm>
            <a:off x="2878200" y="1160640"/>
            <a:ext cx="2924280" cy="15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5+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55" name="AutoShape 7">
            <a:hlinkClick r:id="" action="ppaction://hlinkshowjump?jump=nextslide"/>
            <a:hlinkClick r:id="rId3"/>
          </p:cNvPr>
          <p:cNvSpPr/>
          <p:nvPr/>
        </p:nvSpPr>
        <p:spPr>
          <a:xfrm>
            <a:off x="2787480" y="3463920"/>
            <a:ext cx="1979640" cy="719280"/>
          </a:xfrm>
          <a:custGeom>
            <a:avLst/>
            <a:gdLst>
              <a:gd name="textAreaLeft" fmla="*/ 46440 w 1979640"/>
              <a:gd name="textAreaRight" fmla="*/ 1933200 w 1979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59430" h="21600">
                <a:moveTo>
                  <a:pt x="0" y="0"/>
                </a:moveTo>
                <a:lnTo>
                  <a:pt x="59430" y="0"/>
                </a:lnTo>
                <a:lnTo>
                  <a:pt x="59430" y="21600"/>
                </a:lnTo>
                <a:lnTo>
                  <a:pt x="0" y="21600"/>
                </a:lnTo>
                <a:close/>
              </a:path>
              <a:path fill="lightenLess" w="59430" h="21600">
                <a:moveTo>
                  <a:pt x="0" y="0"/>
                </a:moveTo>
                <a:lnTo>
                  <a:pt x="59430" y="0"/>
                </a:lnTo>
                <a:lnTo>
                  <a:pt x="58030" y="1400"/>
                </a:lnTo>
                <a:lnTo>
                  <a:pt x="1400" y="1400"/>
                </a:lnTo>
                <a:close/>
              </a:path>
              <a:path fill="darken" w="59430" h="21600">
                <a:moveTo>
                  <a:pt x="59430" y="0"/>
                </a:moveTo>
                <a:lnTo>
                  <a:pt x="59430" y="21600"/>
                </a:lnTo>
                <a:lnTo>
                  <a:pt x="58030" y="20200"/>
                </a:lnTo>
                <a:lnTo>
                  <a:pt x="58030" y="1400"/>
                </a:lnTo>
                <a:close/>
              </a:path>
              <a:path fill="darkenLess" w="59430" h="21600">
                <a:moveTo>
                  <a:pt x="5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30" y="20200"/>
                </a:lnTo>
                <a:close/>
              </a:path>
              <a:path fill="lighten" w="5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430" h="21600">
                <a:moveTo>
                  <a:pt x="22708" y="3794"/>
                </a:moveTo>
                <a:lnTo>
                  <a:pt x="36721" y="10800"/>
                </a:lnTo>
                <a:lnTo>
                  <a:pt x="22708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AutoShape 8">
            <a:hlinkClick r:id="rId4"/>
          </p:cNvPr>
          <p:cNvSpPr/>
          <p:nvPr/>
        </p:nvSpPr>
        <p:spPr>
          <a:xfrm>
            <a:off x="2765520" y="4638600"/>
            <a:ext cx="1979640" cy="719280"/>
          </a:xfrm>
          <a:custGeom>
            <a:avLst/>
            <a:gdLst>
              <a:gd name="textAreaLeft" fmla="*/ 46440 w 1979640"/>
              <a:gd name="textAreaRight" fmla="*/ 1933200 w 1979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59430" h="21600">
                <a:moveTo>
                  <a:pt x="0" y="0"/>
                </a:moveTo>
                <a:lnTo>
                  <a:pt x="59430" y="0"/>
                </a:lnTo>
                <a:lnTo>
                  <a:pt x="59430" y="21600"/>
                </a:lnTo>
                <a:lnTo>
                  <a:pt x="0" y="21600"/>
                </a:lnTo>
                <a:close/>
              </a:path>
              <a:path fill="lightenLess" w="59430" h="21600">
                <a:moveTo>
                  <a:pt x="0" y="0"/>
                </a:moveTo>
                <a:lnTo>
                  <a:pt x="59430" y="0"/>
                </a:lnTo>
                <a:lnTo>
                  <a:pt x="58030" y="1400"/>
                </a:lnTo>
                <a:lnTo>
                  <a:pt x="1400" y="1400"/>
                </a:lnTo>
                <a:close/>
              </a:path>
              <a:path fill="darken" w="59430" h="21600">
                <a:moveTo>
                  <a:pt x="59430" y="0"/>
                </a:moveTo>
                <a:lnTo>
                  <a:pt x="59430" y="21600"/>
                </a:lnTo>
                <a:lnTo>
                  <a:pt x="58030" y="20200"/>
                </a:lnTo>
                <a:lnTo>
                  <a:pt x="58030" y="1400"/>
                </a:lnTo>
                <a:close/>
              </a:path>
              <a:path fill="darkenLess" w="59430" h="21600">
                <a:moveTo>
                  <a:pt x="5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30" y="20200"/>
                </a:lnTo>
                <a:close/>
              </a:path>
              <a:path fill="lighten" w="5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430" h="21600">
                <a:moveTo>
                  <a:pt x="22708" y="3794"/>
                </a:moveTo>
                <a:lnTo>
                  <a:pt x="36721" y="10800"/>
                </a:lnTo>
                <a:lnTo>
                  <a:pt x="22708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WordArt 9"/>
          <p:cNvSpPr txBox="1"/>
          <p:nvPr/>
        </p:nvSpPr>
        <p:spPr>
          <a:xfrm>
            <a:off x="5902200" y="350676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8" name="WordArt 10"/>
          <p:cNvSpPr txBox="1"/>
          <p:nvPr/>
        </p:nvSpPr>
        <p:spPr>
          <a:xfrm>
            <a:off x="5872320" y="4614840"/>
            <a:ext cx="247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4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0" name="Picture 5" descr="Рисунок5"/>
          <p:cNvPicPr/>
          <p:nvPr/>
        </p:nvPicPr>
        <p:blipFill>
          <a:blip r:embed="rId1"/>
          <a:stretch/>
        </p:blipFill>
        <p:spPr>
          <a:xfrm>
            <a:off x="303120" y="1517760"/>
            <a:ext cx="2932200" cy="3644640"/>
          </a:xfrm>
          <a:prstGeom prst="rect">
            <a:avLst/>
          </a:prstGeom>
          <a:ln w="0">
            <a:noFill/>
          </a:ln>
        </p:spPr>
      </p:pic>
      <p:pic>
        <p:nvPicPr>
          <p:cNvPr id="1361" name="Picture 6" descr="Рисунок3"/>
          <p:cNvPicPr/>
          <p:nvPr/>
        </p:nvPicPr>
        <p:blipFill>
          <a:blip r:embed="rId2"/>
          <a:stretch/>
        </p:blipFill>
        <p:spPr>
          <a:xfrm>
            <a:off x="6815160" y="1514520"/>
            <a:ext cx="2328840" cy="3438360"/>
          </a:xfrm>
          <a:prstGeom prst="rect">
            <a:avLst/>
          </a:prstGeom>
          <a:ln w="0">
            <a:noFill/>
          </a:ln>
        </p:spPr>
      </p:pic>
      <p:sp>
        <p:nvSpPr>
          <p:cNvPr id="1362" name="WordArt 7"/>
          <p:cNvSpPr txBox="1"/>
          <p:nvPr/>
        </p:nvSpPr>
        <p:spPr>
          <a:xfrm>
            <a:off x="685800" y="152280"/>
            <a:ext cx="6870600" cy="16002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и приме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3" name="WordArt 8"/>
          <p:cNvSpPr txBox="1"/>
          <p:nvPr/>
        </p:nvSpPr>
        <p:spPr>
          <a:xfrm>
            <a:off x="3325680" y="2085840"/>
            <a:ext cx="1590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7+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64" name="AutoShape 11">
            <a:hlinkClick r:id="" action="ppaction://hlinkshowjump?jump=nextslide"/>
            <a:hlinkClick r:id="rId3"/>
          </p:cNvPr>
          <p:cNvSpPr/>
          <p:nvPr/>
        </p:nvSpPr>
        <p:spPr>
          <a:xfrm>
            <a:off x="3071880" y="4543560"/>
            <a:ext cx="1724040" cy="509400"/>
          </a:xfrm>
          <a:custGeom>
            <a:avLst/>
            <a:gdLst>
              <a:gd name="textAreaLeft" fmla="*/ 32760 w 1724040"/>
              <a:gd name="textAreaRight" fmla="*/ 1691280 w 172404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73068" h="21600">
                <a:moveTo>
                  <a:pt x="0" y="0"/>
                </a:moveTo>
                <a:lnTo>
                  <a:pt x="73068" y="0"/>
                </a:lnTo>
                <a:lnTo>
                  <a:pt x="73068" y="21600"/>
                </a:lnTo>
                <a:lnTo>
                  <a:pt x="0" y="21600"/>
                </a:lnTo>
                <a:close/>
              </a:path>
              <a:path fill="lightenLess" w="73068" h="21600">
                <a:moveTo>
                  <a:pt x="0" y="0"/>
                </a:moveTo>
                <a:lnTo>
                  <a:pt x="73068" y="0"/>
                </a:lnTo>
                <a:lnTo>
                  <a:pt x="71668" y="1400"/>
                </a:lnTo>
                <a:lnTo>
                  <a:pt x="1400" y="1400"/>
                </a:lnTo>
                <a:close/>
              </a:path>
              <a:path fill="darken" w="73068" h="21600">
                <a:moveTo>
                  <a:pt x="73068" y="0"/>
                </a:moveTo>
                <a:lnTo>
                  <a:pt x="73068" y="21600"/>
                </a:lnTo>
                <a:lnTo>
                  <a:pt x="71668" y="20200"/>
                </a:lnTo>
                <a:lnTo>
                  <a:pt x="71668" y="1400"/>
                </a:lnTo>
                <a:close/>
              </a:path>
              <a:path fill="darkenLess" w="73068" h="21600">
                <a:moveTo>
                  <a:pt x="73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668" y="20200"/>
                </a:lnTo>
                <a:close/>
              </a:path>
              <a:path fill="lighten" w="73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068" h="21600">
                <a:moveTo>
                  <a:pt x="29527" y="3794"/>
                </a:moveTo>
                <a:lnTo>
                  <a:pt x="43540" y="10800"/>
                </a:lnTo>
                <a:lnTo>
                  <a:pt x="29527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AutoShape 12">
            <a:hlinkClick r:id="rId4"/>
          </p:cNvPr>
          <p:cNvSpPr/>
          <p:nvPr/>
        </p:nvSpPr>
        <p:spPr>
          <a:xfrm>
            <a:off x="3089160" y="3357720"/>
            <a:ext cx="1724040" cy="509400"/>
          </a:xfrm>
          <a:custGeom>
            <a:avLst/>
            <a:gdLst>
              <a:gd name="textAreaLeft" fmla="*/ 32760 w 1724040"/>
              <a:gd name="textAreaRight" fmla="*/ 1691280 w 172404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73068" h="21600">
                <a:moveTo>
                  <a:pt x="0" y="0"/>
                </a:moveTo>
                <a:lnTo>
                  <a:pt x="73068" y="0"/>
                </a:lnTo>
                <a:lnTo>
                  <a:pt x="73068" y="21600"/>
                </a:lnTo>
                <a:lnTo>
                  <a:pt x="0" y="21600"/>
                </a:lnTo>
                <a:close/>
              </a:path>
              <a:path fill="lightenLess" w="73068" h="21600">
                <a:moveTo>
                  <a:pt x="0" y="0"/>
                </a:moveTo>
                <a:lnTo>
                  <a:pt x="73068" y="0"/>
                </a:lnTo>
                <a:lnTo>
                  <a:pt x="71668" y="1400"/>
                </a:lnTo>
                <a:lnTo>
                  <a:pt x="1400" y="1400"/>
                </a:lnTo>
                <a:close/>
              </a:path>
              <a:path fill="darken" w="73068" h="21600">
                <a:moveTo>
                  <a:pt x="73068" y="0"/>
                </a:moveTo>
                <a:lnTo>
                  <a:pt x="73068" y="21600"/>
                </a:lnTo>
                <a:lnTo>
                  <a:pt x="71668" y="20200"/>
                </a:lnTo>
                <a:lnTo>
                  <a:pt x="71668" y="1400"/>
                </a:lnTo>
                <a:close/>
              </a:path>
              <a:path fill="darkenLess" w="73068" h="21600">
                <a:moveTo>
                  <a:pt x="73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668" y="20200"/>
                </a:lnTo>
                <a:close/>
              </a:path>
              <a:path fill="lighten" w="73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068" h="21600">
                <a:moveTo>
                  <a:pt x="29527" y="3794"/>
                </a:moveTo>
                <a:lnTo>
                  <a:pt x="43540" y="10800"/>
                </a:lnTo>
                <a:lnTo>
                  <a:pt x="29527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WordArt 13"/>
          <p:cNvSpPr txBox="1"/>
          <p:nvPr/>
        </p:nvSpPr>
        <p:spPr>
          <a:xfrm>
            <a:off x="5396040" y="3235320"/>
            <a:ext cx="419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7" name="WordArt 14"/>
          <p:cNvSpPr txBox="1"/>
          <p:nvPr/>
        </p:nvSpPr>
        <p:spPr>
          <a:xfrm>
            <a:off x="5738760" y="4435560"/>
            <a:ext cx="2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2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9" name="Picture 3" descr="Рисунок5"/>
          <p:cNvPicPr/>
          <p:nvPr/>
        </p:nvPicPr>
        <p:blipFill>
          <a:blip r:embed="rId1"/>
          <a:stretch/>
        </p:blipFill>
        <p:spPr>
          <a:xfrm>
            <a:off x="303120" y="1517760"/>
            <a:ext cx="2932200" cy="3644640"/>
          </a:xfrm>
          <a:prstGeom prst="rect">
            <a:avLst/>
          </a:prstGeom>
          <a:ln w="0">
            <a:noFill/>
          </a:ln>
        </p:spPr>
      </p:pic>
      <p:pic>
        <p:nvPicPr>
          <p:cNvPr id="1370" name="Picture 4" descr="Рисунок3"/>
          <p:cNvPicPr/>
          <p:nvPr/>
        </p:nvPicPr>
        <p:blipFill>
          <a:blip r:embed="rId2"/>
          <a:stretch/>
        </p:blipFill>
        <p:spPr>
          <a:xfrm>
            <a:off x="6815160" y="1514520"/>
            <a:ext cx="2328840" cy="3438360"/>
          </a:xfrm>
          <a:prstGeom prst="rect">
            <a:avLst/>
          </a:prstGeom>
          <a:ln w="0">
            <a:noFill/>
          </a:ln>
        </p:spPr>
      </p:pic>
      <p:sp>
        <p:nvSpPr>
          <p:cNvPr id="1371" name="WordArt 5"/>
          <p:cNvSpPr txBox="1"/>
          <p:nvPr/>
        </p:nvSpPr>
        <p:spPr>
          <a:xfrm>
            <a:off x="685800" y="152280"/>
            <a:ext cx="6870600" cy="16002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и приме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2" name="WordArt 6"/>
          <p:cNvSpPr txBox="1"/>
          <p:nvPr/>
        </p:nvSpPr>
        <p:spPr>
          <a:xfrm>
            <a:off x="3325680" y="2085840"/>
            <a:ext cx="1590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6-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73" name="AutoShape 7">
            <a:hlinkClick r:id="" action="ppaction://hlinkshowjump?jump=nextslide"/>
            <a:hlinkClick r:id="rId3"/>
          </p:cNvPr>
          <p:cNvSpPr/>
          <p:nvPr/>
        </p:nvSpPr>
        <p:spPr>
          <a:xfrm>
            <a:off x="3071880" y="4543560"/>
            <a:ext cx="1724040" cy="509400"/>
          </a:xfrm>
          <a:custGeom>
            <a:avLst/>
            <a:gdLst>
              <a:gd name="textAreaLeft" fmla="*/ 32760 w 1724040"/>
              <a:gd name="textAreaRight" fmla="*/ 1691280 w 172404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73068" h="21600">
                <a:moveTo>
                  <a:pt x="0" y="0"/>
                </a:moveTo>
                <a:lnTo>
                  <a:pt x="73068" y="0"/>
                </a:lnTo>
                <a:lnTo>
                  <a:pt x="73068" y="21600"/>
                </a:lnTo>
                <a:lnTo>
                  <a:pt x="0" y="21600"/>
                </a:lnTo>
                <a:close/>
              </a:path>
              <a:path fill="lightenLess" w="73068" h="21600">
                <a:moveTo>
                  <a:pt x="0" y="0"/>
                </a:moveTo>
                <a:lnTo>
                  <a:pt x="73068" y="0"/>
                </a:lnTo>
                <a:lnTo>
                  <a:pt x="71668" y="1400"/>
                </a:lnTo>
                <a:lnTo>
                  <a:pt x="1400" y="1400"/>
                </a:lnTo>
                <a:close/>
              </a:path>
              <a:path fill="darken" w="73068" h="21600">
                <a:moveTo>
                  <a:pt x="73068" y="0"/>
                </a:moveTo>
                <a:lnTo>
                  <a:pt x="73068" y="21600"/>
                </a:lnTo>
                <a:lnTo>
                  <a:pt x="71668" y="20200"/>
                </a:lnTo>
                <a:lnTo>
                  <a:pt x="71668" y="1400"/>
                </a:lnTo>
                <a:close/>
              </a:path>
              <a:path fill="darkenLess" w="73068" h="21600">
                <a:moveTo>
                  <a:pt x="73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668" y="20200"/>
                </a:lnTo>
                <a:close/>
              </a:path>
              <a:path fill="lighten" w="73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068" h="21600">
                <a:moveTo>
                  <a:pt x="29527" y="3794"/>
                </a:moveTo>
                <a:lnTo>
                  <a:pt x="43540" y="10800"/>
                </a:lnTo>
                <a:lnTo>
                  <a:pt x="29527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AutoShape 8">
            <a:hlinkClick r:id="rId4"/>
          </p:cNvPr>
          <p:cNvSpPr/>
          <p:nvPr/>
        </p:nvSpPr>
        <p:spPr>
          <a:xfrm>
            <a:off x="3089160" y="3357720"/>
            <a:ext cx="1724040" cy="509400"/>
          </a:xfrm>
          <a:custGeom>
            <a:avLst/>
            <a:gdLst>
              <a:gd name="textAreaLeft" fmla="*/ 32760 w 1724040"/>
              <a:gd name="textAreaRight" fmla="*/ 1691280 w 172404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73068" h="21600">
                <a:moveTo>
                  <a:pt x="0" y="0"/>
                </a:moveTo>
                <a:lnTo>
                  <a:pt x="73068" y="0"/>
                </a:lnTo>
                <a:lnTo>
                  <a:pt x="73068" y="21600"/>
                </a:lnTo>
                <a:lnTo>
                  <a:pt x="0" y="21600"/>
                </a:lnTo>
                <a:close/>
              </a:path>
              <a:path fill="lightenLess" w="73068" h="21600">
                <a:moveTo>
                  <a:pt x="0" y="0"/>
                </a:moveTo>
                <a:lnTo>
                  <a:pt x="73068" y="0"/>
                </a:lnTo>
                <a:lnTo>
                  <a:pt x="71668" y="1400"/>
                </a:lnTo>
                <a:lnTo>
                  <a:pt x="1400" y="1400"/>
                </a:lnTo>
                <a:close/>
              </a:path>
              <a:path fill="darken" w="73068" h="21600">
                <a:moveTo>
                  <a:pt x="73068" y="0"/>
                </a:moveTo>
                <a:lnTo>
                  <a:pt x="73068" y="21600"/>
                </a:lnTo>
                <a:lnTo>
                  <a:pt x="71668" y="20200"/>
                </a:lnTo>
                <a:lnTo>
                  <a:pt x="71668" y="1400"/>
                </a:lnTo>
                <a:close/>
              </a:path>
              <a:path fill="darkenLess" w="73068" h="21600">
                <a:moveTo>
                  <a:pt x="73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668" y="20200"/>
                </a:lnTo>
                <a:close/>
              </a:path>
              <a:path fill="lighten" w="73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068" h="21600">
                <a:moveTo>
                  <a:pt x="29527" y="3794"/>
                </a:moveTo>
                <a:lnTo>
                  <a:pt x="43540" y="10800"/>
                </a:lnTo>
                <a:lnTo>
                  <a:pt x="29527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WordArt 9"/>
          <p:cNvSpPr txBox="1"/>
          <p:nvPr/>
        </p:nvSpPr>
        <p:spPr>
          <a:xfrm>
            <a:off x="5396040" y="3235320"/>
            <a:ext cx="419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6" name="WordArt 10"/>
          <p:cNvSpPr txBox="1"/>
          <p:nvPr/>
        </p:nvSpPr>
        <p:spPr>
          <a:xfrm>
            <a:off x="5738760" y="4435560"/>
            <a:ext cx="2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2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8" name="Picture 3" descr="Рисунок5"/>
          <p:cNvPicPr/>
          <p:nvPr/>
        </p:nvPicPr>
        <p:blipFill>
          <a:blip r:embed="rId1"/>
          <a:stretch/>
        </p:blipFill>
        <p:spPr>
          <a:xfrm>
            <a:off x="303120" y="1517760"/>
            <a:ext cx="2932200" cy="364464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4" descr="Рисунок3"/>
          <p:cNvPicPr/>
          <p:nvPr/>
        </p:nvPicPr>
        <p:blipFill>
          <a:blip r:embed="rId2"/>
          <a:stretch/>
        </p:blipFill>
        <p:spPr>
          <a:xfrm>
            <a:off x="6815160" y="1514520"/>
            <a:ext cx="2328840" cy="3438360"/>
          </a:xfrm>
          <a:prstGeom prst="rect">
            <a:avLst/>
          </a:prstGeom>
          <a:ln w="0">
            <a:noFill/>
          </a:ln>
        </p:spPr>
      </p:pic>
      <p:sp>
        <p:nvSpPr>
          <p:cNvPr id="1380" name="WordArt 5"/>
          <p:cNvSpPr txBox="1"/>
          <p:nvPr/>
        </p:nvSpPr>
        <p:spPr>
          <a:xfrm>
            <a:off x="685800" y="152280"/>
            <a:ext cx="6870600" cy="16002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и приме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1" name="WordArt 6"/>
          <p:cNvSpPr txBox="1"/>
          <p:nvPr/>
        </p:nvSpPr>
        <p:spPr>
          <a:xfrm>
            <a:off x="3325680" y="2085840"/>
            <a:ext cx="1590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7-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82" name="AutoShape 7">
            <a:hlinkClick r:id="" action="ppaction://hlinkshowjump?jump=nextslide"/>
            <a:hlinkClick r:id="rId3"/>
          </p:cNvPr>
          <p:cNvSpPr/>
          <p:nvPr/>
        </p:nvSpPr>
        <p:spPr>
          <a:xfrm>
            <a:off x="3071880" y="4543560"/>
            <a:ext cx="1724040" cy="509400"/>
          </a:xfrm>
          <a:custGeom>
            <a:avLst/>
            <a:gdLst>
              <a:gd name="textAreaLeft" fmla="*/ 32760 w 1724040"/>
              <a:gd name="textAreaRight" fmla="*/ 1691280 w 172404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73068" h="21600">
                <a:moveTo>
                  <a:pt x="0" y="0"/>
                </a:moveTo>
                <a:lnTo>
                  <a:pt x="73068" y="0"/>
                </a:lnTo>
                <a:lnTo>
                  <a:pt x="73068" y="21600"/>
                </a:lnTo>
                <a:lnTo>
                  <a:pt x="0" y="21600"/>
                </a:lnTo>
                <a:close/>
              </a:path>
              <a:path fill="lightenLess" w="73068" h="21600">
                <a:moveTo>
                  <a:pt x="0" y="0"/>
                </a:moveTo>
                <a:lnTo>
                  <a:pt x="73068" y="0"/>
                </a:lnTo>
                <a:lnTo>
                  <a:pt x="71668" y="1400"/>
                </a:lnTo>
                <a:lnTo>
                  <a:pt x="1400" y="1400"/>
                </a:lnTo>
                <a:close/>
              </a:path>
              <a:path fill="darken" w="73068" h="21600">
                <a:moveTo>
                  <a:pt x="73068" y="0"/>
                </a:moveTo>
                <a:lnTo>
                  <a:pt x="73068" y="21600"/>
                </a:lnTo>
                <a:lnTo>
                  <a:pt x="71668" y="20200"/>
                </a:lnTo>
                <a:lnTo>
                  <a:pt x="71668" y="1400"/>
                </a:lnTo>
                <a:close/>
              </a:path>
              <a:path fill="darkenLess" w="73068" h="21600">
                <a:moveTo>
                  <a:pt x="73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668" y="20200"/>
                </a:lnTo>
                <a:close/>
              </a:path>
              <a:path fill="lighten" w="73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068" h="21600">
                <a:moveTo>
                  <a:pt x="29527" y="3794"/>
                </a:moveTo>
                <a:lnTo>
                  <a:pt x="43540" y="10800"/>
                </a:lnTo>
                <a:lnTo>
                  <a:pt x="29527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3" name="AutoShape 8">
            <a:hlinkClick r:id="rId4"/>
          </p:cNvPr>
          <p:cNvSpPr/>
          <p:nvPr/>
        </p:nvSpPr>
        <p:spPr>
          <a:xfrm>
            <a:off x="3089160" y="3357720"/>
            <a:ext cx="1724040" cy="509400"/>
          </a:xfrm>
          <a:custGeom>
            <a:avLst/>
            <a:gdLst>
              <a:gd name="textAreaLeft" fmla="*/ 32760 w 1724040"/>
              <a:gd name="textAreaRight" fmla="*/ 1691280 w 172404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73068" h="21600">
                <a:moveTo>
                  <a:pt x="0" y="0"/>
                </a:moveTo>
                <a:lnTo>
                  <a:pt x="73068" y="0"/>
                </a:lnTo>
                <a:lnTo>
                  <a:pt x="73068" y="21600"/>
                </a:lnTo>
                <a:lnTo>
                  <a:pt x="0" y="21600"/>
                </a:lnTo>
                <a:close/>
              </a:path>
              <a:path fill="lightenLess" w="73068" h="21600">
                <a:moveTo>
                  <a:pt x="0" y="0"/>
                </a:moveTo>
                <a:lnTo>
                  <a:pt x="73068" y="0"/>
                </a:lnTo>
                <a:lnTo>
                  <a:pt x="71668" y="1400"/>
                </a:lnTo>
                <a:lnTo>
                  <a:pt x="1400" y="1400"/>
                </a:lnTo>
                <a:close/>
              </a:path>
              <a:path fill="darken" w="73068" h="21600">
                <a:moveTo>
                  <a:pt x="73068" y="0"/>
                </a:moveTo>
                <a:lnTo>
                  <a:pt x="73068" y="21600"/>
                </a:lnTo>
                <a:lnTo>
                  <a:pt x="71668" y="20200"/>
                </a:lnTo>
                <a:lnTo>
                  <a:pt x="71668" y="1400"/>
                </a:lnTo>
                <a:close/>
              </a:path>
              <a:path fill="darkenLess" w="73068" h="21600">
                <a:moveTo>
                  <a:pt x="73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668" y="20200"/>
                </a:lnTo>
                <a:close/>
              </a:path>
              <a:path fill="lighten" w="73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068" h="21600">
                <a:moveTo>
                  <a:pt x="29527" y="3794"/>
                </a:moveTo>
                <a:lnTo>
                  <a:pt x="43540" y="10800"/>
                </a:lnTo>
                <a:lnTo>
                  <a:pt x="29527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WordArt 9"/>
          <p:cNvSpPr txBox="1"/>
          <p:nvPr/>
        </p:nvSpPr>
        <p:spPr>
          <a:xfrm>
            <a:off x="5442120" y="4433760"/>
            <a:ext cx="419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5" name="WordArt 10"/>
          <p:cNvSpPr txBox="1"/>
          <p:nvPr/>
        </p:nvSpPr>
        <p:spPr>
          <a:xfrm>
            <a:off x="5319720" y="3297240"/>
            <a:ext cx="2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9:06:37Z</dcterms:created>
  <dc:creator>1</dc:creator>
  <dc:description/>
  <dc:language>en-US</dc:language>
  <cp:lastModifiedBy>ира</cp:lastModifiedBy>
  <dcterms:modified xsi:type="dcterms:W3CDTF">2012-02-16T15:42:13Z</dcterms:modified>
  <cp:revision>6</cp:revision>
  <dc:subject/>
  <dc:title>Слайд 1</dc:title>
</cp:coreProperties>
</file>