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D2C-7A71-4969-8648-7D924ECF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7F5-FFBB-4ABB-B814-3FE34DA1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BEF-C114-4EED-B8B8-200378FC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F9D-3C48-467E-93AE-7A1BA933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52963-13D8-479B-9939-3AC8C42E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80E5-C0F8-4EF4-9019-1D2C4EC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3A139-B412-447A-842D-CC5B70B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DFB01-6819-4F36-9A17-3DA19A85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1EF8-3CED-444D-8BDA-C63D97B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1E42C-A737-4DAB-AD52-D970BD6B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C896-6A30-450A-975B-9C92334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E0A-6E2A-4E29-A763-13A88446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CAFF5-0E17-4287-BF60-0386923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DEB1-3F15-4566-AD87-C6948A7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674B8-A394-4BD6-B5C3-0D5F6CB3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5E05C-FB65-4988-89C0-AC8B4E58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E19C-BCDD-4A9C-AEC7-E6ED50D0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A6C-5352-4163-83D0-2E261D31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BD0-A50D-444F-9301-D579C7E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37E-9196-425B-A231-5D5421DF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299-4FA9-444D-88E7-84E5A75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7E4-36DE-4B38-BA3E-DD5894F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613-88A8-4EB6-8E44-DF21502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0DD-BE0A-41C8-8F8B-D1CF0BE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790-0D38-4667-9EBB-E9B398BE0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C8C-09D2-4E3C-929A-29D5EA041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65720" y="346320"/>
            <a:ext cx="8010720" cy="5590080"/>
            <a:chOff x="765720" y="346320"/>
            <a:chExt cx="8010720" cy="5590080"/>
          </a:xfrm>
        </p:grpSpPr>
        <p:sp>
          <p:nvSpPr>
            <p:cNvPr id="84" name="_s2063"/>
            <p:cNvSpPr/>
            <p:nvPr/>
          </p:nvSpPr>
          <p:spPr>
            <a:xfrm flipH="1" flipV="1">
              <a:off x="2788920" y="2890800"/>
              <a:ext cx="994680" cy="23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2062"/>
            <p:cNvSpPr/>
            <p:nvPr/>
          </p:nvSpPr>
          <p:spPr>
            <a:xfrm>
              <a:off x="765720" y="1904400"/>
              <a:ext cx="2078280" cy="15048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33cccc"/>
                  </a:solidFill>
                  <a:uFillTx/>
                  <a:latin typeface="Times New Roman"/>
                  <a:hlinkClick r:id="rId2" action="ppaction://hlinksldjump"/>
                </a:rPr>
                <a:t>насе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 flipH="1">
              <a:off x="3548520" y="3961440"/>
              <a:ext cx="611280" cy="61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2059"/>
            <p:cNvSpPr/>
            <p:nvPr/>
          </p:nvSpPr>
          <p:spPr>
            <a:xfrm>
              <a:off x="1898640" y="4431600"/>
              <a:ext cx="2078280" cy="15048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трасл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пециализ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2067"/>
            <p:cNvSpPr/>
            <p:nvPr/>
          </p:nvSpPr>
          <p:spPr>
            <a:xfrm>
              <a:off x="5379120" y="3961440"/>
              <a:ext cx="614880" cy="61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2066"/>
            <p:cNvSpPr/>
            <p:nvPr/>
          </p:nvSpPr>
          <p:spPr>
            <a:xfrm>
              <a:off x="5565960" y="4431600"/>
              <a:ext cx="2078280" cy="15048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Приро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сурс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058"/>
            <p:cNvSpPr/>
            <p:nvPr/>
          </p:nvSpPr>
          <p:spPr>
            <a:xfrm flipV="1">
              <a:off x="5755320" y="2888640"/>
              <a:ext cx="991800" cy="23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2057"/>
            <p:cNvSpPr/>
            <p:nvPr/>
          </p:nvSpPr>
          <p:spPr>
            <a:xfrm>
              <a:off x="6698160" y="1906560"/>
              <a:ext cx="2078280" cy="1505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род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056"/>
            <p:cNvSpPr/>
            <p:nvPr/>
          </p:nvSpPr>
          <p:spPr>
            <a:xfrm flipV="1">
              <a:off x="4769640" y="1849320"/>
              <a:ext cx="0" cy="75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2055"/>
            <p:cNvSpPr/>
            <p:nvPr/>
          </p:nvSpPr>
          <p:spPr>
            <a:xfrm>
              <a:off x="3731760" y="346320"/>
              <a:ext cx="2078280" cy="150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33cccc"/>
                  </a:solidFill>
                  <a:uFillTx/>
                  <a:latin typeface="Times New Roman"/>
                  <a:hlinkClick r:id="rId3" action="ppaction://hlinksldjump"/>
                </a:rPr>
                <a:t>Географическ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33cccc"/>
                  </a:solidFill>
                  <a:uFillTx/>
                  <a:latin typeface="Times New Roman"/>
                  <a:hlinkClick r:id="rId4" action="ppaction://hlinksldjump"/>
                </a:rPr>
                <a:t>полож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2054"/>
            <p:cNvSpPr/>
            <p:nvPr/>
          </p:nvSpPr>
          <p:spPr>
            <a:xfrm>
              <a:off x="3731760" y="2604960"/>
              <a:ext cx="2078280" cy="1505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Усть –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Илимс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endshow"/>
          </p:cNvPr>
          <p:cNvSpPr/>
          <p:nvPr/>
        </p:nvSpPr>
        <p:spPr>
          <a:xfrm>
            <a:off x="8101080" y="595008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975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9501" h="21600">
                <a:moveTo>
                  <a:pt x="2975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9501" h="21600">
                <a:moveTo>
                  <a:pt x="27174" y="8224"/>
                </a:moveTo>
                <a:lnTo>
                  <a:pt x="31039" y="8224"/>
                </a:lnTo>
                <a:lnTo>
                  <a:pt x="31039" y="15221"/>
                </a:lnTo>
                <a:lnTo>
                  <a:pt x="32327" y="15221"/>
                </a:lnTo>
                <a:lnTo>
                  <a:pt x="32327" y="16144"/>
                </a:lnTo>
                <a:lnTo>
                  <a:pt x="27174" y="16144"/>
                </a:lnTo>
                <a:lnTo>
                  <a:pt x="27174" y="15221"/>
                </a:lnTo>
                <a:lnTo>
                  <a:pt x="28463" y="15221"/>
                </a:lnTo>
                <a:lnTo>
                  <a:pt x="28463" y="9129"/>
                </a:lnTo>
                <a:lnTo>
                  <a:pt x="27174" y="912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еографическ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положен на востоке Приангарского плато, на р. Ангара, в 18 км от железнодорожной станции, в 700 км к северу от Иркутс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88508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асе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306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Население 105,5 тыс. человек (2001). Основан в 1966. Город с 197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место – русск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3794"/>
                </a:moveTo>
                <a:lnTo>
                  <a:pt x="27036" y="10800"/>
                </a:lnTo>
                <a:lnTo>
                  <a:pt x="1302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иродны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услов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3640" y="1628640"/>
            <a:ext cx="4105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t  = -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32</a:t>
            </a:r>
            <a:r>
              <a:rPr b="1" lang="ru-RU" sz="2800" spc="-1" strike="noStrike" baseline="30000">
                <a:solidFill>
                  <a:srgbClr val="0000cc"/>
                </a:solidFill>
                <a:latin typeface="Tahoma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адки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тер: с-з (преимущественн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12516" t="0" r="60159" b="71442"/>
          <a:stretch/>
        </p:blipFill>
        <p:spPr>
          <a:xfrm>
            <a:off x="539640" y="4149720"/>
            <a:ext cx="2521080" cy="197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19640" y="4076640"/>
            <a:ext cx="439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= +16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тер: с-з; ю-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11635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003640" y="2133720"/>
            <a:ext cx="93672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10108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059280" y="3357720"/>
            <a:ext cx="1512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24000" y="0"/>
            <a:ext cx="8639640" cy="6856560"/>
            <a:chOff x="324000" y="0"/>
            <a:chExt cx="8639640" cy="6856560"/>
          </a:xfrm>
        </p:grpSpPr>
        <p:cxnSp>
          <p:nvCxnSpPr>
            <p:cNvPr id="115" name="_s15376"/>
            <p:cNvCxnSpPr>
              <a:stCxn id="116" idx="3"/>
              <a:endCxn id="117" idx="2"/>
            </p:cNvCxnSpPr>
            <p:nvPr/>
          </p:nvCxnSpPr>
          <p:spPr>
            <a:xfrm flipV="1">
              <a:off x="4026600" y="1713600"/>
              <a:ext cx="617760" cy="42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5372"/>
            <p:cNvCxnSpPr>
              <a:stCxn id="119" idx="1"/>
              <a:endCxn id="117" idx="2"/>
            </p:cNvCxnSpPr>
            <p:nvPr/>
          </p:nvCxnSpPr>
          <p:spPr>
            <a:xfrm rot="10800000">
              <a:off x="4643280" y="1713240"/>
              <a:ext cx="617760" cy="171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5371"/>
            <p:cNvCxnSpPr>
              <a:stCxn id="121" idx="3"/>
              <a:endCxn id="117" idx="2"/>
            </p:cNvCxnSpPr>
            <p:nvPr/>
          </p:nvCxnSpPr>
          <p:spPr>
            <a:xfrm flipV="1">
              <a:off x="4026600" y="1713240"/>
              <a:ext cx="617760" cy="171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15367"/>
            <p:cNvSpPr/>
            <p:nvPr/>
          </p:nvSpPr>
          <p:spPr>
            <a:xfrm>
              <a:off x="2792520" y="0"/>
              <a:ext cx="3702600" cy="1713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Отрасли 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специализации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5368"/>
            <p:cNvSpPr/>
            <p:nvPr/>
          </p:nvSpPr>
          <p:spPr>
            <a:xfrm>
              <a:off x="324000" y="2571120"/>
              <a:ext cx="3702600" cy="1713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объединение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«Илимсклес»,</a:t>
              </a:r>
              <a:r>
                <a:rPr b="0" lang="en-US" sz="27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5369"/>
            <p:cNvSpPr/>
            <p:nvPr/>
          </p:nvSpPr>
          <p:spPr>
            <a:xfrm>
              <a:off x="5261040" y="2571120"/>
              <a:ext cx="3702600" cy="1713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«Усть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лимски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ЛПК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производ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тройматериалов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324000" y="5142600"/>
              <a:ext cx="3702600" cy="1713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Усть-Илимска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ГЭС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101080" y="6021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иродны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есурс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менный уг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2066760" cy="154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8953" t="0" r="52832" b="63813"/>
          <a:stretch/>
        </p:blipFill>
        <p:spPr>
          <a:xfrm>
            <a:off x="5651640" y="2708280"/>
            <a:ext cx="230508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940360" y="191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386064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елезная р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556000" y="4437000"/>
            <a:ext cx="32162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20:10:59Z</dcterms:created>
  <dc:creator>надежда</dc:creator>
  <dc:description/>
  <dc:language>en-US</dc:language>
  <cp:lastModifiedBy>надежда</cp:lastModifiedBy>
  <dcterms:modified xsi:type="dcterms:W3CDTF">2010-01-26T17:58:58Z</dcterms:modified>
  <cp:revision>8</cp:revision>
  <dc:subject/>
  <dc:title>Слайд 1</dc:title>
</cp:coreProperties>
</file>