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01F-6E3F-47FC-B1E5-6F5215EF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D91-5E2A-4CC2-BDB8-F7F9FEDD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FAE-A09F-418D-A002-77CD381C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814-196B-4C1B-B998-3C1ECE29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DF71-431F-45F9-9BD1-90E85E43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B958-AB2A-482F-8377-1BC3043A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DB5A-18C2-433C-8D1D-760BC9B8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CDF3-2473-43FF-9596-AD092790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7B77-6C94-49A7-89BF-E576E6A1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3C6E-9DEC-4C55-ABCC-9E155956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1BC4-7A99-43DC-BF9A-4BC04261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54B-4A99-4959-B45D-3184028D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8FB8-BD15-44FA-A9AE-9007C55B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5750-B1D8-4C5C-9AD7-7C07E6A3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04CD-BD27-4D6D-82B1-9AABE60E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EEC0-2B32-4017-A612-AE12C8E5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904C-0549-4524-A401-67C1F597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9F7-B986-4877-96DB-94168269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D29-0601-4BB9-81D2-74FCBC4A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4FC-5BC0-495C-ADC3-EFDD9069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D46-C91A-444D-B417-C88763CF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810-B8A8-4B9C-BC53-6A967469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40D-2C26-41AE-91C8-19742E14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9B1-3DB4-4385-98AB-C0D84EC7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B7B3-C3B2-4811-9883-D6E176951D1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B522-8C63-4CDE-A0FC-06A82C267B2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ВОРОНИХИН</a:t>
            </a:r>
            <a:br>
              <a:rPr sz="5100"/>
            </a:b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 Андрей Никифорович 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556000" y="515736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Работу выполняли ученики 9Б класса: Волобуев Олег, Федонин Борис, Киреев Павел, Одинцов Александр и Чаланов Александ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Строительство Горного института (1806-1811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Казанский собор в целом доводит до логического конца развитие зрелого классицизма, соприкасающегося с ампиром, Горный институт воплощает в себе основные тенденции ампира. Роль здания в градостроительном решении стрелки Васильевского острова очень велика: оно замыкает противоположный Бирже конец острова в устье Невы. Между двумя стилистически близкими ансамблями — Биржи и Горного института — развертывается вся его застройка. Сходство основывается не только на принадлежности к ампиру: Воронихин, вслед за Томоном, использует мощную пестумскую дорику для портика Института. Планировка предопределена корпусами пяти старых домов, которые зодчий включает в композицию, соединив их коридором и новой фасадной стеной. Протяженное двухэтажное здание следует изгибу Невы. Монументальный, очень красивый по пропорциям портик с фронтоном, который поддерживают 12 каннелированных дорических колонн, акцентирует фасад. На постаментах по сторонам широкой пологой лестницы размещены две скульптурные группы: «Геракл, удушающий Антея» (1809-1811) С. С. Пименова и «Похищение Прозерпины Плутоном» (1809-1811) В. И. Демут-Малиновского. Мифологическая тема Земли, звучащая в этих произведениях, через все пространство острова перекликается с аллегорической темой водной стихии в скульптурном убранстве ансамбля Биржи. От интерьеров, оформленных Воронихиным, сохранилась лишь парадная лестниц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Другие сооружения Воронихина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овременно с осуществлением крупнейших проектов Воронихин строит и другие сооружения в окрестностях Петербурга: колоннады у подножия Большого каскада в Петергофе, Розовый павильон в Павловске (1811-1812), фонтан на Пулковской горе (1806). За проект Петергофских каскадов в 1800 он получает звание архитектора, а в 1802 — профессора архитектур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ронихин работал и в области декоративно-прикладного искусства. Создавая проекты мебели, осветительных приборов, фарфоровых ваз и др., он стремился к органическому сочетанию интерьера с архитектуро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Разделы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Вороних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2" action="ppaction://hlinksldjump"/>
              </a:rPr>
              <a:t>Краткая биограф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3" action="ppaction://hlinksldjump"/>
              </a:rPr>
              <a:t>Ранний период творче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Строительство Казанского собо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Строительство горного институ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6" action="ppaction://hlinksldjump"/>
              </a:rPr>
              <a:t>Другие сооружения Воронихи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РОНИХИН Андрей Никифорович [17 (28) октября 1759, село Новое Усолье Пермской губернии — 21 февраля (5 марта) 1814, Санкт-Петербург], русский архитектор. Блестящий представитель зрелого классицизма и ампира в архитектуре, автор одного из важнейших в исторической застройке Петербурга сооружений — ансамбля Казанского собор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Краткая биография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дился в семье крепостных графа А. С. Строганова (существует предположение, что он — внебрачный сын графа). Живописный талант Воронихина обнаруживается рано, и его посылают учиться иконописи в мастерской Тыскорского монастыря. В 1777 граф Строганов отправляет его в Москву, где Воронихин сначала осваивает миниатюру, а затем — перспективную живопись. В это время начинается его общение с крупнейшими московскими архитекторами В. И. Баженовым и М. Ф. Казаковым, заинтересовавшимися его произведениями. Под влиянием Баженова Воронихин начинает заниматься архитектурой. С этого момента живопись отходит на второй план, хотя интерес к ней Воронихин сохраняет и часто использует для выражения своих архитектурных идей. Сохранились многие его архитектурные зарисовки, а также автопортрет на фоне Казанского собор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 1779 Воронихин живет в Петербурге, в доме Строганова, и продолжает обучение. В 1781 путешествует по России с сыном Строганова, Павлом. В 1785 получает «вольную», а через год едет с Павлом Строгановым за границу, живет в Швейцарии и Франции. Продолжает свое образование в Париже: изучает архитектуру, физику, механику, математику, проявляя незаурядные способности и трудолюбие. После возвращения в 1790 в Петербург начинает свою архитектурную деятельность. Одновременно занимается живописью: в 1794 был «назначен» в Академию художеств, в 1797 получил звание академика «перспективной живописи» (за «Вид картинной галереи в Строгановском дворце», акварель, 1793, Эрмитаж, и «Вид Строгановской дачи», масло, 1797, Русский музей). С 1800 преподает в Академии, в 1803 становится профессор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Краткая биография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Ранний период творчества</a:t>
            </a:r>
            <a:br>
              <a:rPr sz="4000"/>
            </a:b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 (1790-1800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троит ряд частных домов, но самыми важными становятся работы, выполненные для графа Строганова. В перестройке интерьеров дворца Строганова на Мойке (архитектор Растрелли) уже проявляются незаурядные способности декоратора. Он умело организует пространство с помощью мотивов классического зодчества, которые не только украшают интерьер, но и вносят в него архитектонические акценты. Наиболее эффектна Картинная галере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Дача Строганова в Новой деревне (не сохранилась) — первое произведение, раскрывающее всю самобытность и масштаб его таланта. Композиция построена на контрасте тяжелого рустованного нижнего этажа и ажурно-легкого второго, решенного в виде глубокой лоджии, увенчанной куполо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Строительство Казанского собора (1801-1811) 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ронихин получает заказ на строительство собора после победы в конкурсе, в котором участвовали также Ж. Тома де Томон и Ч. Камерон. Образцом для нового храма, согласно воле Павла I, становится ватиканский собор св. Петра. Казанский собор в плане имеет форму латинского креста. Своим протяженным северным фасадом он обращен к Невскому проспекту, но на линию сплошной застройки не выходит. В результате смещения собора с «красной линии» улицы образуется глубокая площадь, которую мощным полукольцом охватывает грандиозная дуга колоннады из четырех рядов коринфских каннелированных колонн, примыкающая к северному фасаду здания. Концы дуги завершены монументальными проездными порталами с аттиками. Над богатым антаблементом колоннады по всей длине высится парапет, зрительно усиливающий единство всех ее частей. Фасады западного, северного и южного рукавов креста акцентированы глубокими портиками с венчающими фронтонами. Особое значение имеет северный портик — центр композиции колоннады. Пространство перед собором, организованное на контрасте разрыва сплошной линии застройки с динамичным ритмом полукружия колоннады, создает очень выразительный градостроительный эффект. Проект предполагал сооружение с южной стороны симметричной колоннады, но недостаток средств помешал ее осуществлению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Строительство Казанского собора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Храм построен из натурального камня (известняка) и украшен многочисленными барельефами, выполненными И. П. Мартосом, И. П. Прокофьевым и др. Его внутреннее пространство создано по типу зальных церквей — два ряда парных гранитных колонн образуют равные по высоте нефы. В интерьере зодчий также применяет коринфские колонны, но оставляет их стволы гладкими. Особую парадность интерьеру придают богато украшенные кессонированные коробовые своды центрального и поперечного нефов. Над средокрестием возвышается световой барабан, несущий оригинальный по конструкции купол, — одна из основных вертикальных доминант Петербурга. После окончания войны 1812 собор был превращен в мемориал: в нем хранились боевые знамена и трофеи, иконостас был отлит из серебра, награбленного французами из московских церквей. На площади установлены памятники М. И. Кутузову (1829-1835) и М. Б. Барклаю де Толли (1829-1836) работы скульптора Б. И. Орловского. В Казанском соборе похоронен фельдмаршал Кутуз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Строительство Казанского собора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1810-1812 Воронихин с западной стороны дополняет ансамбль собора знаменитой оградой, послужившей образцом для многих подобных малых архитектурных форм в Петербурге. Чугунная решетка украшена ромбовидными орнаментальными накладками и растительным узором. Ее линия строго ритмизованна мощными гранитными каннелированными колоннами, увенчанными шарами. Ограда завершает оригинальную, уникальную по силе художественного образа композицию всего сооруж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3:04:32Z</dcterms:created>
  <dc:creator>User</dc:creator>
  <dc:description/>
  <dc:language>en-US</dc:language>
  <cp:lastModifiedBy>User</cp:lastModifiedBy>
  <dcterms:modified xsi:type="dcterms:W3CDTF">2008-10-17T13:31:52Z</dcterms:modified>
  <cp:revision>3</cp:revision>
  <dc:subject/>
  <dc:title>ВОРОНИХИН  Андрей Никифорович </dc:title>
</cp:coreProperties>
</file>