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gif" ContentType="image/gi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AA8-8051-42AE-899F-50F8957A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68C-71FB-4D69-8E42-5E79A6AF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0CD8-AC11-462E-84BE-B51E19B2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391-5E72-4270-AA92-BB86937B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333F-9284-45B2-9E3E-B19D3799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5680-79B2-4ABD-AB85-CC827F21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B4DB-294B-4278-97F0-81C9E07B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D935-07D0-4F6B-8591-DF40CAC8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AA72-32AF-420C-A7DF-F6B8A3BF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9A41-6762-4AA1-ADDF-5601C206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75E1-F83B-4243-A77A-1E471B5F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CB2-CDD3-42C8-8A79-C55A1FF2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B582-5A4D-4A15-8BCC-A19BCECD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E7D7-BFDB-4A4B-A99C-65B7287F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C1BD-3043-46F3-9A6D-A6F20D83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9FE3-1A89-478E-8275-2771DBA9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9F2E-8EBA-42B2-91A0-6958D583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547-424C-4E36-8760-C06CE759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311-926A-4F33-A231-16EEE47C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B9A-2941-406E-BB5A-188632B3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B3B-5885-4601-91D1-0569CC42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202-C81D-4D3E-A9A0-49B0A917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C68-D9BD-4CF4-83A0-912373B8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B21E-9FCA-4F24-BC9D-A6AC0056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8CBB-E573-40FB-A21D-A7A65EA989F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9F96-3C31-4A3D-88C2-4FB2131EAC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prstGeom prst="pie">
            <a:avLst/>
          </a:pr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972A-0C45-468D-9C7E-5DAF4051B7D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5E3E-CD92-46E1-8984-8BB60E1E0D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00000"/>
                </a:solidFill>
                <a:latin typeface="AdverGothic"/>
              </a:rPr>
              <a:t>Окружающий ми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52120" y="34290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Di"/>
              </a:rPr>
              <a:t>Система Л.В. Зан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Di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76AD-6BD8-452B-8E7F-18086F8466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56000" y="2421000"/>
            <a:ext cx="3456000" cy="1584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77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3933720"/>
            <a:ext cx="855720" cy="11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195640" y="3860640"/>
            <a:ext cx="1079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835280" y="2491920"/>
            <a:ext cx="9381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413000"/>
            <a:ext cx="1885680" cy="1224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ж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19640" y="549360"/>
            <a:ext cx="1942920" cy="1130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5084640"/>
            <a:ext cx="2449800" cy="1346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цион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267080"/>
            <a:ext cx="2484360" cy="1584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каз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ред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вы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12000" y="2924280"/>
            <a:ext cx="5032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1600200"/>
            <a:ext cx="2520720" cy="1440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лож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мо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6DB-51D0-4184-9C01-84F8D45330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Тема урока: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Bookman Old Style"/>
              </a:rPr>
              <a:t>«Зачем нужна гигиен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9880" y="1600200"/>
            <a:ext cx="51818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Гигиен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аздел медици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ающий условия с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ья, а также система действ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оприятий, направл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оддержание чистоты,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. И. Ожег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Толковый словарь русского язы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игие́н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от др.-греч. ὑγιεινόν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здоровье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Rectangle 3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2922480" cy="4343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601992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Гигиена в представлении художника </a:t>
            </a: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Густава Клим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C229-7707-48CE-A724-4B7A99C9B1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man Old Style"/>
              </a:rPr>
              <a:t>Пословицы   народов 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1-я  г р у п п а –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Болезнь с … в дружбе.     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(Дагестанска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2-я  г р у п п а –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В трёх водах лучше мыть, чем в … .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(Сербска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3-я  г р у п п а –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… и мыло – большая сила.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(Русска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4-я  г р у п п а –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Чисто жить – … быть.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(Удмуртска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5-я  г р у п п а –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… моют не после обеда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(Армянска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6-я  г р у п п а –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… – лучшая красота.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(Китайска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18B-34B7-46BD-BC0B-BAE5BCC09B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man Old Style"/>
              </a:rPr>
              <a:t>Для чего нужно мыть ру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Rectangle 3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2286000" cy="228600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23720" y="1447560"/>
            <a:ext cx="5791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а 1 см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²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грязной к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можно насчит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до 100 000 микро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324480" y="3886200"/>
            <a:ext cx="2514600" cy="218916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3" descr=""/>
          <p:cNvPicPr/>
          <p:nvPr/>
        </p:nvPicPr>
        <p:blipFill>
          <a:blip r:embed="rId3"/>
          <a:stretch/>
        </p:blipFill>
        <p:spPr>
          <a:xfrm>
            <a:off x="762120" y="3886200"/>
            <a:ext cx="2603520" cy="2187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352680" y="3886200"/>
            <a:ext cx="3048120" cy="21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E637-0B35-4D6F-884E-D9B0967976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Вихрь</cp:lastModifiedBy>
  <dcterms:modified xsi:type="dcterms:W3CDTF">2012-02-16T18:43:07Z</dcterms:modified>
  <cp:revision>36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