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6FA-545D-49AE-8FAD-594EA569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158-1042-4E57-9C49-3229068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159-D7D8-4988-8B2E-6743588A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C78-7D36-4D9E-B857-30F6048C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A2A-260A-47B3-BF8B-5CCE8B3A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90D3-482F-4B35-BDDD-04EF2F4B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A1DC-7B99-4638-A430-ABF352B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69DC-AE36-48E5-AB98-E3800140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E34B-3B0F-4365-B08B-0BD754F3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A9E0-E9BC-41EE-9D87-AAF70B65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FD78-623E-48F6-B703-90A6182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AA3-808B-4CE1-AB3D-644ED993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E215-A46D-4BF4-959D-D0DD266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AAEB-66B3-48DC-BAC1-8871BA92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129E-12A1-4730-A4FC-2F694794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2F64-195A-40A3-B55E-AD8D80F3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16ED-F4FD-4140-9DF9-3DFB0455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78C-A126-4071-A2C0-B6ABD894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5C2-9BDB-4F23-BE63-B2A739F1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15D-87BF-41CF-9C40-3DABE6BE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3FB-2DC0-4891-82A0-B74A55B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BF8-295A-4DF1-970A-95756A8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41F-54C8-49D3-ADF2-48F72CA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D4D-75EB-427D-AC83-7355F6A0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181-4E72-4608-9D78-FEA1AFB3CD5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50D6-FB60-46B1-B27E-E4C373A5190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s004.radikal.ru/i206/1005/22/77ded836aed8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s53.radikal.ru/i141/1004/73/a2cf79e5f761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АСИЛИЙ АНДРЕЕВИЧ ЖУКОВСКИЙ.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КРАТКИЕ СВЕДЕНИЯ О ПИСАТЕЛЕ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3047760"/>
            <a:ext cx="73868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ЦЕЛЬ: знакомство с основными фактами биографии поэ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С 1817 по 1841 г. продолжалась придворная жизнь Жуковского, сначала в качестве преподавателя русского языка великих княгинь Александры Федоровны и Елены Павловны, а с 1825 г. — в качестве воспитателя наследника престола, Александра Николаевич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1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477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Жуковский умер в Баден-Бадене 7 апреля 1852 г. Похоронен в Петербурге с большими почестями в Александро-Невском некрополе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579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Экскурсия по галерее портретов В.А. Жуковского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133720" cy="2667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2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. Кипренский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2200320" cy="2695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410080" y="38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К. Брюллов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666880" y="3505320"/>
            <a:ext cx="2590920" cy="3352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5627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. Соколов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АСИЛИЙ АНДРЕЕВИЧ ЖУКОВСКИЙ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783-185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49528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Для получения дворянства ребенок был фиктивно зачислен на службу в Астраханский гусарский полк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4772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 1797 г. 14-летний Жуковский поступил в Московский Благородный университетский пансион и учился в нем четыре года. Директором его был А.А. Прокопович-Антонский, человек незаурядный, первый председатель Общества любителей российской словесности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3809880" cy="4343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567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Майское утро» (1797)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047760" cy="281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Картинка 3 из 1204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3838680"/>
            <a:ext cx="4467240" cy="3019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12 из 1204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24480" y="533520"/>
            <a:ext cx="4619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В 1812 году Жуковский уехал в Москву и поступил в ополчение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Из письма Жуковского великой княгине Марии Николаевне Жуковский описал свое участие в Бородинской битве и пребывание «во стане русских воинов»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«Мы стояли в кустах на левом фланге, на который напирал неприятель; ядра невидимо откуда к нам прилетали; все вокруг нас страшно гремело; огромные клубы дыма поднимались на всем полукружии горизонта, как будто от повсеместного пожара, и, наконец, ужасною белою тучею обхватили половину неба, которое тихо и безоблачно сияло над бьющимися армиями. Во все продолжение боя нас мало-помалу отодвигали назад. Наконец, с наступлением темноты, сражение, до тех пор не прерывавшееся ни на минуту, умолкло. Мы двинулись вперед и оказались на возвышении посреди армии... Но мы не долго остались на месте: армия тронулась и в глубоком молчании пошла к Москве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«Певец во стане русских воинов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62520" y="3352680"/>
            <a:ext cx="389232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90720" y="13716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Наш каждый ратник славянин;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се долгу здесь послушны;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Бежит предатель сих дружин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И чужд им малодушны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1-10-11T18:11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