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23C-7344-4FB5-AB2E-60D42590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407-2C25-42E6-B611-8524C729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62D-31D4-410F-97C7-4A2BD09D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C66-D3AE-4670-B39E-A2F2EF01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DCB-B8C8-49E0-84A8-6C793231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CDE-3558-425A-924D-3A7F1A7D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CB6-8626-46C3-A62C-1D59B88A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51E-447D-459B-AF94-BD04D049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A72-CE96-495B-A3C4-82521EE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281-0BA1-4516-B709-60858204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6D3-2EE1-42EF-AEE3-AC353E50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3E9-8020-4301-ADA1-67F1B616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6FE1-5D31-4CE0-9242-CE838E8C48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А. Алиш</a:t>
            </a:r>
            <a:r>
              <a:rPr b="0" lang="tt-RU" sz="4400" spc="-1" strike="noStrike">
                <a:solidFill>
                  <a:srgbClr val="000000"/>
                </a:solidFill>
                <a:latin typeface="Tahoma"/>
                <a:ea typeface="Tahoma"/>
              </a:rPr>
              <a:t> “Алдакчы Наил” хикәясе.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786040"/>
            <a:ext cx="69292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d0d0d"/>
                </a:solidFill>
                <a:latin typeface="Tahoma"/>
                <a:ea typeface="Tahoma"/>
              </a:rPr>
              <a:t>Язучы да Алиш, батыр д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d0d0d"/>
                </a:solidFill>
                <a:latin typeface="Tahoma"/>
                <a:ea typeface="Tahoma"/>
              </a:rPr>
              <a:t>Яуда яшен сыман яшьнәгән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d0d0d"/>
                </a:solidFill>
                <a:latin typeface="Tahoma"/>
                <a:ea typeface="Tahoma"/>
              </a:rPr>
              <a:t>Ил алдында тик бер тапкыр д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d0d0d"/>
                </a:solidFill>
                <a:latin typeface="Tahoma"/>
                <a:ea typeface="Tahoma"/>
              </a:rPr>
              <a:t>“</a:t>
            </a:r>
            <a:r>
              <a:rPr b="0" lang="tt-RU" sz="3600" spc="-1" strike="noStrike">
                <a:solidFill>
                  <a:srgbClr val="0d0d0d"/>
                </a:solidFill>
                <a:latin typeface="Tahoma"/>
                <a:ea typeface="Tahoma"/>
              </a:rPr>
              <a:t>Мин батыр!” – дип гайрәт чәчмәгә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d0d0d"/>
                </a:solidFill>
                <a:latin typeface="Tahoma"/>
                <a:ea typeface="Tahoma"/>
              </a:rPr>
              <a:t> </a:t>
            </a:r>
            <a:r>
              <a:rPr b="0" lang="tt-RU" sz="3600" spc="-1" strike="noStrike">
                <a:solidFill>
                  <a:srgbClr val="0d0d0d"/>
                </a:solidFill>
                <a:latin typeface="Tahoma"/>
                <a:ea typeface="Tahoma"/>
              </a:rPr>
              <a:t>Мәхмүт Хөсәе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  <a:ea typeface="Tahoma"/>
              </a:rPr>
              <a:t>Җем-җем – мерцать</a:t>
            </a:r>
            <a:br>
              <a:rPr sz="4400"/>
            </a:br>
            <a:r>
              <a:rPr b="0" lang="tt-RU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tt-RU" sz="4400" spc="-1" strike="noStrike">
                <a:solidFill>
                  <a:srgbClr val="000000"/>
                </a:solidFill>
                <a:latin typeface="Tahoma"/>
                <a:ea typeface="Tahoma"/>
              </a:rPr>
              <a:t>кырый – край</a:t>
            </a:r>
            <a:br>
              <a:rPr sz="4400"/>
            </a:br>
            <a:r>
              <a:rPr b="0" lang="tt-RU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tt-RU" sz="4400" spc="-1" strike="noStrike">
                <a:solidFill>
                  <a:srgbClr val="000000"/>
                </a:solidFill>
                <a:latin typeface="Tahoma"/>
                <a:ea typeface="Tahoma"/>
              </a:rPr>
              <a:t>гаҗәпләнергә – удивляться</a:t>
            </a:r>
            <a:br>
              <a:rPr sz="4400"/>
            </a:br>
            <a:r>
              <a:rPr b="0" lang="tt-RU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tt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ай – мелкий</a:t>
            </a:r>
            <a:br>
              <a:rPr sz="1400"/>
            </a:br>
            <a:r>
              <a:rPr b="0" lang="tt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tt-RU" sz="4400" spc="-1" strike="noStrike">
                <a:solidFill>
                  <a:srgbClr val="000000"/>
                </a:solidFill>
                <a:latin typeface="Tahoma"/>
                <a:ea typeface="Tahoma"/>
              </a:rPr>
              <a:t>сөйрәргә – тащить</a:t>
            </a:r>
            <a:br>
              <a:rPr sz="4400"/>
            </a:br>
            <a:r>
              <a:rPr b="0" lang="tt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tt-RU" sz="4400" spc="-1" strike="noStrike">
                <a:solidFill>
                  <a:srgbClr val="000000"/>
                </a:solidFill>
                <a:latin typeface="Tahoma"/>
                <a:ea typeface="Tahoma"/>
              </a:rPr>
              <a:t>калкырга - всплыв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1нче төркем. Ни өчен хикәя “Алдакчы 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Наил” дип атала?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 2нче төркем. Наил иптәшләрен ничек 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алдый?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 3нче төркем. Шул ялганы аркасында ул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нинди хәлгә дучар була?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 4нче төркем. Ничек уйлыйсыз: Наил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үзенә нинди сабак алыр?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 5нче төркем. Наилгә нинди киңәш 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бирерсез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472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tt-RU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br>
              <a:rPr sz="3600"/>
            </a:br>
            <a:br>
              <a:rPr sz="3600"/>
            </a:br>
            <a:r>
              <a:rPr b="0" lang="tt-RU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br>
              <a:rPr sz="3600"/>
            </a:br>
            <a:br>
              <a:rPr sz="3600"/>
            </a:br>
            <a:r>
              <a:rPr b="0" lang="tt-RU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br>
              <a:rPr sz="3600"/>
            </a:br>
            <a:br>
              <a:rPr sz="3600"/>
            </a:br>
            <a:r>
              <a:rPr b="0" lang="tt-RU" sz="1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357120" y="428760"/>
            <a:ext cx="8286840" cy="92844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Бер ялганласаң, икенче чын сүзеңә дә ышанмасл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357120" y="1857240"/>
            <a:ext cx="8358120" cy="8575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Алдыйм дигән үзе алданы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28760" y="3286080"/>
            <a:ext cx="8001000" cy="7858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Дөресне ялган бервакытта да җиңмә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357120" y="4357800"/>
            <a:ext cx="8215560" cy="85716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Бер ялганыңны кайтарып алыр өчен кырык дөреслек эшләргә кирә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285840" y="5500800"/>
            <a:ext cx="8429400" cy="1214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Ялган сөйләсәң – тотылырсың,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Дөресен әйтсәң – котылырсың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328572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Человеку, прослывшему лжецом, не поверят, если даже слова его – чистейшая правда. Соврешь один только раз – а доверия лишишься на всю жизн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85840" y="214200"/>
            <a:ext cx="85723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ahoma"/>
                <a:ea typeface="Tahoma"/>
              </a:rPr>
              <a:t>Ялганчылык белән аты чыккан кеше һәрникадәр тугры сүз әйтсә дә, ышандырмыйдыр. Бер мәртәбә ялганчылыгың сизелсә, чын сүзеңә дә ышанмас булырла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56760" y="5143680"/>
            <a:ext cx="835812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ahoma"/>
                <a:ea typeface="Tahoma"/>
              </a:rPr>
              <a:t>Абдулла Алиш (Габдуллаҗан Габделбари улы Алишев) 1908нче елның 15нче сентябрендә Татарстан республикасы Спас районы Көек авылында ту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rcRect l="0" t="634" r="0" b="634"/>
          <a:stretch/>
        </p:blipFill>
        <p:spPr>
          <a:xfrm>
            <a:off x="2071800" y="142920"/>
            <a:ext cx="3714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5000760"/>
            <a:ext cx="54864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tt-RU" sz="2900" spc="-1" strike="noStrike">
                <a:solidFill>
                  <a:srgbClr val="000000"/>
                </a:solidFill>
                <a:latin typeface="Tahoma"/>
                <a:ea typeface="Tahoma"/>
              </a:rPr>
              <a:t>А.Алишның әтисе Габделбари абзый һәм әнисе Газизә апа.</a:t>
            </a:r>
            <a:br>
              <a:rPr sz="2900"/>
            </a:br>
            <a:br>
              <a:rPr sz="18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E:\фотоА.А\DSCF055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57520"/>
            <a:ext cx="5494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ahoma"/>
                <a:ea typeface="Tahoma"/>
              </a:rPr>
              <a:t>А.Алиш тормыш иптәше Рокыя ханым белә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E:\фотоА.А\DSCF0558.jpg"/>
          <p:cNvPicPr/>
          <p:nvPr/>
        </p:nvPicPr>
        <p:blipFill>
          <a:blip r:embed="rId1"/>
          <a:stretch/>
        </p:blipFill>
        <p:spPr>
          <a:xfrm>
            <a:off x="2500200" y="214200"/>
            <a:ext cx="38991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575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ahoma"/>
                <a:ea typeface="Tahoma"/>
              </a:rPr>
              <a:t>А.Алиш үзенең гаиләсе белән. 1941нче е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фотоА.А\DSCF0589.jpg"/>
          <p:cNvPicPr/>
          <p:nvPr/>
        </p:nvPicPr>
        <p:blipFill>
          <a:blip r:embed="rId1"/>
          <a:stretch/>
        </p:blipFill>
        <p:spPr>
          <a:xfrm>
            <a:off x="1285920" y="612720"/>
            <a:ext cx="64292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5000760"/>
            <a:ext cx="80010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944нче елны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ң 25нче августында Муса Җәлил белән бергә Абдулла Алиш һәм аларның көрәштәш дуслары фашистлар тарафыннан җәзалап үтерел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E:\фотоА.А\DSCF0599.jpg"/>
          <p:cNvPicPr/>
          <p:nvPr/>
        </p:nvPicPr>
        <p:blipFill>
          <a:blip r:embed="rId1"/>
          <a:stretch/>
        </p:blipFill>
        <p:spPr>
          <a:xfrm>
            <a:off x="1792440" y="214200"/>
            <a:ext cx="5486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429160"/>
            <a:ext cx="5486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тряд флагы” А.Алишның беренче китабы тышлыг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E:\фотоА.А\DSCF0561.jpg"/>
          <p:cNvPicPr/>
          <p:nvPr/>
        </p:nvPicPr>
        <p:blipFill>
          <a:blip r:embed="rId1"/>
          <a:stretch/>
        </p:blipFill>
        <p:spPr>
          <a:xfrm>
            <a:off x="2478240" y="0"/>
            <a:ext cx="4059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.Алиш «Техника» </a:t>
            </a: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һәм “Пионер каләме” журналларында эшләгә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E:\фотоА.А\DSCF0600.jpg"/>
          <p:cNvPicPr/>
          <p:nvPr/>
        </p:nvPicPr>
        <p:blipFill>
          <a:blip r:embed="rId1"/>
          <a:stretch/>
        </p:blipFill>
        <p:spPr>
          <a:xfrm>
            <a:off x="0" y="1857240"/>
            <a:ext cx="4495680" cy="414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E:\фотоА.А\DSCF0575.jpg"/>
          <p:cNvPicPr/>
          <p:nvPr/>
        </p:nvPicPr>
        <p:blipFill>
          <a:blip r:embed="rId2"/>
          <a:stretch/>
        </p:blipFill>
        <p:spPr>
          <a:xfrm>
            <a:off x="4648320" y="1857240"/>
            <a:ext cx="44956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4280" y="5366880"/>
            <a:ext cx="678672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ahoma"/>
                <a:ea typeface="Tahoma"/>
              </a:rPr>
              <a:t>А.Алиш исемендәге әдәби премиянең быелгы лауреаты – язучы Вакыйф Нурие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E:\фотоА.А\DSCF0578.jpg"/>
          <p:cNvPicPr/>
          <p:nvPr/>
        </p:nvPicPr>
        <p:blipFill>
          <a:blip r:embed="rId1"/>
          <a:srcRect l="9439" t="0" r="9439" b="0"/>
          <a:stretch/>
        </p:blipFill>
        <p:spPr>
          <a:xfrm>
            <a:off x="1792440" y="0"/>
            <a:ext cx="5486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6:30:42Z</dcterms:created>
  <dc:creator>user</dc:creator>
  <dc:description/>
  <dc:language>en-US</dc:language>
  <cp:lastModifiedBy>user</cp:lastModifiedBy>
  <dcterms:modified xsi:type="dcterms:W3CDTF">2012-02-16T06:05:55Z</dcterms:modified>
  <cp:revision>36</cp:revision>
  <dc:subject/>
  <dc:title>А. Алиш “Алдакчы Наил” хикәясе. </dc:title>
</cp:coreProperties>
</file>