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23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22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681-65C1-44F3-9559-834FA5E8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FCE-19E8-4AE8-BE0D-525CF74E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0CD-5A26-494C-ACE0-AC0FACC3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427-05C7-4A99-B44B-38C75258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5185-50D4-4F3B-A904-E175D248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1B76-D54B-4401-A562-5D419053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8726-84AA-44EB-AFBF-C573B141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4411-B8BF-4710-BA4A-3B89A9B3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4BFA-40A7-4476-838B-E32CB5FE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D5F5-E161-4A20-8C17-F4488ADB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6942-A81F-42DF-B1F1-D37A27A2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5F97-80F5-4D21-870D-FC035F7F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5D69-26BB-4833-AB3D-E6E3A0DD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0A69-64A1-4ACE-B9D9-8D98073B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E0CA-DF17-4C2A-86FA-E484C022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E576-13BE-42EC-A17D-4F0BA697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BAA7-FD1B-48A5-90D9-043B861A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EF3-EECE-4498-B34F-AFBEA129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5B10-A764-4E58-86B7-E09591E5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02A-1701-4C0A-994F-7CB65F5D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42E-2FB9-44C1-8BD1-C7E84337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18C-E84C-472A-8EBF-F80E0BDE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21D-F328-4B58-9EB7-2ED565E6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27D-27F9-45DE-B24C-704DB1CD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A719-BD5B-42E8-8272-194B646E7FA3}" type="slidenum">
              <a:rPr b="0" lang="ru-RU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1708200"/>
            <a:ext cx="914688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152C-5DE0-42EC-B06A-CDF5EA2B9F9E}" type="slidenum">
              <a:rPr b="0" lang="ru-RU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1371240" y="779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240" y="2514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«Растения - индикаторы загрязненности окружающей среды»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4572000"/>
            <a:ext cx="4648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Автор: Якименко Павел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учащийся 6 класса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1433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365640" cy="3745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000"/>
                </a:solidFill>
                <a:latin typeface="Arial Narrow"/>
              </a:rPr>
              <a:t>Озон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583080" cy="3987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916360" y="1844640"/>
            <a:ext cx="32623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000"/>
                </a:solidFill>
                <a:latin typeface="Arial"/>
              </a:rPr>
              <a:t>Радиоактивность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03640" y="549360"/>
            <a:ext cx="3429000" cy="3527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990720"/>
            <a:ext cx="71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Если принять скорость усвоения углекислого газа единицей площади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елового леса за 100%,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то такая площадь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лиственного леса усвоит 120%, соснового - 160%,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тополиного - 700%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715000" y="3886200"/>
          <a:ext cx="30481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886200"/>
                    <a:ext cx="30481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Интенсивность усвоения СО</a:t>
            </a:r>
            <a:r>
              <a:rPr b="1" lang="ru-RU" sz="3600" spc="-1" strike="noStrike" baseline="-25000">
                <a:solidFill>
                  <a:srgbClr val="336699"/>
                </a:solidFill>
                <a:latin typeface="Arial Narrow"/>
              </a:rPr>
              <a:t>2</a:t>
            </a:r>
            <a:r>
              <a:rPr b="1" lang="ru-RU" sz="2800" spc="-1" strike="noStrike" baseline="-25000">
                <a:solidFill>
                  <a:srgbClr val="336699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различными деревьями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0680"/>
          <a:ext cx="674388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74388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16360" y="62028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Выводы: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Растения являются индикаторами чистоты окружающей среды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Растения выполняют роль индикаторов и биологических фильтров окружающей среды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 качестве зеленых очистителей воздуха в населенных пунктах лучше всего использовать тополиные насаждения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84720" y="3333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Литература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Артамонов В.И. «Растения и чистота природной среды», М.: Наука, 1986. - 172 с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Новиков Ю.В. «Охрана окружающей среды», М.: Высшая школа, 1999. - 287с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126864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Цель моей работы: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2666880"/>
            <a:ext cx="60958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Изучить влияние выхлопных газов на состояние растений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Составить список растений, которые можно использовать для очистки воздуха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Представить результаты своих исследований в виде диаграммы и выводов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371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Определить, действительно ли растения являются индикаторами загрязнения окружающей среды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514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Задачи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Преимущества растений - индикаторов: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Биологические индикаторы позволяют точнее установить влияние конкретных загрязнителей на живой организм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Растение - индикатор определяет комплексное воздействие на живой организм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Не требуется дополнительных материальных затрат по сравнению с химическими и физическими методами определения загрязненности окружающей среды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Растения, которые подскажут мне </a:t>
            </a:r>
            <a:br>
              <a:rPr sz="2800"/>
            </a:b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   о чистоте среды моего села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Хвойные растения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Мак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Томаты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Гладиолусы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Фасоль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Бегония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Традесканция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Водоросли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Лишайники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12682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000"/>
                </a:solidFill>
                <a:latin typeface="Times New Roman"/>
              </a:rPr>
              <a:t>Сернистый газ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780000" y="333360"/>
            <a:ext cx="4927320" cy="3695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92720" y="2781360"/>
            <a:ext cx="3041640" cy="338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258920" y="3141720"/>
            <a:ext cx="331308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45080" y="1362240"/>
            <a:ext cx="10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000"/>
                </a:solidFill>
                <a:latin typeface="Times New Roman"/>
              </a:rPr>
              <a:t>Фтор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978280" cy="3313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979640" y="2681280"/>
            <a:ext cx="313056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4880" y="1341360"/>
            <a:ext cx="31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000"/>
                </a:solidFill>
                <a:latin typeface="Times New Roman"/>
              </a:rPr>
              <a:t>Тяжелые металлы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030920" cy="3022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76720" y="1989000"/>
            <a:ext cx="3168360" cy="2367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8360" y="328464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000"/>
                </a:solidFill>
                <a:latin typeface="Arial"/>
              </a:rPr>
              <a:t>Выхлопные газы автомобилей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240360" cy="2419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4176720" cy="311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920" y="1557360"/>
            <a:ext cx="609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000"/>
                </a:solidFill>
                <a:latin typeface="Arial"/>
              </a:rPr>
              <a:t>Смог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4392360" cy="3403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56360" y="3933720"/>
            <a:ext cx="2330280" cy="259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00720" y="549360"/>
            <a:ext cx="4298760" cy="30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06:08:14Z</dcterms:created>
  <dc:creator>школа</dc:creator>
  <dc:description/>
  <dc:language>en-US</dc:language>
  <cp:lastModifiedBy>User</cp:lastModifiedBy>
  <dcterms:modified xsi:type="dcterms:W3CDTF">2012-02-17T16:04:06Z</dcterms:modified>
  <cp:revision>31</cp:revision>
  <dc:subject/>
  <dc:title>Растения- индикаторы загрязненности окр_ среды</dc:title>
</cp:coreProperties>
</file>