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E01-8C01-42A9-95A5-6DE88E46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BD1-349B-4B93-9EE9-9A5A3819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063-4F78-4677-9639-16F0E3CB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880-A454-4311-AA7E-F016A99F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56A8-332F-41C1-BFF1-8E38B138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F50B-C5E9-418A-BDA0-18EF44E9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E591-2763-408A-B978-CE68A882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A4CC-6E76-4353-9D77-C22E825A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6FC7-8F60-4B73-BF30-FE040150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CE4-CEF3-42EA-AB4F-3737AF60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6CA1-8FC3-499E-B9DB-6BB856FD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B65-9197-490C-AA35-E5C411F5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D12E-6823-4CC9-B7AD-04579E69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3FE2-1C1F-4410-AB59-6CE6A42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0C38-623E-4B9E-9406-22C06765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02D9-145E-4B57-8E27-DA0D77DE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7431-8386-4B9A-A2C3-92B809B8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E0F-4D23-4D83-B36F-1E9C2699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C49-9A26-48D8-9A56-6B923D25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10E-F939-4D65-A2C3-1C7C240A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CEF-3FF1-4AE3-8974-5806B3C1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09D-0F0E-4B4B-A8BA-908DE427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588-73DF-490C-B400-3381E26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7A5-8ED6-4CDF-BB2F-C796081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5C67-38B2-4840-ACE9-75FD6AACF3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6736-99EE-49E3-84C5-9025304814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512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Информационное моделиров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03640" y="2707920"/>
            <a:ext cx="3889440" cy="3816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1. Натуральные и информационные мод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2. Виды информационных мод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097000" y="3066120"/>
            <a:ext cx="2358360" cy="1751760"/>
            <a:chOff x="2097000" y="3066120"/>
            <a:chExt cx="2358360" cy="1751760"/>
          </a:xfrm>
        </p:grpSpPr>
        <p:sp>
          <p:nvSpPr>
            <p:cNvPr id="101" name="_s2058"/>
            <p:cNvSpPr/>
            <p:nvPr/>
          </p:nvSpPr>
          <p:spPr>
            <a:xfrm>
              <a:off x="2484720" y="3125520"/>
              <a:ext cx="1583280" cy="1107720"/>
            </a:xfrm>
            <a:custGeom>
              <a:avLst/>
              <a:gdLst>
                <a:gd name="textAreaLeft" fmla="*/ 0 w 1583280"/>
                <a:gd name="textAreaRight" fmla="*/ 1583640 w 1583280"/>
                <a:gd name="textAreaTop" fmla="*/ 0 h 1107720"/>
                <a:gd name="textAreaBottom" fmla="*/ 1107720 h 11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2059"/>
            <p:cNvSpPr/>
            <p:nvPr/>
          </p:nvSpPr>
          <p:spPr>
            <a:xfrm rot="7200000">
              <a:off x="2938680" y="3150360"/>
              <a:ext cx="1107720" cy="1583280"/>
            </a:xfrm>
            <a:custGeom>
              <a:avLst/>
              <a:gdLst>
                <a:gd name="textAreaLeft" fmla="*/ 0 w 1107720"/>
                <a:gd name="textAreaRight" fmla="*/ 1107720 w 1107720"/>
                <a:gd name="textAreaTop" fmla="*/ 0 h 1583280"/>
                <a:gd name="textAreaBottom" fmla="*/ 1583640 h 158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2060"/>
            <p:cNvSpPr/>
            <p:nvPr/>
          </p:nvSpPr>
          <p:spPr>
            <a:xfrm rot="14400000">
              <a:off x="2505240" y="3150000"/>
              <a:ext cx="1107720" cy="1583280"/>
            </a:xfrm>
            <a:custGeom>
              <a:avLst/>
              <a:gdLst>
                <a:gd name="textAreaLeft" fmla="*/ 0 w 1107720"/>
                <a:gd name="textAreaRight" fmla="*/ 1107720 w 1107720"/>
                <a:gd name="textAreaTop" fmla="*/ 0 h 1583280"/>
                <a:gd name="textAreaBottom" fmla="*/ 1583640 h 158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2055"/>
            <p:cNvSpPr/>
            <p:nvPr/>
          </p:nvSpPr>
          <p:spPr>
            <a:xfrm>
              <a:off x="3709440" y="3328200"/>
              <a:ext cx="635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2056"/>
            <p:cNvSpPr/>
            <p:nvPr/>
          </p:nvSpPr>
          <p:spPr>
            <a:xfrm>
              <a:off x="2959560" y="4239360"/>
              <a:ext cx="635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2057"/>
            <p:cNvSpPr/>
            <p:nvPr/>
          </p:nvSpPr>
          <p:spPr>
            <a:xfrm>
              <a:off x="2206800" y="3328920"/>
              <a:ext cx="635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55640" y="630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666699"/>
                </a:solidFill>
                <a:latin typeface="Arial"/>
                <a:ea typeface="Arial"/>
              </a:rPr>
              <a:t> 6,7,8 «Информатика» И. Сема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Что такое моделиров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турные модели - матери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43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51640" y="2421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451640" y="5157720"/>
            <a:ext cx="1509840" cy="152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916360" y="4797360"/>
            <a:ext cx="1535040" cy="180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2421000"/>
            <a:ext cx="33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ff"/>
                </a:solidFill>
                <a:latin typeface="Arial"/>
              </a:rPr>
              <a:t>Любая модель воспроизводит только те свойства оригинала, которые понадобятся человеку при её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использов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573360"/>
            <a:ext cx="187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Модели одного и того же объекта будут разными, если они создаются для разных 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3024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Информационные мод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Если натуральная модель – это физическое подобие, то информационная – это его </a:t>
            </a:r>
            <a:r>
              <a:rPr b="1" i="1" lang="en-US" sz="2800" spc="-1" strike="noStrike">
                <a:solidFill>
                  <a:srgbClr val="666699"/>
                </a:solidFill>
                <a:latin typeface="Arial"/>
              </a:rPr>
              <a:t>опис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6699"/>
                </a:solidFill>
                <a:uFillTx/>
                <a:latin typeface="Arial"/>
              </a:rPr>
              <a:t>Способы описания</a:t>
            </a:r>
            <a:r>
              <a:rPr b="1" lang="en-US" sz="2800" spc="-1" strike="noStrike" u="sng">
                <a:solidFill>
                  <a:srgbClr val="99ff66"/>
                </a:solidFill>
                <a:uFillTx/>
                <a:latin typeface="Arial"/>
              </a:rPr>
              <a:t>: </a:t>
            </a:r>
            <a:r>
              <a:rPr b="1" i="1" lang="en-US" sz="2800" spc="-1" strike="noStrike" u="sng">
                <a:solidFill>
                  <a:srgbClr val="99ff66"/>
                </a:solidFill>
                <a:uFillTx/>
                <a:latin typeface="Arial"/>
              </a:rPr>
              <a:t>вербальные (словами), математические, графически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789360"/>
            <a:ext cx="4248000" cy="22269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Современным инструментом для информационного моделирования является компью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aptop"/>
          <p:cNvSpPr/>
          <p:nvPr/>
        </p:nvSpPr>
        <p:spPr>
          <a:xfrm>
            <a:off x="6877080" y="4365720"/>
            <a:ext cx="1809720" cy="1361880"/>
          </a:xfrm>
          <a:prstGeom prst="pi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491160" cy="847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Что же такое модель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58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Модель – это упрощё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99"/>
                </a:solidFill>
                <a:latin typeface="Arial"/>
              </a:rPr>
              <a:t>Информационная модель описывает объект в форме различных знаков: букв, цифр, формул…</a:t>
            </a: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Это называют формальным обозначением в определённой знаковой системе или </a:t>
            </a:r>
            <a:r>
              <a:rPr b="1" i="1" lang="en-US" sz="3200" spc="-1" strike="noStrike" u="sng">
                <a:solidFill>
                  <a:srgbClr val="99ff66"/>
                </a:solidFill>
                <a:uFillTx/>
                <a:latin typeface="Arial"/>
              </a:rPr>
              <a:t>формализац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Music"/>
          <p:cNvSpPr/>
          <p:nvPr/>
        </p:nvSpPr>
        <p:spPr>
          <a:xfrm>
            <a:off x="7596360" y="5084640"/>
            <a:ext cx="936360" cy="136872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ebpage"/>
          <p:cNvSpPr/>
          <p:nvPr/>
        </p:nvSpPr>
        <p:spPr>
          <a:xfrm>
            <a:off x="684360" y="1628640"/>
            <a:ext cx="1079280" cy="12240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Графические информационные моде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99ff66"/>
                </a:solidFill>
                <a:latin typeface="Arial"/>
              </a:rPr>
              <a:t>Карты </a:t>
            </a:r>
            <a:r>
              <a:rPr b="1" i="1" lang="en-US" sz="2800" spc="-1" strike="noStrike">
                <a:solidFill>
                  <a:srgbClr val="ff9933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описывает конкретную               местность, создаётся с определённой целью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Arial"/>
              </a:rPr>
              <a:t>Чертежи, схемы, граф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erver"/>
          <p:cNvSpPr/>
          <p:nvPr/>
        </p:nvSpPr>
        <p:spPr>
          <a:xfrm>
            <a:off x="7596360" y="3860640"/>
            <a:ext cx="1366560" cy="115272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572080" y="4653000"/>
            <a:ext cx="1604880" cy="1800000"/>
            <a:chOff x="5572080" y="4653000"/>
            <a:chExt cx="1604880" cy="1800000"/>
          </a:xfrm>
        </p:grpSpPr>
        <p:cxnSp>
          <p:nvCxnSpPr>
            <p:cNvPr id="128" name="_s17427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6474960" y="5271480"/>
              <a:ext cx="360720" cy="562320"/>
            </a:xfrm>
            <a:prstGeom prst="bentConnector3">
              <a:avLst>
                <a:gd name="adj1" fmla="val 2087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7426"/>
            <p:cNvCxnSpPr>
              <a:stCxn id="132" idx="0"/>
              <a:endCxn id="130" idx="2"/>
            </p:cNvCxnSpPr>
            <p:nvPr/>
          </p:nvCxnSpPr>
          <p:spPr>
            <a:xfrm flipV="1">
              <a:off x="6374160" y="5372640"/>
              <a:ext cx="1080" cy="36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7425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5913000" y="5271840"/>
              <a:ext cx="360720" cy="562320"/>
            </a:xfrm>
            <a:prstGeom prst="bentConnector3">
              <a:avLst>
                <a:gd name="adj1" fmla="val 2087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17421"/>
            <p:cNvSpPr/>
            <p:nvPr/>
          </p:nvSpPr>
          <p:spPr>
            <a:xfrm>
              <a:off x="6133680" y="4653000"/>
              <a:ext cx="481320" cy="720000"/>
            </a:xfrm>
            <a:custGeom>
              <a:avLst/>
              <a:gdLst>
                <a:gd name="textAreaLeft" fmla="*/ 23400 w 481320"/>
                <a:gd name="textAreaRight" fmla="*/ 457920 w 481320"/>
                <a:gd name="textAreaTop" fmla="*/ 23400 h 720000"/>
                <a:gd name="textAreaBottom" fmla="*/ 696600 h 720000"/>
              </a:gdLst>
              <a:ahLst/>
              <a:rect l="textAreaLeft" t="textAreaTop" r="textAreaRight" b="textAreaBottom"/>
              <a:pathLst>
                <a:path w="21600" h="32303">
                  <a:moveTo>
                    <a:pt x="3600" y="0"/>
                  </a:moveTo>
                  <a:arcTo wR="3600" hR="3600" stAng="16200000" swAng="-5400000"/>
                  <a:lnTo>
                    <a:pt x="0" y="28703"/>
                  </a:lnTo>
                  <a:arcTo wR="3600" hR="3600" stAng="10800000" swAng="-5400000"/>
                  <a:lnTo>
                    <a:pt x="18000" y="32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7422"/>
            <p:cNvSpPr/>
            <p:nvPr/>
          </p:nvSpPr>
          <p:spPr>
            <a:xfrm>
              <a:off x="5572080" y="5733000"/>
              <a:ext cx="481320" cy="720000"/>
            </a:xfrm>
            <a:custGeom>
              <a:avLst/>
              <a:gdLst>
                <a:gd name="textAreaLeft" fmla="*/ 23400 w 481320"/>
                <a:gd name="textAreaRight" fmla="*/ 457920 w 481320"/>
                <a:gd name="textAreaTop" fmla="*/ 23400 h 720000"/>
                <a:gd name="textAreaBottom" fmla="*/ 696600 h 720000"/>
              </a:gdLst>
              <a:ahLst/>
              <a:rect l="textAreaLeft" t="textAreaTop" r="textAreaRight" b="textAreaBottom"/>
              <a:pathLst>
                <a:path w="21600" h="32303">
                  <a:moveTo>
                    <a:pt x="3600" y="0"/>
                  </a:moveTo>
                  <a:arcTo wR="3600" hR="3600" stAng="16200000" swAng="-5400000"/>
                  <a:lnTo>
                    <a:pt x="0" y="28703"/>
                  </a:lnTo>
                  <a:arcTo wR="3600" hR="3600" stAng="10800000" swAng="-5400000"/>
                  <a:lnTo>
                    <a:pt x="18000" y="32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7423"/>
            <p:cNvSpPr/>
            <p:nvPr/>
          </p:nvSpPr>
          <p:spPr>
            <a:xfrm>
              <a:off x="6133680" y="5733000"/>
              <a:ext cx="481320" cy="720000"/>
            </a:xfrm>
            <a:custGeom>
              <a:avLst/>
              <a:gdLst>
                <a:gd name="textAreaLeft" fmla="*/ 23400 w 481320"/>
                <a:gd name="textAreaRight" fmla="*/ 457920 w 481320"/>
                <a:gd name="textAreaTop" fmla="*/ 23400 h 720000"/>
                <a:gd name="textAreaBottom" fmla="*/ 696600 h 720000"/>
              </a:gdLst>
              <a:ahLst/>
              <a:rect l="textAreaLeft" t="textAreaTop" r="textAreaRight" b="textAreaBottom"/>
              <a:pathLst>
                <a:path w="21600" h="32303">
                  <a:moveTo>
                    <a:pt x="3600" y="0"/>
                  </a:moveTo>
                  <a:arcTo wR="3600" hR="3600" stAng="16200000" swAng="-5400000"/>
                  <a:lnTo>
                    <a:pt x="0" y="28703"/>
                  </a:lnTo>
                  <a:arcTo wR="3600" hR="3600" stAng="10800000" swAng="-5400000"/>
                  <a:lnTo>
                    <a:pt x="18000" y="32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7424"/>
            <p:cNvSpPr/>
            <p:nvPr/>
          </p:nvSpPr>
          <p:spPr>
            <a:xfrm>
              <a:off x="6695640" y="5733000"/>
              <a:ext cx="481320" cy="720000"/>
            </a:xfrm>
            <a:custGeom>
              <a:avLst/>
              <a:gdLst>
                <a:gd name="textAreaLeft" fmla="*/ 23400 w 481320"/>
                <a:gd name="textAreaRight" fmla="*/ 457920 w 481320"/>
                <a:gd name="textAreaTop" fmla="*/ 23400 h 720000"/>
                <a:gd name="textAreaBottom" fmla="*/ 696600 h 720000"/>
              </a:gdLst>
              <a:ahLst/>
              <a:rect l="textAreaLeft" t="textAreaTop" r="textAreaRight" b="textAreaBottom"/>
              <a:pathLst>
                <a:path w="21600" h="32303">
                  <a:moveTo>
                    <a:pt x="3600" y="0"/>
                  </a:moveTo>
                  <a:arcTo wR="3600" hR="3600" stAng="16200000" swAng="-5400000"/>
                  <a:lnTo>
                    <a:pt x="0" y="28703"/>
                  </a:lnTo>
                  <a:arcTo wR="3600" hR="3600" stAng="10800000" swAng="-5400000"/>
                  <a:lnTo>
                    <a:pt x="18000" y="32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762440" cy="919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Табличные модел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62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1484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268280"/>
            <a:ext cx="77774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66"/>
                </a:solidFill>
                <a:latin typeface="Arial"/>
              </a:rPr>
              <a:t>Для представления информационных моделей широко  используются прямоугольны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В таблице «объект-свойство» одна строка содержит информацию об одном объекте. Столбцы – отдельные сведения (свойства) объе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56000" y="4292640"/>
          <a:ext cx="5111640" cy="2590920"/>
        </p:xfrm>
        <a:graphic>
          <a:graphicData uri="http://schemas.openxmlformats.org/drawingml/2006/table">
            <a:tbl>
              <a:tblPr/>
              <a:tblGrid>
                <a:gridCol w="1704960"/>
                <a:gridCol w="1701720"/>
                <a:gridCol w="1704960"/>
              </a:tblGrid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Темп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Ос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10.09.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+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Дожд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11.09.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+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Без осад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12.09.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+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Тум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rot="1195800">
            <a:off x="7929360" y="580500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В таблице «объект-объект» отражается взаимосвязь между различными объект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Числовая прямоугольная таблица называется матриц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427640" y="1600200"/>
          <a:ext cx="4716360" cy="2189160"/>
        </p:xfrm>
        <a:graphic>
          <a:graphicData uri="http://schemas.openxmlformats.org/drawingml/2006/table">
            <a:tbl>
              <a:tblPr/>
              <a:tblGrid>
                <a:gridCol w="1296720"/>
                <a:gridCol w="1152720"/>
                <a:gridCol w="1224000"/>
                <a:gridCol w="104292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Уче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Ру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Алгеб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Физ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Петр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Ив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Сидор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Татья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003640" y="33336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ff"/>
                </a:solidFill>
                <a:latin typeface="Arial"/>
              </a:rPr>
              <a:t>Успева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427640" y="4581360"/>
          <a:ext cx="4321080" cy="208764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  <a:gridCol w="1081080"/>
                <a:gridCol w="100800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Уче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Ге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Цветовод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Тан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Иван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Пёт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Крюч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Серг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409920" y="479736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41385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ff66"/>
                </a:solidFill>
                <a:latin typeface="Arial"/>
              </a:rPr>
              <a:t>Факульт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3:53:38Z</dcterms:created>
  <dc:creator>олег</dc:creator>
  <dc:description/>
  <dc:language>en-US</dc:language>
  <cp:lastModifiedBy>олег</cp:lastModifiedBy>
  <dcterms:modified xsi:type="dcterms:W3CDTF">2008-10-12T15:51:42Z</dcterms:modified>
  <cp:revision>8</cp:revision>
  <dc:subject/>
  <dc:title>Информационное моделирование</dc:title>
</cp:coreProperties>
</file>