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8DB7-E561-4238-81E8-C8E3C707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BA75-3D77-42F2-950F-44982C75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EA3C-3CD9-4749-914C-22FF2C39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0C9C-5AA7-4ED5-A16D-B6B5721B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8C45-05A3-4B68-8B71-30736039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2048-6A46-4826-A151-B427B1D9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5AC5-2E4E-46F0-B67E-287A3895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7283-E186-4D38-854B-6E74D1D7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C394-4251-41EE-87C3-9FC8F1DB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853A-2A63-4BE8-94E2-13766610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844A-230D-4F53-B803-C47604A5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B536-B360-4BA2-B275-98329902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07D8-1F29-4E8C-A191-6BDDAE7E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F157-3A38-4E9E-BF84-96A16D73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EC07-0DD6-49D5-9474-7E42195D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6261-916C-489B-9534-D89F53F1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8E74-075A-406B-AF68-F147C85D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003F-C718-422D-9038-2A338A04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E691-07FA-42F6-9683-6D2B9180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DBEC-5AFE-4EAF-BFBB-54C62792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003F-973F-4797-B3D7-C46877BA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2C89-3A6A-4451-88DB-3F7F06F4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D570-0BD1-432D-8599-06024A50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1AB9-0109-497B-AF38-4BDC2DBF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0318-1CE7-428E-B55C-820E67358C8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2D38-E6EA-472D-8A3A-A53FB557F1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Математический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КВН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6 класс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551400" y="2128680"/>
            <a:ext cx="466704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Тем, кто любит математику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Тем, кто учит математику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Тем, кто еще не знает, что мож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Любить математику –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ОСВЯЩАЕТСЯ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427640" y="2016000"/>
            <a:ext cx="417672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виду того, что на нашем конкурсе собирается общество не просто людей, а людей веселых, умных и находчивых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РАЗРЕШАЕТСЯ: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 Шевелить мозга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 Выдавать умные мысл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. Совать нос в любую дыру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ЗАПРЕЩАЕТСЯ: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 Шуметь и буянить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 Быть равнодушным и ленивым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. Быть скупым на остроуми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Ребу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635280" y="1700280"/>
                <a:ext cx="2300400" cy="47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284720" y="1916280"/>
            <a:ext cx="1792080" cy="1927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627280" y="270828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213372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44560" y="3245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7840" y="1346040"/>
            <a:ext cx="73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600" spc="-1" strike="noStrike">
                <a:solidFill>
                  <a:srgbClr val="000000"/>
                </a:solidFill>
                <a:latin typeface="Verdana"/>
                <a:cs typeface="Arial"/>
              </a:rPr>
              <a:t>״</a:t>
            </a:r>
            <a:r>
              <a:rPr b="0" lang="ru-RU" sz="9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84920" y="2340000"/>
            <a:ext cx="59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24000" y="0"/>
            <a:ext cx="462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Verdana"/>
              </a:rPr>
              <a:t>Ребу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Анаграмм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ЧУЛ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19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РЕЗОТОК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195640" y="2867040"/>
            <a:ext cx="446400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МАПРЯЯ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19280" y="177300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РИПЕТРЕМ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444560" y="3245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76360" y="2349360"/>
            <a:ext cx="59040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spcBef>
                <a:spcPts val="1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До новых встреч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413240" y="32457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Verdana"/>
                <a:cs typeface="Arial"/>
              </a:rPr>
              <a:t>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195640" y="2637000"/>
            <a:ext cx="489096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5:46:49Z</dcterms:created>
  <dc:creator>Palto</dc:creator>
  <dc:description/>
  <dc:language>en-US</dc:language>
  <cp:lastModifiedBy>Palto</cp:lastModifiedBy>
  <dcterms:modified xsi:type="dcterms:W3CDTF">2010-11-14T17:20:21Z</dcterms:modified>
  <cp:revision>2</cp:revision>
  <dc:subject/>
  <dc:title>Математический  КВН</dc:title>
</cp:coreProperties>
</file>