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9.jpeg" ContentType="image/jpeg"/>
  <Override PartName="/ppt/media/image11.jpeg" ContentType="image/jpeg"/>
  <Override PartName="/ppt/media/image12.wmf" ContentType="image/x-wmf"/>
  <Override PartName="/ppt/media/image13.wmf" ContentType="image/x-wmf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C5E-3B4B-4BF8-B82B-E02E7857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C179-B161-439B-8952-6808175D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D689-BEF5-4989-9DFC-4E8D519F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7330-A5D0-4AA9-982C-F7C70E45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383-B266-4711-B86B-91589732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1B5-BBBD-498E-A8E3-76D1F30D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BD0E-CC12-471D-9344-7DE2DB53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F79E-3971-4299-AF77-306354C3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119-673A-4DFE-BC65-218ED6A6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826-9C87-4A4D-B476-EE09484B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4E3-88E6-47DB-868E-F6D5B070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A48E-4687-4496-B7C4-330EFDA8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D4D9-84CE-49FF-A651-94B2AD08A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755640" y="476280"/>
            <a:ext cx="763272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2205000"/>
            <a:ext cx="6337440" cy="24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Типы речи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3" name="Picture 6" descr="Biz00017"/>
          <p:cNvPicPr/>
          <p:nvPr/>
        </p:nvPicPr>
        <p:blipFill>
          <a:blip r:embed="rId1"/>
          <a:stretch/>
        </p:blipFill>
        <p:spPr>
          <a:xfrm>
            <a:off x="468360" y="4508640"/>
            <a:ext cx="3476520" cy="20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5554800" cy="792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ипы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48560" y="1622520"/>
            <a:ext cx="2238120" cy="398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вествование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400560" y="1647720"/>
            <a:ext cx="2035080" cy="398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Описание  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373080" y="1603440"/>
            <a:ext cx="1854000" cy="398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ассуждение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4572000" y="981000"/>
            <a:ext cx="0" cy="6476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H="1">
            <a:off x="1187280" y="981000"/>
            <a:ext cx="3384720" cy="576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72000" y="981000"/>
            <a:ext cx="3384720" cy="576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250920" y="2492280"/>
            <a:ext cx="0" cy="2160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5092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250920" y="2492280"/>
            <a:ext cx="23763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2627280" y="2492280"/>
            <a:ext cx="0" cy="20890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3492360" y="2421000"/>
            <a:ext cx="2016360" cy="2232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6443640" y="2565360"/>
            <a:ext cx="0" cy="21589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Oval 16"/>
          <p:cNvSpPr/>
          <p:nvPr/>
        </p:nvSpPr>
        <p:spPr>
          <a:xfrm>
            <a:off x="6443640" y="2349360"/>
            <a:ext cx="1441440" cy="1656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9" name="Picture 17" descr="1024-12116"/>
          <p:cNvPicPr/>
          <p:nvPr/>
        </p:nvPicPr>
        <p:blipFill>
          <a:blip r:embed="rId1"/>
          <a:stretch/>
        </p:blipFill>
        <p:spPr>
          <a:xfrm>
            <a:off x="3708360" y="2924280"/>
            <a:ext cx="165744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j0293828"/>
          <p:cNvPicPr/>
          <p:nvPr/>
        </p:nvPicPr>
        <p:blipFill>
          <a:blip r:embed="rId2"/>
          <a:stretch/>
        </p:blipFill>
        <p:spPr>
          <a:xfrm flipH="1" rot="21327000">
            <a:off x="539640" y="2491560"/>
            <a:ext cx="2013120" cy="1101960"/>
          </a:xfrm>
          <a:prstGeom prst="rect">
            <a:avLst/>
          </a:prstGeom>
          <a:ln w="0">
            <a:noFill/>
          </a:ln>
        </p:spPr>
      </p:pic>
      <p:sp>
        <p:nvSpPr>
          <p:cNvPr id="61" name="Tree"/>
          <p:cNvSpPr/>
          <p:nvPr/>
        </p:nvSpPr>
        <p:spPr>
          <a:xfrm>
            <a:off x="539640" y="3284640"/>
            <a:ext cx="1871640" cy="1368360"/>
          </a:xfrm>
          <a:custGeom>
            <a:avLst/>
            <a:gdLst>
              <a:gd name="textAreaLeft" fmla="*/ 65880 w 1871640"/>
              <a:gd name="textAreaRight" fmla="*/ 1825920 w 1871640"/>
              <a:gd name="textAreaTop" fmla="*/ 1422720 h 1368360"/>
              <a:gd name="textAreaBottom" fmla="*/ 179208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2" name="Picture 20" descr="j0304933"/>
          <p:cNvPicPr/>
          <p:nvPr/>
        </p:nvPicPr>
        <p:blipFill>
          <a:blip r:embed="rId3"/>
          <a:stretch/>
        </p:blipFill>
        <p:spPr>
          <a:xfrm>
            <a:off x="1763640" y="4365720"/>
            <a:ext cx="936720" cy="541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1"/>
          <p:cNvSpPr/>
          <p:nvPr/>
        </p:nvSpPr>
        <p:spPr>
          <a:xfrm>
            <a:off x="158040" y="510552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произошло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33640" y="539280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скольк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исунков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(фотографий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666720" y="6113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лаголы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419640" y="515772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акой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дин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исунок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(фотография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лагательные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6641640" y="5032440"/>
            <a:ext cx="186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чему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т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исунков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фотографий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речи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Picture 26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56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806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Повествование и его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Organization Chart 3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71" name="_s1028"/>
            <p:cNvCxnSpPr>
              <a:stCxn id="72" idx="0"/>
              <a:endCxn id="73" idx="2"/>
            </p:cNvCxnSpPr>
            <p:nvPr/>
          </p:nvCxnSpPr>
          <p:spPr>
            <a:xfrm flipV="1" rot="16200000">
              <a:off x="5718960" y="2261160"/>
              <a:ext cx="905400" cy="32011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74" name="_s1029"/>
            <p:cNvCxnSpPr>
              <a:stCxn id="75" idx="0"/>
              <a:endCxn id="73" idx="2"/>
            </p:cNvCxnSpPr>
            <p:nvPr/>
          </p:nvCxnSpPr>
          <p:spPr>
            <a:xfrm flipV="1" rot="16200000">
              <a:off x="4651920" y="3328200"/>
              <a:ext cx="905400" cy="106740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76" name="_s1030"/>
            <p:cNvCxnSpPr>
              <a:stCxn id="77" idx="0"/>
              <a:endCxn id="73" idx="2"/>
            </p:cNvCxnSpPr>
            <p:nvPr/>
          </p:nvCxnSpPr>
          <p:spPr>
            <a:xfrm flipH="1" flipV="1" rot="5400000">
              <a:off x="3585600" y="3328560"/>
              <a:ext cx="905400" cy="106704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78" name="_s1031"/>
            <p:cNvCxnSpPr>
              <a:stCxn id="79" idx="0"/>
              <a:endCxn id="73" idx="2"/>
            </p:cNvCxnSpPr>
            <p:nvPr/>
          </p:nvCxnSpPr>
          <p:spPr>
            <a:xfrm flipH="1" flipV="1" rot="5400000">
              <a:off x="2518560" y="2261520"/>
              <a:ext cx="905400" cy="32007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73" name="_s1032"/>
            <p:cNvSpPr/>
            <p:nvPr/>
          </p:nvSpPr>
          <p:spPr>
            <a:xfrm>
              <a:off x="3657240" y="1600200"/>
              <a:ext cx="1828440" cy="1809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3300"/>
              </a:solidFill>
              <a:miter/>
            </a:ln>
            <a:effectLst>
              <a:outerShdw dist="63504" dir="19383909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" name="_s1033"/>
            <p:cNvSpPr/>
            <p:nvPr/>
          </p:nvSpPr>
          <p:spPr>
            <a:xfrm>
              <a:off x="457200" y="4314960"/>
              <a:ext cx="1828440" cy="1809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7" name="_s1034"/>
            <p:cNvSpPr/>
            <p:nvPr/>
          </p:nvSpPr>
          <p:spPr>
            <a:xfrm>
              <a:off x="2590560" y="4314960"/>
              <a:ext cx="1828440" cy="1809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5" name="_s1035"/>
            <p:cNvSpPr/>
            <p:nvPr/>
          </p:nvSpPr>
          <p:spPr>
            <a:xfrm>
              <a:off x="4724280" y="4314960"/>
              <a:ext cx="1828440" cy="1809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2" name="_s1036"/>
            <p:cNvSpPr/>
            <p:nvPr/>
          </p:nvSpPr>
          <p:spPr>
            <a:xfrm>
              <a:off x="6857640" y="4314960"/>
              <a:ext cx="1828440" cy="1809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0" name="Text Box 14"/>
          <p:cNvSpPr/>
          <p:nvPr/>
        </p:nvSpPr>
        <p:spPr>
          <a:xfrm>
            <a:off x="395280" y="4869000"/>
            <a:ext cx="194940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ступление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2535120" y="481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2627280" y="4869000"/>
            <a:ext cx="171972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Завязк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2679840" y="532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4644360" y="4869000"/>
            <a:ext cx="181872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азвязк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3637800" y="1844640"/>
            <a:ext cx="1901160" cy="8254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УЛЬМИН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ИЯ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457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Line 21"/>
          <p:cNvSpPr/>
          <p:nvPr/>
        </p:nvSpPr>
        <p:spPr>
          <a:xfrm flipV="1">
            <a:off x="4572000" y="4076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1332000" y="4149720"/>
            <a:ext cx="216036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Line 23"/>
          <p:cNvSpPr/>
          <p:nvPr/>
        </p:nvSpPr>
        <p:spPr>
          <a:xfrm flipV="1">
            <a:off x="3492360" y="3429000"/>
            <a:ext cx="1079640" cy="720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4572000" y="3429000"/>
            <a:ext cx="1079640" cy="79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5651640" y="4149720"/>
            <a:ext cx="216036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2" name="Picture 26" descr="Лена1"/>
          <p:cNvPicPr/>
          <p:nvPr/>
        </p:nvPicPr>
        <p:blipFill>
          <a:blip r:embed="rId6"/>
          <a:stretch/>
        </p:blipFill>
        <p:spPr>
          <a:xfrm>
            <a:off x="684360" y="765000"/>
            <a:ext cx="2201760" cy="3384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6877080" y="4869000"/>
            <a:ext cx="204948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Заключение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4" name="Picture 29" descr=""/>
          <p:cNvPicPr/>
          <p:nvPr/>
        </p:nvPicPr>
        <p:blipFill>
          <a:blip r:embed="rId7"/>
          <a:stretch/>
        </p:blipFill>
        <p:spPr>
          <a:xfrm>
            <a:off x="6804000" y="189000"/>
            <a:ext cx="2340000" cy="1533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692360" y="2276640"/>
            <a:ext cx="619272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бъекты описания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  зависимости  от   ситуации   и целей могут быть самые  разные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6" name="Picture 3" descr="m-9202"/>
          <p:cNvPicPr/>
          <p:nvPr/>
        </p:nvPicPr>
        <p:blipFill>
          <a:blip r:embed="rId1"/>
          <a:stretch/>
        </p:blipFill>
        <p:spPr>
          <a:xfrm>
            <a:off x="3419640" y="4005360"/>
            <a:ext cx="2232000" cy="207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m-9961"/>
          <p:cNvPicPr/>
          <p:nvPr/>
        </p:nvPicPr>
        <p:blipFill>
          <a:blip r:embed="rId2"/>
          <a:stretch/>
        </p:blipFill>
        <p:spPr>
          <a:xfrm>
            <a:off x="324000" y="333360"/>
            <a:ext cx="2011320" cy="165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m-8697"/>
          <p:cNvPicPr/>
          <p:nvPr/>
        </p:nvPicPr>
        <p:blipFill>
          <a:blip r:embed="rId3"/>
          <a:stretch/>
        </p:blipFill>
        <p:spPr>
          <a:xfrm>
            <a:off x="6588000" y="333360"/>
            <a:ext cx="2011320" cy="158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090386"/>
          <p:cNvPicPr/>
          <p:nvPr/>
        </p:nvPicPr>
        <p:blipFill>
          <a:blip r:embed="rId4"/>
          <a:stretch/>
        </p:blipFill>
        <p:spPr>
          <a:xfrm>
            <a:off x="6516720" y="4292640"/>
            <a:ext cx="2338200" cy="2001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240719"/>
          <p:cNvPicPr/>
          <p:nvPr/>
        </p:nvPicPr>
        <p:blipFill>
          <a:blip r:embed="rId5"/>
          <a:stretch/>
        </p:blipFill>
        <p:spPr>
          <a:xfrm>
            <a:off x="468360" y="4149720"/>
            <a:ext cx="1660320" cy="208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m-8635"/>
          <p:cNvPicPr/>
          <p:nvPr/>
        </p:nvPicPr>
        <p:blipFill>
          <a:blip r:embed="rId6"/>
          <a:stretch/>
        </p:blipFill>
        <p:spPr>
          <a:xfrm>
            <a:off x="3635280" y="189000"/>
            <a:ext cx="1650960" cy="1439640"/>
          </a:xfrm>
          <a:prstGeom prst="rect">
            <a:avLst/>
          </a:prstGeom>
          <a:ln w="0">
            <a:noFill/>
          </a:ln>
        </p:spPr>
      </p:pic>
      <p:sp>
        <p:nvSpPr>
          <p:cNvPr id="102" name="Line 9"/>
          <p:cNvSpPr/>
          <p:nvPr/>
        </p:nvSpPr>
        <p:spPr>
          <a:xfrm>
            <a:off x="4427640" y="3500280"/>
            <a:ext cx="0" cy="505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1618920" y="3429000"/>
            <a:ext cx="2808360" cy="576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4427640" y="3429000"/>
            <a:ext cx="309708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 flipV="1">
            <a:off x="4427640" y="1628280"/>
            <a:ext cx="0" cy="505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 flipH="1" flipV="1">
            <a:off x="2339640" y="1052280"/>
            <a:ext cx="2087640" cy="1081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V="1">
            <a:off x="4427640" y="1052280"/>
            <a:ext cx="2089080" cy="1081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460"/>
                            </p:stCondLst>
                            <p:childTnLst>
                              <p:par>
                                <p:cTn id="20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46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21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96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460"/>
                            </p:stCondLst>
                            <p:childTnLst>
                              <p:par>
                                <p:cTn id="21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946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9960"/>
                            </p:stCondLst>
                            <p:childTnLst>
                              <p:par>
                                <p:cTn id="2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196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2460"/>
                            </p:stCondLst>
                            <p:childTnLst>
                              <p:par>
                                <p:cTn id="2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446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4960"/>
                            </p:stCondLst>
                            <p:childTnLst>
                              <p:par>
                                <p:cTn id="2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39640" y="333360"/>
            <a:ext cx="6840720" cy="1312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Рассуждение  и  его  структура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9320" y="1263600"/>
            <a:ext cx="8882640" cy="673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ссужд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– это словесное  изложение , разъяснение, подтвержд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какой – либо мысли 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10520" y="2198520"/>
            <a:ext cx="9053280" cy="1221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ассужд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– очень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ажный тип речи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: чтобы  убедить в чём – то, надо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уметь рассуждать , доказывать , логически мыслить , делать обоснован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ные выводы . Это умение необходимо ,чтобы опровергнуть точку зрени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оппонента , с которым вы не согласны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900000" y="3573360"/>
            <a:ext cx="82440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омпозиция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Тезис ( высказывается какая – то мысль 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Аргументы( доказательства  или  опровержение  этой  мысли)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а)…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б)…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в)…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627280" y="5084640"/>
            <a:ext cx="914400" cy="609840"/>
          </a:xfrm>
          <a:prstGeom prst="rightArrowCallout">
            <a:avLst>
              <a:gd name="adj1" fmla="val 25002"/>
              <a:gd name="adj2" fmla="val 25000"/>
              <a:gd name="adj3" fmla="val 24990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618360" y="5176800"/>
            <a:ext cx="545688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бедительные, сопровождаемые примерам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900720" y="580536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Вывод ( заключение 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58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968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6"/>
          <p:cNvSpPr txBox="1"/>
          <p:nvPr/>
        </p:nvSpPr>
        <p:spPr>
          <a:xfrm>
            <a:off x="1332000" y="404640"/>
            <a:ext cx="65530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спользованные ресурс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88640" y="2108160"/>
            <a:ext cx="764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.Розенталь Д.Э Практическая стилистика русского языка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.: Высшая школа, 1998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2. http://www.gifzona.ru/i/ok_d/05.gif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http://images.google.ru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9:02:55Z</dcterms:created>
  <dc:creator>Учитель</dc:creator>
  <dc:description/>
  <dc:language>en-US</dc:language>
  <cp:lastModifiedBy>Admin</cp:lastModifiedBy>
  <dcterms:modified xsi:type="dcterms:W3CDTF">2012-02-14T12:58:32Z</dcterms:modified>
  <cp:revision>78</cp:revision>
  <dc:subject/>
  <dc:title>Слайд 1</dc:title>
</cp:coreProperties>
</file>