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BE8E-49FA-4871-AAEA-607797C3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105-A866-419F-8070-9FF2D6AD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29C-1DCD-4183-8344-7E164A43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7F4-1D59-4573-BBB3-F2BB873C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E9F6-5AAF-4BF3-8B3E-032BC5B8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47AB-DB7F-4092-9E99-44309785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847D-FBD6-4826-992C-65464F0F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6F86-FB6E-49F6-A063-19B25980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50C0-E2AB-43A5-9E1A-A867248E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2FB0-BD69-4D5C-962C-79EC065D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0FC8-2643-433E-91B9-98965772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A41-B45D-4E56-B3FD-2D053655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6E55-D636-433E-B161-9C385B70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D849-7041-4BC7-8BEF-10033505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0A4F-5524-4212-AAA6-B0E9FD7E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504E-4C02-4024-9E83-79BCCB88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FE7B-3445-42F3-A720-148D53F0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35129-70CD-4EC4-91E8-320D4DA6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A549F-DB37-4B5C-A4BE-8D9AEBCD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24E6A-A4B2-444A-B0F1-AD547DD4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84AEC-056A-460E-9FA5-92C9228A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BE382-E0DE-4B7D-9DE7-BF7A9521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B0B-B943-4F45-8B41-0BA84350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F4DA4-A194-42AA-B7AF-54AE5C55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938BB-1E92-4FFA-9C78-B7945708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CDE86-7674-4812-93F4-516630E3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275FD-ABA1-4EFC-BB04-ABB04676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6FABA-4122-4AC6-AFF0-65AD96B4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6624C-8296-4F53-BE6C-D32C6EBB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E6346-A794-4BB6-B9E9-31424807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11E6-FD1F-4EF3-9341-FAEE3D23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51C-762E-4AC1-BFC5-C9400616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31A-2781-45AC-A43C-7CC55EC7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416-BFED-4786-BE1B-1C982FBE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802-7655-4FC8-8C33-8BC41E87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BF4-F76E-4D23-824D-DB7544A6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96F8-DF17-494E-964F-0F3E55BF89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B6C2-0EFE-4B89-866A-56FE5BEDBA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8AD2-A28F-4F13-AF0A-E3D5F3244F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1413000"/>
            <a:ext cx="661968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аботы по обучению детей дошкольного возраста правилам безопасного поведения на дорогах и  улицах города в современ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140360" y="4292640"/>
            <a:ext cx="39924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Заведующая МБДО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детским садом №15 «Светлячо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Н.Н.Агап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знаний детей по ПД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352584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ший дошкольный возра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359892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дошкольный возра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Содержимое 8" descr=""/>
          <p:cNvPicPr/>
          <p:nvPr/>
        </p:nvPicPr>
        <p:blipFill>
          <a:blip r:embed="rId1"/>
          <a:stretch/>
        </p:blipFill>
        <p:spPr>
          <a:xfrm>
            <a:off x="849240" y="1865160"/>
            <a:ext cx="3845160" cy="4094280"/>
          </a:xfrm>
          <a:prstGeom prst="rect">
            <a:avLst/>
          </a:prstGeom>
          <a:ln w="0">
            <a:noFill/>
          </a:ln>
        </p:spPr>
      </p:pic>
      <p:pic>
        <p:nvPicPr>
          <p:cNvPr id="156" name="Содержимое 9" descr=""/>
          <p:cNvPicPr/>
          <p:nvPr/>
        </p:nvPicPr>
        <p:blipFill>
          <a:blip r:embed="rId2"/>
          <a:stretch/>
        </p:blipFill>
        <p:spPr>
          <a:xfrm>
            <a:off x="4594320" y="2124000"/>
            <a:ext cx="370044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эффективности работы МБД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99640" y="836280"/>
            <a:ext cx="7417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регистрировано ни одного случая ДТП с участием воспитанников МБДОУ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 год - коллектив награжден Грамотой Управления образования за оригинальность и творческий подход в городском конкурсе «Подарок юному пешеходу»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год - воспитанники детского сада награждены дипломом за участие в городском конкурсе «Дорогой красок»в номинации «Лучшая коллективная работа»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год - коллектив детского сада стал лауреатом областного конкурса «Зеленый огонек» и награжден грамотой Министерства образования Московской област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работы педагогов освещен в СМИ 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ета«ВИП Юго-Восток», на сайтах Управления образования администрации г.о. Коломна и Министерства образования Московской области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ортаж о работе МБДОУ по обучению детей правилам дорожного движения и формированию основ безопасного поведения на Коломенском Т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ортаж об участии в областном конкурсе «Зеленый огонек» на Коломенском Т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леканале ТВ-Центр показан репортаж из опыта работы ДОУ «Вырастить из ребенка «здоровую личность», в котором освещался и опыт работы коллектива по обучению детей правилам безопасного поведения на дорогах и улицах город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" descr="IMG_0102.JPG"/>
          <p:cNvPicPr/>
          <p:nvPr/>
        </p:nvPicPr>
        <p:blipFill>
          <a:blip r:embed="rId1"/>
          <a:stretch/>
        </p:blipFill>
        <p:spPr>
          <a:xfrm>
            <a:off x="900000" y="620640"/>
            <a:ext cx="3635640" cy="2640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3" descr="SAM_0965.JPG"/>
          <p:cNvPicPr/>
          <p:nvPr/>
        </p:nvPicPr>
        <p:blipFill>
          <a:blip r:embed="rId2"/>
          <a:stretch/>
        </p:blipFill>
        <p:spPr>
          <a:xfrm>
            <a:off x="4716360" y="620640"/>
            <a:ext cx="3521160" cy="26416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SAM_2118.JPG"/>
          <p:cNvPicPr/>
          <p:nvPr/>
        </p:nvPicPr>
        <p:blipFill>
          <a:blip r:embed="rId3"/>
          <a:stretch/>
        </p:blipFill>
        <p:spPr>
          <a:xfrm>
            <a:off x="900000" y="3357720"/>
            <a:ext cx="3741840" cy="27352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5" descr="IMG_0219.JPG"/>
          <p:cNvPicPr/>
          <p:nvPr/>
        </p:nvPicPr>
        <p:blipFill>
          <a:blip r:embed="rId4"/>
          <a:stretch/>
        </p:blipFill>
        <p:spPr>
          <a:xfrm>
            <a:off x="4716360" y="3429000"/>
            <a:ext cx="35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6571440"/>
            <a:ext cx="822960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SIGN09"/>
          <p:cNvPicPr/>
          <p:nvPr/>
        </p:nvPicPr>
        <p:blipFill>
          <a:blip r:embed="rId1"/>
          <a:stretch/>
        </p:blipFill>
        <p:spPr>
          <a:xfrm>
            <a:off x="179280" y="1341360"/>
            <a:ext cx="4859280" cy="5040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96000" y="1844280"/>
            <a:ext cx="4248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ем СТОП детскому травматизму на дорог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наши дети будут живы, здоровы и счастлив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26560" y="1557000"/>
            <a:ext cx="74170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Н.Агапова, заведующая МБДОУ детским садом № 15 «Светлячок»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оломна, Московской обла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М.Маслова, заместитель заведующей по ВМ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272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апе дошкольного детства одна из наиболее важных задач для ребенка – научиться правилам жизни во взрослом мире – мире спешащих людей и маши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00000" y="1773360"/>
            <a:ext cx="345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Именно на  этом этапе важно сформировать у детей модель безопасного поведения на дорогах, улице и в транспорте, позволяющую действовать адекватно конкретной реальной дорожной ситу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3280" y="1916280"/>
            <a:ext cx="36007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6" descr="http://www.bankreceptov.ru/pic/skazki-0037.jpg"/>
          <p:cNvPicPr/>
          <p:nvPr/>
        </p:nvPicPr>
        <p:blipFill>
          <a:blip r:embed="rId1"/>
          <a:stretch/>
        </p:blipFill>
        <p:spPr>
          <a:xfrm>
            <a:off x="4572000" y="1844640"/>
            <a:ext cx="3529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Содержимое 3" descr=""/>
          <p:cNvPicPr/>
          <p:nvPr/>
        </p:nvPicPr>
        <p:blipFill>
          <a:blip r:embed="rId1"/>
          <a:stretch/>
        </p:blipFill>
        <p:spPr>
          <a:xfrm>
            <a:off x="390600" y="1951200"/>
            <a:ext cx="83566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272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10.12.1995г №196-ФЗ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О безопасности дорожного движения»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образования и науки от 20.07.2011г №2151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Федеральных государственных требований к условиям реализации основной общеобразовательной программы дошкольного образования»;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образования и науки РФ от 23.11.2009г. №655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едеральные государственные требования к структуре основной общеобразовательной программы дошкольного образования»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целевая программа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вышение безопасности дорожного движения в 2006-2012годах»,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ная постановлением Правительства РФ от 01.02.2006 №100;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ая целевая программа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вышение безопасности дорожного движения в городском округе Коломна Московской области2007-2012годах»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и распоряжения по дошкольному учреждению.</a:t>
            </a:r>
            <a:br>
              <a:rPr sz="20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920" y="549360"/>
            <a:ext cx="7772400" cy="69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1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ая основа, регламентирующая деятельность ДОУ по профилактике детского дорожно-транспортного травмат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Овал 4"/>
          <p:cNvSpPr/>
          <p:nvPr/>
        </p:nvSpPr>
        <p:spPr>
          <a:xfrm>
            <a:off x="900000" y="141300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5"/>
          <p:cNvSpPr/>
          <p:nvPr/>
        </p:nvSpPr>
        <p:spPr>
          <a:xfrm>
            <a:off x="900000" y="1989000"/>
            <a:ext cx="142920" cy="14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6"/>
          <p:cNvSpPr/>
          <p:nvPr/>
        </p:nvSpPr>
        <p:spPr>
          <a:xfrm>
            <a:off x="900000" y="3068640"/>
            <a:ext cx="142920" cy="144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7"/>
          <p:cNvSpPr/>
          <p:nvPr/>
        </p:nvSpPr>
        <p:spPr>
          <a:xfrm>
            <a:off x="900000" y="3860640"/>
            <a:ext cx="1429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8"/>
          <p:cNvSpPr/>
          <p:nvPr/>
        </p:nvSpPr>
        <p:spPr>
          <a:xfrm>
            <a:off x="900000" y="4724280"/>
            <a:ext cx="142920" cy="14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9"/>
          <p:cNvSpPr/>
          <p:nvPr/>
        </p:nvSpPr>
        <p:spPr>
          <a:xfrm>
            <a:off x="900000" y="5516640"/>
            <a:ext cx="142920" cy="144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3" descr="Изображение 824.jpg"/>
          <p:cNvPicPr/>
          <p:nvPr/>
        </p:nvPicPr>
        <p:blipFill>
          <a:blip r:embed="rId1"/>
          <a:stretch/>
        </p:blipFill>
        <p:spPr>
          <a:xfrm>
            <a:off x="2475000" y="3565440"/>
            <a:ext cx="4333680" cy="26640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Изображение 825.jpg"/>
          <p:cNvPicPr/>
          <p:nvPr/>
        </p:nvPicPr>
        <p:blipFill>
          <a:blip r:embed="rId2"/>
          <a:stretch/>
        </p:blipFill>
        <p:spPr>
          <a:xfrm>
            <a:off x="5430960" y="542880"/>
            <a:ext cx="2450880" cy="35416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6" descr="Изображение 827.jpg"/>
          <p:cNvPicPr/>
          <p:nvPr/>
        </p:nvPicPr>
        <p:blipFill>
          <a:blip r:embed="rId3"/>
          <a:stretch/>
        </p:blipFill>
        <p:spPr>
          <a:xfrm>
            <a:off x="1395360" y="542880"/>
            <a:ext cx="2408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76438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у детей навыков безопасного поведения на дорогах и улицах города осуществляется в соответствие с реализуемыми программ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6" descr=""/>
          <p:cNvPicPr/>
          <p:nvPr/>
        </p:nvPicPr>
        <p:blipFill>
          <a:blip r:embed="rId1"/>
          <a:stretch/>
        </p:blipFill>
        <p:spPr>
          <a:xfrm>
            <a:off x="950760" y="2054160"/>
            <a:ext cx="7236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1403280" y="765000"/>
            <a:ext cx="617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 rot="10800000">
            <a:off x="826920" y="6452640"/>
            <a:ext cx="7150320" cy="4572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Схема 6" descr=""/>
          <p:cNvPicPr/>
          <p:nvPr/>
        </p:nvPicPr>
        <p:blipFill>
          <a:blip r:embed="rId1"/>
          <a:stretch/>
        </p:blipFill>
        <p:spPr>
          <a:xfrm>
            <a:off x="738360" y="542880"/>
            <a:ext cx="774036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005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построения образовательного процес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Содержимое 4" descr=""/>
          <p:cNvPicPr/>
          <p:nvPr/>
        </p:nvPicPr>
        <p:blipFill>
          <a:blip r:embed="rId1"/>
          <a:stretch/>
        </p:blipFill>
        <p:spPr>
          <a:xfrm>
            <a:off x="1384200" y="1407960"/>
            <a:ext cx="651672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6571440"/>
            <a:ext cx="822960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Содержимое 3" descr=""/>
          <p:cNvPicPr/>
          <p:nvPr/>
        </p:nvPicPr>
        <p:blipFill>
          <a:blip r:embed="rId1"/>
          <a:stretch/>
        </p:blipFill>
        <p:spPr>
          <a:xfrm>
            <a:off x="-762120" y="878040"/>
            <a:ext cx="952200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7:13:25Z</dcterms:created>
  <dc:creator>*</dc:creator>
  <dc:description/>
  <dc:language>en-US</dc:language>
  <cp:lastModifiedBy>Agap4uk</cp:lastModifiedBy>
  <dcterms:modified xsi:type="dcterms:W3CDTF">2012-02-17T19:12:53Z</dcterms:modified>
  <cp:revision>121</cp:revision>
  <dc:subject/>
  <dc:title>Организация работы по обучению детей дошкольного возраста правилам безопасного поведения на улицах и дорогах города в современных условиях</dc:title>
</cp:coreProperties>
</file>