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64DB-EB7D-4FEF-87C5-1E9DB9C6CA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A34E-92FF-4DBE-B1F2-43F29D483D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4AE-C42D-42FA-87D0-56AA2A7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AAC-A139-429F-8077-CB064127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21A6B-1427-453D-924F-B550FFE2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BA9A1-033F-4111-A230-E4530929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74248-82D1-4083-A534-05CA2D7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1CD0E-C25C-4319-9F15-523AD47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DCFD6-8063-4DD5-A794-318C94A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69FF1-8D97-47EC-B20F-1FCC304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C5DD7-62B6-4803-9A52-D9992F0D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EA748-5CF1-4058-AB69-9C2110E6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4A139-0191-46B2-A346-57B0560E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A2CE9-CB30-4EC1-A5DA-D022D91D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1B5-8E12-44CC-BC28-DFC97D0F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0DB48-F7B0-4724-AEF7-932EC408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89EB2-3927-4C48-B1DF-B7C22DE8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64C21-CBC7-424C-BA3C-41E62543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9FEB9-4A19-4B20-915F-8DD655BA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8C09C-7D79-4233-BD18-2139899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8509F-BB10-4A57-9E17-B3FD839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3443C-AF6C-47CB-A9C2-E0C9AF9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1A7D7-07BF-4B43-B192-77928413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57873-132C-4648-BBAC-BA4CB2CC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3C1D6-A8F9-4D95-A20D-75808C77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163-A5F1-4CCB-9F94-418EF866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9900C-6E1B-489F-A52A-73FDA61D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ABB4E-FACD-42F2-BC61-2B81C335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2EFB8-0C4C-412C-9FA9-18D90CB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A91AE-21AC-4F46-8171-C9FEB87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3C2C-45CD-4B12-AFEC-6EF1B088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B501D-0019-4611-A42D-1CD80298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2BD4D-A60E-4A4B-83AA-A1463DF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ED170-FF6D-45C2-A062-7B92431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03C6D-E088-49B3-8135-234A3EE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83CA3-58FC-4E7F-BFC6-D2931C65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0652-8846-4884-B5D7-3CA62999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3D7FF-B3F4-4422-BC84-7FF7C71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B7CB3-79AA-46B2-9322-769C26AC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B0D5A-BA9E-4C3A-9BC1-B63C5947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D9E17-811B-45B4-B94C-B551ACC9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56D5E-AD8C-4418-9F0B-89831982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4FEDA-A29E-46C2-B638-D937040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A4F51-9B9B-4AF4-8AA0-54CCC3F3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7DC63-A20A-4576-9998-220CE8E7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AA736-52AC-42DA-BEBD-A3733C60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80F49-4825-4554-8A7D-695AAB5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C9E9-3E7B-41E9-970D-C6A0742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56DCB-85B6-4059-9D8A-2D9B69F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060C9-E046-4933-AAA0-69B47C0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949EC-4370-4DC6-9DEC-63B239E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01814-4DF1-40F0-A2A4-2235186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5101D-2501-4A95-B104-1BFD329A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9EBF7-B162-49E7-B7CF-66496315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2FCAD-9C28-4F7C-97E0-1A349CBD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F877D-49BD-432A-A07B-973F231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E4414-D3A3-452B-AC2A-3021B62B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488B4-85A0-4C38-8D25-0BCACCD5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9771-9966-4737-B68D-CD9DC11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8D13B-68BB-4969-BE83-61BA4C81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480AA-5D77-401A-98C7-C36E3E8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33643-4251-475C-98BA-025DAC0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64ADE-64DE-4B1C-B8C5-41F2BA1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A1DE0-0F50-4586-B978-20AD590B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E02F5-3639-45B9-ABAA-A3ECB6AF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9B54A-4504-4B6C-A358-8CB407BB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3AC55-CA3E-4B5F-B2B0-1FAD790F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BFFEF-C4AB-44D2-B93A-E7D14443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9C2CC-DAA6-4D3B-AC14-CFEDF3A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325-100F-4B73-BBD3-31C93506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E2F49-C1E6-4544-95DB-8D4494E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122E1-00A2-40EC-A598-D2AAB8D5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99A0E-4ED4-4DE8-B919-CE55477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746D2-662F-4884-A9C9-9E1F968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7D5C6-550F-4A3D-B6EE-C98E550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F0D2E-B885-4E56-876A-75AFF24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9FCF6-9DE3-4F38-A12B-2AA0CBE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EF0CC-D4DA-48CE-99A0-EB9FF54B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4E6E1-F462-4E76-8BAA-41F6892B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06F4-AF34-4F43-853F-EE553A96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2664-431E-408A-BED0-310FF7F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C346-FEAA-4907-8E96-543F90F9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A93-FE2A-491D-8675-F3CDE7EF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2D45-C0ED-4EFF-98B9-586901A5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B4C0-F1FB-4E7B-BC7B-38CBD01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6E11-1222-45EC-87BE-E236A811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7841-5A80-4021-98F8-9CF0EE0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0A0-2CC4-4BDE-827B-D99459C2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FD92-85F4-4AC1-BB1D-6E0AD73D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4A3C-0BC2-4B09-A8E4-E947219E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F320-0330-4D54-8BF8-1D88A355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E3CD-75C0-4E0F-B755-965C75F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C812-F30C-4089-A188-3822905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DD7-48AB-421A-9018-C00DD17C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4C92-B136-4B7E-8A8E-924FC25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6C2E-2414-4026-8371-AA6F8D57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D229-7016-4DE6-9D16-083B2BE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19BA-3222-424A-A332-43DCD61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A36D-02E2-4C6F-B5EE-0C5054C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67E3-EF67-478A-9A1C-35270EEB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9412-D3DF-4057-A179-EDD634EF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4D3A-24C2-4156-A807-7F0F4086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32B5-BC75-466D-BBE2-59D21440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C804-6257-402B-8E1C-79CBF03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1EC-0A71-4A19-A03C-B8323B7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B46E-C5EF-48F7-B14D-4B1E9A8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C404-25BE-4BE0-AF05-7C195285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360A-E758-4986-83D6-C97BBB63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E88C-BE32-425B-8204-52B4A07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359B-1DB1-4973-BBEB-5E99B9B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5008-3AD0-4B6A-B525-2E58F229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5AE4-5A1D-4F17-8AD1-3B6298E7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25F5-7625-4945-B725-21B0F7DB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134A-D37F-447D-BD92-73287D89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9B9D-5E9E-4565-8BB6-1494E426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951-F8AC-4E06-8FA2-8BE15A39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49F7A-86A2-439A-A401-F8AB5C61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0D4B-C1C6-4066-87B8-A599555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7A71-E723-4CA2-A387-91358CE9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445E7-B58E-4AD5-BB7C-936FC09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44B8A-EBD7-4188-9766-A04423F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AC0C-EAEF-4AE5-A688-B66D789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AF48-54D2-4869-93CF-D195D14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5F7C-2520-4966-A415-946ECEF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549D-9740-41A7-970E-E49E5EE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FA784-1CB1-458A-B947-70AE67DA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69A-1FA1-4E99-BE17-FA6053F9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0D89-A6D0-4676-ACCA-E376B5E3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3F00-9C90-4285-BD1A-B4273EAA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8B86-1C62-4C32-A391-1D1FF580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1B93-4F53-443C-ADEE-2C07EC4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E48B-6DC7-4A10-94FA-635E79E9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4900A-B4B2-4A78-B4F3-2FC35074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AB3D-1502-48CD-8BAD-89DCC6F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3EEE2-4DC2-4790-B6C5-4A359580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1007-66B1-41A1-8893-51AD47A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26BB-40C9-4E92-993D-F174B70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366-48B7-4EE6-93EB-75FC52D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B6B93-4A88-441A-BBB8-BC14361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2085-0F21-4B7C-81A7-04F318ED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C11DA-E0ED-42E7-BB22-EBD079AD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AA41-BA94-4629-A82E-25F684AE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FF57-BB3B-47B2-8A52-3FF9F756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CAE3-0C0F-44F6-A199-FFA8E7C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3EA2-1AEC-41C7-89C2-3173276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4FDEA-E293-4333-8678-CF03E34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3700-ABBE-4D81-A593-A7589ED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B0AE0-3BEC-4AE2-B59D-3540158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0B1-BE0B-4EDB-A7E2-BD9427E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18AC4-E1BD-4F47-A585-D1021E68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E530-438E-415D-B458-863EFB9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2793-0250-4D82-A87D-2E900F4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B485-1D58-4242-958D-A90B365B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FDDF-531A-44FB-BA54-3CCAE592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406DE-56C0-4917-A211-33B31D7F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80819-070B-4A0D-BB78-4F9DD7DF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C5B28-2A50-4F20-96FC-CA0BC3B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D328-0873-483D-95C6-4BFC9639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BE51C-5651-4792-AE7A-002EBE51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FF9-264E-4CA4-8923-1F73A49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AEC4-B850-4C1B-A794-E3CF4C52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67C8-BC4B-48DA-94A0-62622D7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20AA-715A-4BF7-9C5D-B7A8B51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F94F2-FAE0-4876-9433-7C18679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79D2A-E67E-4CEA-85B3-54CC02D2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E822-D4E4-4CF6-8C34-27B55199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C55AE-D188-4639-8E38-C05C6BF4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4718B-877F-4FC7-AB40-3A1BC1A6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0BB4A-DC12-4DD8-A9DF-27682A9F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A2A01-852E-4DF8-8EAD-E6C09BE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0BA-280B-4059-85A6-5E91F79B63D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D9D-9026-496A-B2D6-85F65E06238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2745-D0EA-4BFC-A48A-ABD6EA5DF8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7E42-BA9D-484D-AAFE-898900EF725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942D-91FA-4972-9D40-FB31A1F27D2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D46-7C50-4557-ADC4-366E84D1EAD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6F6-B888-4802-A229-7B5B5CFC6C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7C98-1447-4C9A-84E1-95473C7540D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596-3B62-4195-9348-2E59372EA4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7760-0FC9-4D02-9865-62ACBC75E53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B13-8AFF-41C0-B4C1-D52AE989C9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8CFD-AB62-48FC-AA00-116279D678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084-C0E1-4B7D-9653-BF2657E61CD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23AB-7E07-45B9-A49A-0BA4E73F3D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7;&#1072;&#1082;&#1086;&#1085;%20&#1088;&#1072;&#1076;&#1080;&#1086;&#1072;&#1082;&#1090;&#1080;&#1074;&#1085;&#1086;&#1075;&#1086;%20&#1088;&#1072;&#1089;&#1087;&#1072;&#1076;&#1072;.doc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ee4ed7"/>
                </a:solidFill>
                <a:uFillTx/>
                <a:latin typeface="Georgia"/>
              </a:rPr>
              <a:t>СОСТАВИЛА УЧИТЕЛЬ ФИЗИК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ee4ed7"/>
                </a:solidFill>
                <a:uFillTx/>
                <a:latin typeface="Georgia"/>
              </a:rPr>
              <a:t> </a:t>
            </a:r>
            <a:r>
              <a:rPr b="1" i="1" lang="ru-RU" sz="1600" spc="-1" strike="noStrike" u="sng">
                <a:solidFill>
                  <a:srgbClr val="ee4ed7"/>
                </a:solidFill>
                <a:uFillTx/>
                <a:latin typeface="Georgia"/>
              </a:rPr>
              <a:t>МБОУ МСОШ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e4ed7"/>
                </a:solidFill>
                <a:latin typeface="Georgia"/>
              </a:rPr>
              <a:t>МУХИНА ВАЛЕНТИНА ВЛАДИМИРОВ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e4ed7"/>
                </a:solidFill>
                <a:latin typeface="Georgia"/>
              </a:rPr>
              <a:t>ФИЗИКА 11 КЛАС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Открытие радиоактивности.</a:t>
            </a:r>
            <a:br>
              <a:rPr sz="4000"/>
            </a:br>
            <a:r>
              <a:rPr b="0" i="1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Радиоактивные превращ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1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854-57E6-4560-831C-4EF13A820B3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4416-32DF-4A76-B697-0B113131968D}" type="slidenum">
              <a:rPr b="0" lang="ru-RU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0" y="0"/>
            <a:ext cx="914400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Сам закон радиоактивного распада пр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N=N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Georgia"/>
                <a:ea typeface="Arial Unicode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 Unicode MS"/>
              </a:rPr>
              <a:t>-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orgia"/>
                <a:ea typeface="Arial Unicode MS"/>
              </a:rPr>
              <a:t>/ Т 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Georgia"/>
                <a:ea typeface="Arial Unicode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представит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его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непросто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Скорость распада не меняется. Радиоактивные атомы «не старают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Распад любого атомного ядра – это так сказать, не «смерть от старости», а «несчастный случай» в его жизни. Для радиоактивных атомов (точнее ядер) не существует понятия возраста. Можно определить лишь среднее время жизн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Т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Предсказать, когда произойдёт распад данного атома, не возможно. Этот закон справедлив для большого количества частиц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иод полураспада постоянная величина, которая не может быть измене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акими доступными воздействия, как охлаждение, нагрев, давление и т.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14400" y="135720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этого зако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5" name="WordArt 5" descr=""/>
          <p:cNvPicPr/>
          <p:nvPr/>
        </p:nvPicPr>
        <p:blipFill>
          <a:blip r:embed="rId1"/>
          <a:stretch/>
        </p:blipFill>
        <p:spPr>
          <a:xfrm>
            <a:off x="189000" y="828720"/>
            <a:ext cx="74372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Прямоугольник 1"/>
          <p:cNvSpPr/>
          <p:nvPr/>
        </p:nvSpPr>
        <p:spPr>
          <a:xfrm>
            <a:off x="214200" y="57168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разных химических элементов величина периода полураспада различна : от миллионных долей секунд (например, полоний)до миллиардов лет (например, уран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5391360" cy="1214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" descr=""/>
          <p:cNvPicPr/>
          <p:nvPr/>
        </p:nvPicPr>
        <p:blipFill>
          <a:blip r:embed="rId2"/>
          <a:stretch/>
        </p:blipFill>
        <p:spPr>
          <a:xfrm>
            <a:off x="571680" y="4643280"/>
            <a:ext cx="57150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Прямоугольник 1"/>
          <p:cNvSpPr/>
          <p:nvPr/>
        </p:nvSpPr>
        <p:spPr>
          <a:xfrm>
            <a:off x="428760" y="50004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исло нераспавшихся радиоактивных ядер убывает со временем по экспонент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4786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6B91-C379-47A6-A8D8-55011F6A943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481-0450-4A39-88A9-15DE4EDE768A}" type="slidenum">
              <a:rPr b="0" lang="ru-RU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8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Georgia"/>
              </a:rPr>
              <a:t>Биологическое действие радиации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8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Georgia"/>
              </a:rPr>
              <a:t>Способы защиты от радиации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8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Georgia"/>
              </a:rPr>
              <a:t>Как курение связано с радиацией?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8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Georgia"/>
              </a:rPr>
              <a:t>Изотопы. Их получение и применение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8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Georgia"/>
              </a:rPr>
              <a:t>Ядерное оружие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eorgia"/>
              </a:rPr>
              <a:t>Темы презентаций учащимся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4" name="WordArt 9" descr=""/>
          <p:cNvPicPr/>
          <p:nvPr/>
        </p:nvPicPr>
        <p:blipFill>
          <a:blip r:embed="rId1"/>
          <a:stretch/>
        </p:blipFill>
        <p:spPr>
          <a:xfrm>
            <a:off x="530280" y="219240"/>
            <a:ext cx="8175600" cy="682560"/>
          </a:xfrm>
          <a:prstGeom prst="rect">
            <a:avLst/>
          </a:prstGeom>
          <a:ln w="0">
            <a:noFill/>
          </a:ln>
        </p:spPr>
      </p:pic>
      <p:sp>
        <p:nvSpPr>
          <p:cNvPr id="755" name="WordArt 10"/>
          <p:cNvSpPr txBox="1"/>
          <p:nvPr/>
        </p:nvSpPr>
        <p:spPr>
          <a:xfrm>
            <a:off x="1760400" y="1143000"/>
            <a:ext cx="6029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лученные из интернет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Домашне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5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6, 15.7, 15.14,15.35, 1537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96d2b"/>
                </a:solidFill>
                <a:latin typeface="Georgia"/>
              </a:rPr>
              <a:t>Цель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глубить знания о структуре атом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радиоактивн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знакомиться с природой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α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  <a:ea typeface="Arial"/>
              </a:rPr>
              <a:t>-,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  <a:ea typeface="Arial"/>
              </a:rPr>
              <a:t>-,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γ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  <a:ea typeface="Arial"/>
              </a:rPr>
              <a:t>-излучен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  <a:ea typeface="Arial"/>
              </a:rPr>
              <a:t>Закон радиоактивного распа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4f07"/>
                </a:solidFill>
                <a:latin typeface="Times New Roman"/>
                <a:ea typeface="Times New Roman"/>
              </a:rPr>
              <a:t>26 февраля 1896 год</a:t>
            </a:r>
            <a:br>
              <a:rPr sz="3600"/>
            </a:br>
            <a:r>
              <a:rPr b="0" lang="ru-RU" sz="3600" spc="-1" strike="noStrike">
                <a:solidFill>
                  <a:srgbClr val="694f07"/>
                </a:solidFill>
                <a:latin typeface="Times New Roman"/>
                <a:ea typeface="Times New Roman"/>
              </a:rPr>
              <a:t>франц.физик Анри Беккерель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8" name="Picture 10" descr="беккерель"/>
          <p:cNvPicPr/>
          <p:nvPr/>
        </p:nvPicPr>
        <p:blipFill>
          <a:blip r:embed="rId1"/>
          <a:stretch/>
        </p:blipFill>
        <p:spPr>
          <a:xfrm>
            <a:off x="5438880" y="2417760"/>
            <a:ext cx="2114280" cy="24782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3" descr="Рисунок1"/>
          <p:cNvPicPr/>
          <p:nvPr/>
        </p:nvPicPr>
        <p:blipFill>
          <a:blip r:embed="rId2"/>
          <a:stretch/>
        </p:blipFill>
        <p:spPr>
          <a:xfrm>
            <a:off x="539640" y="2133720"/>
            <a:ext cx="3772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0294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98 год, супруги </a:t>
            </a:r>
            <a:br>
              <a:rPr sz="3000"/>
            </a:b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рия и Пьер Кюри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4753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вление самопроизвольного излучения назвали радиоактивность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казали, что торий может самопроизвольно излуча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ыли новые элементы – полоний и рад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2" name="Picture 8" descr="мария кюри"/>
          <p:cNvPicPr/>
          <p:nvPr/>
        </p:nvPicPr>
        <p:blipFill>
          <a:blip r:embed="rId1"/>
          <a:stretch/>
        </p:blipFill>
        <p:spPr>
          <a:xfrm>
            <a:off x="5796000" y="1773360"/>
            <a:ext cx="1833480" cy="2104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пьер кюри"/>
          <p:cNvPicPr/>
          <p:nvPr/>
        </p:nvPicPr>
        <p:blipFill>
          <a:blip r:embed="rId2"/>
          <a:stretch/>
        </p:blipFill>
        <p:spPr>
          <a:xfrm>
            <a:off x="5867280" y="3933720"/>
            <a:ext cx="1717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2254"/>
                </a:solidFill>
                <a:latin typeface="Times New Roman"/>
                <a:ea typeface="Times New Roman"/>
              </a:rPr>
              <a:t>1903 год</a:t>
            </a:r>
            <a:br>
              <a:rPr sz="3000"/>
            </a:br>
            <a:r>
              <a:rPr b="0" lang="ru-RU" sz="3000" spc="-1" strike="noStrike">
                <a:solidFill>
                  <a:srgbClr val="f22254"/>
                </a:solidFill>
                <a:latin typeface="Times New Roman"/>
                <a:ea typeface="Times New Roman"/>
              </a:rPr>
              <a:t>Эрнест Резерфорд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25" name="Picture 7" descr="6-7-1"/>
          <p:cNvPicPr/>
          <p:nvPr/>
        </p:nvPicPr>
        <p:blipFill>
          <a:blip r:embed="rId1"/>
          <a:stretch/>
        </p:blipFill>
        <p:spPr>
          <a:xfrm>
            <a:off x="803160" y="1828800"/>
            <a:ext cx="3537000" cy="36576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резерфорд"/>
          <p:cNvPicPr/>
          <p:nvPr/>
        </p:nvPicPr>
        <p:blipFill>
          <a:blip r:embed="rId2"/>
          <a:stretch/>
        </p:blipFill>
        <p:spPr>
          <a:xfrm>
            <a:off x="4932360" y="1844640"/>
            <a:ext cx="2951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6058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α</a:t>
            </a: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-лучи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это поток </a:t>
            </a:r>
            <a:r>
              <a:rPr b="0" i="1" lang="el-GR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α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частиц, представляющих собой ядра гелия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езультате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распада элемент смещается на две клетки к началу периодической системы Менделее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2"/>
              <p:cNvSpPr txBox="1"/>
              <p:nvPr/>
            </p:nvSpPr>
            <p:spPr>
              <a:xfrm>
                <a:off x="4643280" y="2637000"/>
                <a:ext cx="3888000" cy="33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Χ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Υ</m:t>
                        </m:r>
                        <m:r>
                          <m:t xml:space="preserve">+</m:t>
                        </m:r>
                        <m:sPr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Пример</m:t>
                        </m:r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8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U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r>
                          <m:t xml:space="preserve">+</m:t>
                        </m:r>
                        <m:sPr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78880" cy="13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0070c0"/>
                </a:solidFill>
                <a:uFillTx/>
                <a:latin typeface="Georgia"/>
              </a:rPr>
              <a:t>β</a:t>
            </a:r>
            <a:r>
              <a:rPr b="0" i="1" lang="ru-RU" sz="3600" spc="-1" strike="noStrike" u="sng">
                <a:solidFill>
                  <a:srgbClr val="0070c0"/>
                </a:solidFill>
                <a:uFillTx/>
                <a:latin typeface="Georgia"/>
              </a:rPr>
              <a:t>-лучи</a:t>
            </a:r>
            <a:r>
              <a:rPr b="0" i="1" lang="ru-RU" sz="3600" spc="-1" strike="noStrike">
                <a:solidFill>
                  <a:srgbClr val="0070c0"/>
                </a:solidFill>
                <a:latin typeface="Georgia"/>
              </a:rPr>
              <a:t> – это поток электронов, скорость которых близка к скорости света в вакууме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распада элемент смещается на одну клетку вперед к концу периодической системы Менделее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2"/>
              <p:cNvSpPr txBox="1"/>
              <p:nvPr/>
            </p:nvSpPr>
            <p:spPr>
              <a:xfrm>
                <a:off x="5003640" y="2492280"/>
                <a:ext cx="338328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Χ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Υ</m:t>
                        </m:r>
                        <m:r>
                          <m:t xml:space="preserve">+</m:t>
                        </m:r>
                        <m:sPr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e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Пример</m:t>
                        </m:r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K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t xml:space="preserve">+</m:t>
                        </m:r>
                        <m:sPr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929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00b050"/>
                </a:solidFill>
                <a:uFillTx/>
                <a:latin typeface="Georgia"/>
              </a:rPr>
              <a:t>γ</a:t>
            </a:r>
            <a:r>
              <a:rPr b="0" i="1" lang="ru-RU" sz="3600" spc="-1" strike="noStrike" u="sng">
                <a:solidFill>
                  <a:srgbClr val="00b050"/>
                </a:solidFill>
                <a:uFillTx/>
                <a:latin typeface="Georgia"/>
              </a:rPr>
              <a:t>-излучение</a:t>
            </a:r>
            <a:r>
              <a:rPr b="0" i="1" lang="ru-RU" sz="3600" spc="-1" strike="noStrike">
                <a:solidFill>
                  <a:srgbClr val="00b050"/>
                </a:solidFill>
                <a:latin typeface="Georgia"/>
              </a:rPr>
              <a:t> – это электромагнитное излучение, частота которого превышает частоты рентгеновского излуч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69608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но не сопровождается изменением заряда, а масса ядра меняется ничтожно мал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Дата 1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CDB8-DFC2-4D1A-8DF1-0EE167C2486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57F-52EC-4EBF-B024-14E49985C53E}" type="slidenum">
              <a:rPr b="0" lang="ru-RU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1814400" y="879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8" name="Picture 3" descr="Закон радиоактивного распада"/>
          <p:cNvPicPr/>
          <p:nvPr/>
        </p:nvPicPr>
        <p:blipFill>
          <a:blip r:embed="rId1"/>
          <a:stretch/>
        </p:blipFill>
        <p:spPr>
          <a:xfrm>
            <a:off x="214200" y="1276200"/>
            <a:ext cx="8358480" cy="5581800"/>
          </a:xfrm>
          <a:prstGeom prst="rect">
            <a:avLst/>
          </a:prstGeom>
          <a:ln w="0">
            <a:noFill/>
          </a:ln>
        </p:spPr>
      </p:pic>
      <p:sp>
        <p:nvSpPr>
          <p:cNvPr id="739" name="WordArt 6"/>
          <p:cNvSpPr txBox="1"/>
          <p:nvPr/>
        </p:nvSpPr>
        <p:spPr>
          <a:xfrm>
            <a:off x="271440" y="0"/>
            <a:ext cx="887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кон радиоактивного распа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947880" y="6019920"/>
            <a:ext cx="657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Период полураспа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1:02:14Z</dcterms:created>
  <dc:creator>Grey Wolf</dc:creator>
  <dc:description/>
  <dc:language>en-US</dc:language>
  <cp:lastModifiedBy>Grey Wolf</cp:lastModifiedBy>
  <dcterms:modified xsi:type="dcterms:W3CDTF">2012-02-17T12:07:58Z</dcterms:modified>
  <cp:revision>7</cp:revision>
  <dc:subject/>
  <dc:title>Открытие радиоактивности. Радиоактивные превращения</dc:title>
</cp:coreProperties>
</file>