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F88-DA89-40BE-8D3F-2916C21B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19A-CE1C-4781-85A1-AA7F678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87F-ED41-4D82-A245-BDDE1262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5F6-040F-45CA-B197-CA12A66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A91CF-09FA-4412-BBEA-7E1AFE99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2BD08-0D2D-47C1-B1E0-FAA2FA4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7D826-A427-4ECF-8D19-51A562B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CD8DF-5C09-4F26-AC79-7B7E0AE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16C77-97B4-4311-8668-AE1C9C82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90732-5F84-49D4-BBDB-F571F2F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CC36F-E7EC-4089-A0DF-FAEE0BC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511-4C30-4456-92F9-B489D4A7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816A1-CB7A-4701-B614-A3AF73D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DD7FE-818E-4222-B67A-2774C9B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8EA5A-56F8-48A0-9F6F-806A837C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E02B9-4146-4D7F-AC2C-C79F456A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D1B8-CA6C-4573-B863-00AD01AB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8279-2313-4C81-AD3E-5B57CBE9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65E5-8C99-4863-A588-47E5530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738C-605D-4261-A433-0A5C498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1E9D-C964-48B8-8939-788BBCA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9E40-C425-492F-A2A8-B7FDC547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CE1-50D4-4ED2-985E-B911A96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D856-81CA-4338-A090-0D55C23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A225-F129-4A89-8399-72FF6C0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B05F-2603-4ECF-94DB-8CF1EF2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8501-B649-44C3-BE24-DBC6273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70DA-6DBB-4A9E-A164-0689B229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6A2C3-CECB-43DB-8E3D-B2010A15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667B-EBD7-4DAC-AD3D-068CB70F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9DDC2-CE3A-4D1A-B20B-0E10C66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E4463-4A4F-4D4C-A429-CB44DBD7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0996A-38CF-4C8F-9687-A988F01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1C4-7B20-4FED-8180-9D95049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E5031-C132-4EA6-BD42-2C458783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15A53-4CFB-4F1C-9EDD-E867F3DE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8C9FB-B730-443B-815E-29422A0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E765C-93BD-436E-B47B-0168B11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7D775-C3AD-4727-AFF9-CB3071D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B4358-2E6E-440F-AC29-15C7BFD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58829-7834-4CED-8A70-EADCF4DB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C84FB-A050-4C8C-AA66-1CD3DD97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CEE5B-5DFA-41A2-8537-1D8B44A5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A00-D659-441C-AE16-769EDEAE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F0C-BE8E-4443-9467-A7DE96D0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132-AC4D-4734-ACD0-15AA07E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060-8D6B-4866-B3EC-F9E0448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528-43DE-43EA-9E18-F794586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E20-227B-4DB4-BEF8-0AE84DD98CD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87D-8878-4826-A112-792CA879B8E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656-68C6-42B6-B59A-036593E3B62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42E-BC0B-485E-8CF0-CC7D53B0E9F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nales.info/sibir/ural/bers.htm#_Toc24720296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943600" y="370008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a620e"/>
                </a:solidFill>
                <a:latin typeface="Constantia"/>
              </a:rPr>
              <a:t>История,  6 класс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a620e"/>
                </a:solidFill>
                <a:latin typeface="Constantia"/>
              </a:rPr>
              <a:t>Перегримова Т.Н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189000" y="1427040"/>
            <a:ext cx="8839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700440" cy="4733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4495680" y="762120"/>
            <a:ext cx="42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 — кольцо из желез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1 — часть бляхи из сереб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2 — браслет из золотистой бронз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3 — скребок из желез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4, 15 — «пряслица» с орнаментом (из талькового камня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6 — фигурка собаки (бронза), 17, 18 — пуговицы из гли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-4, 9, 11-13, 15-17 — из Верхне-Макушинского селищ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-9, 14-18 — с жертвенного места Петрогр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6 — с Ая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010200" cy="33717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"/>
          <p:cNvSpPr/>
          <p:nvPr/>
        </p:nvSpPr>
        <p:spPr>
          <a:xfrm>
            <a:off x="1295280" y="304920"/>
            <a:ext cx="624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конструкция жилища по данным раскопок на селище Верхняя Макуш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457200" y="3581280"/>
            <a:ext cx="792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утри большого жилого дома, на земляном полу обнаружены два очага. Второй очаг был примитивной плавильной печью, сделанной из глины с большой примесью мелких дробленых костей. Таким образом, плавка металла происходила внутри жилого помещения. У остатков плавильной печи обнаружены литейные формы из талькового камня для отливки кельта и трехгранных бронзовых стрел, глиняная форма для отливки пряжки. Найден и сердечник из глины со следами медного шлака, вкладывающийся вовнутрь формы для отливки кельта. Здесь же обнаружены обломки тиглей, льячка, куски медного и железного шлака, а также слитки железа и м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600200" y="83808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ревние места плавки можно разделить на примитивные и более слож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685800" y="19810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итивный способ — плавка меди в горш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838080" y="2743200"/>
            <a:ext cx="7162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олее совершенная плавка металлов проводилась в печах, сложенных из камня. Остатки такого древнего металлургического производства меди обнаружены близ города Полевского — на горах Думной и Караульной. Остатки металлургического производства меди, железа и других металлов сохранились на горе Петрогром, расположенной на восточной границе Первоуральского района,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38960" cy="3213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838080" y="44197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конструкция плавильных печей на горе Думной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 — печь на южном склоне горы, 2 — плавильная печь на северном склоне г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62120" y="3124080"/>
            <a:ext cx="78483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чни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с Елизавета Михай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рхеологические памятники Свердловска и его окрестностей. </a:t>
            </a:r>
            <a:br>
              <a:rPr sz="1800"/>
            </a:br>
            <a:r>
              <a:rPr b="0" lang="en-US" sz="18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http://annales.info/sibir/ural/bers.htm#_Toc247202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14400" y="914400"/>
            <a:ext cx="693432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ередине I тыс. до н.э. с появлением на юге современной Свердловской области племён, которые умели плавить металл, начинается использования уральских рудных богатств. Из малахита и азурита они выплавляли медь, а из нее в свою очередь научились делать бронзу. Из этих двух металлов делали оружие, изготавливали различные магические амулеты и домашнюю утварь. Так, в окрестностях города Полевского на горе Азов найден крупный клад птицевидных идолов из меди, а вблизи самого Полевского - на вершине г.Думной - кусочки руды, отливки, шлаки и другие следы металлургического производства древ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990720" y="762120"/>
            <a:ext cx="7162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рхеологические памятники, относящиеся к эпохе бронзы, могут быть разделены на две груп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риальная культура первой позволяет полагать, что памятники остались от потомков местных лесных аборигенов края — шигирских и андреевских племен. На очень многих многослойных археологических памятниках мы находим и более ранние поселения, и поселения эпохи бронзы, залегающих в таких условиях, которые говорят о непрекращающейся жизни одних и тех же племен. Это подтверждается орнаментом на плоскодонных сосудах, преемственно перешедшим с более древней посуды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амятники второй группы, судя по орнаменту, связаны с андроновской культу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990720" y="762120"/>
            <a:ext cx="7086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эпоху Великого переселения народов (это было примерно в середине I тыс. н.э.) на эту территорию приходят новые люди. Племена рыболовов и охотников постепенно оттесняют на север (там начинают закладываться основы мансийской культурной общности). Тем временем на территории Среднего Урала возникают настоящие металлургические центры. Там теперь выплавляют не только бронзу, медь, но и железо. Следы таких производств найдены в окрестностях Екатеринбурга и о. Исетского. В ту эпоху о рудных богатствах Урала начинают узнавать далеко за его пределами, поэтому разные кочевые племена (скифы, сарматы), которые жили в степях Средней Азии, начинают время от времени наведываться сюда, чтобы пополнить запасы железа и ме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2464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685800" y="464832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меты, характеризующие древнее литейное дело: 1 — пест для дробления руды; 2 — форма и литник к ней для отливки кельта; 3 — обломок литейной формы; 4 — тигель для плавки и переплавки мет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15000" cy="38192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2057400" y="4876920"/>
            <a:ext cx="601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ерамика эпохи бронзы от плоскодонной посуды с острова Макуша (1) и селища Коптяки  (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838080" y="685800"/>
            <a:ext cx="7696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раскопках поселений шигирской культуры эпохи бронзы обычно находят обломки плоскодонных сосудов горшечной формы, покрытых орнаментом до двух третьих их высоты. Небольшое количество находок характеризует металлургию меди. Появляются новые вещи: каменные песты для дробления руды, литейные формы, тигли из глины и камня для плавки металлов, сердечники из камня и глины, вставляющиеся внутрь литейной формы при отливке оруд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24560" cy="2705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1828800" y="60958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конструкция землянки на Верхней Маку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419112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ходки на памятниках таких предметов быта, как зернотерки, мотыги для рыхления земли, появление посуды типа дуршлагов, служивших для изготовления творога, говорят о переходе к скотоводству и земледелию. Таким образом, памятники шигирской культуры уже не отличаются по своей сущности от памятников степных культур этого же пери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3800520" cy="29145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2209680" y="33526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чи и кинжалы эпохи раннего метал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369040" cy="4276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609480" y="3049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щи, типичные для исетской культу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6019920" y="838080"/>
            <a:ext cx="281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, 2 — литейная форма и сердечник для отливки кель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, 4 — треть литейной формы для отливки трехгранных стрел из брон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, 6 — трехгранная стрела и нож из железа, 7, 8 — стрела и гарпун из кос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штамп из бронзы для нанесения орнамента на пос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мия</cp:lastModifiedBy>
  <dcterms:modified xsi:type="dcterms:W3CDTF">2012-02-17T16:33:25Z</dcterms:modified>
  <cp:revision>8</cp:revision>
  <dc:subject/>
  <dc:title>Первые уральские металлурги</dc:title>
</cp:coreProperties>
</file>