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himes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58A-B054-447F-9A23-EC5F1035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5E0-3129-4C55-90E3-4709C86B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7FA-890D-48D9-95E3-E4299CD4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97C-3ABC-4DD5-A713-4CF50E13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0362-3262-4A7F-AB50-F709C7B1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6A0-3193-482F-BDE7-9E9D1D0C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7B0-92A8-4098-B6D2-1A620DA5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B02-96E3-4E6A-8E9E-D56BBECA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44E-79DE-491D-A123-50DF9A8A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1E4-DA32-4882-8785-45CD66AB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66B-A7E3-4734-9C51-522165B1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C7D-A725-405B-8526-E40F4634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52C7-70CB-4423-8D10-096A818392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6633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260280"/>
            <a:ext cx="83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663300"/>
                </a:solidFill>
                <a:latin typeface="Monotype Corsiva"/>
              </a:rPr>
              <a:t>Урок по химии.                                                 </a:t>
            </a:r>
            <a:endParaRPr b="0" i="1" lang="en-US" sz="80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124000" y="1773360"/>
            <a:ext cx="48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3300"/>
                </a:solidFill>
                <a:latin typeface="Monotype Corsiva"/>
              </a:rPr>
              <a:t>Преподавателя химии  </a:t>
            </a:r>
            <a:endParaRPr b="0" i="1" lang="en-US" sz="44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857160" y="2349360"/>
            <a:ext cx="735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3300"/>
                </a:solidFill>
                <a:latin typeface="Monotype Corsiva"/>
              </a:rPr>
              <a:t>ГБОУ  РМ СПО ССУЗ «Зубово-</a:t>
            </a:r>
            <a:endParaRPr b="0" i="1" lang="en-US" sz="44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42960" y="292428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3300"/>
                </a:solidFill>
                <a:latin typeface="Monotype Corsiva"/>
              </a:rPr>
              <a:t>Полянский педагогический    колледж»</a:t>
            </a:r>
            <a:endParaRPr b="0" i="1" lang="en-US" sz="40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24000" y="4437000"/>
            <a:ext cx="835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663300"/>
                </a:solidFill>
                <a:latin typeface="Monotype Corsiva"/>
              </a:rPr>
              <a:t>Половниковой Л. Ю.</a:t>
            </a:r>
            <a:endParaRPr b="0" i="1" lang="en-US" sz="8000" spc="-1" strike="noStrike">
              <a:solidFill>
                <a:srgbClr val="663300"/>
              </a:solidFill>
              <a:latin typeface="Monotype Corsiva"/>
            </a:endParaRPr>
          </a:p>
        </p:txBody>
      </p:sp>
      <p:pic>
        <p:nvPicPr>
          <p:cNvPr id="46" name="Picture 9" descr="j0305257"/>
          <p:cNvPicPr/>
          <p:nvPr/>
        </p:nvPicPr>
        <p:blipFill>
          <a:blip r:embed="rId1"/>
          <a:stretch/>
        </p:blipFill>
        <p:spPr>
          <a:xfrm>
            <a:off x="324000" y="333360"/>
            <a:ext cx="129852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04920" y="152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Примеры заданий дифференцированных контрольных карт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905120" y="6858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Контрольная карта уровня А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04920" y="1143000"/>
            <a:ext cx="899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1. В чём существенные различия в электронной структуре и пространственной конфигурации между молекулами ацетилена и этана , каковы причины этих различий ?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04920" y="2514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2. Назовите причины образования структурных и пространственных изомеров 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52280" y="365760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3. Рассмотрите взаимное влияние атомов в молекулах органических соединений на примерах реакций углеводородов 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52280" y="47242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4. Исходя из неорганических веществ получите нитробензол 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04920" y="53341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5. Метан как глобальный загрязнитель 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28600" y="228600"/>
            <a:ext cx="853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209680" y="228600"/>
            <a:ext cx="44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Контрольная карта уровня В 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28600" y="12193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1. Охарактеризуйте электронное и пространственное строение алкинов 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250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2. Укажите существенные признаки изомеров . Приведите примеры 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28600" y="39625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3. Охарактеризуйте свойства алкена состава С4Н8 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880" y="4724280"/>
            <a:ext cx="861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4. Изобразите схему генетических связей этого углеводорода и составьте уравнения соответствующих реакций 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286000" y="152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Контрольная карта уровня С 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28736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1.Охарактеризуйте строение молекулы бензола 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80880" y="1981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2. Укажите признаки , характерные для гомологов 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57200" y="297180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3. В промышленности ацетилен подвергают следующим процессам : гидратации , хлорированию , гидрохлорированию , димеризации .Составьте уравнения соответствующих реакций 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38088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В конце урока контрольные карты и листы с ответами учащиеся сдают учителю на проверку . Отметку выставляю каждому ученику и учитываю его работу на уроке и ответы по контрольной карте 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95280" y="765000"/>
            <a:ext cx="828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663300"/>
                </a:solidFill>
                <a:latin typeface="Monotype Corsiva"/>
              </a:rPr>
              <a:t>Обобщающе-контролирующий урок по теме «Углеводороды»</a:t>
            </a:r>
            <a:endParaRPr b="0" i="1" lang="en-US" sz="8000" spc="-1" strike="noStrike">
              <a:solidFill>
                <a:srgbClr val="663300"/>
              </a:solidFill>
              <a:latin typeface="Monotype Corsiv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95280" y="260280"/>
            <a:ext cx="288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663300"/>
                </a:solidFill>
                <a:latin typeface="Monotype Corsiva"/>
              </a:rPr>
              <a:t>Цели :</a:t>
            </a:r>
            <a:endParaRPr b="0" i="1" lang="en-US" sz="80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9640" y="148428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3300"/>
                </a:solidFill>
                <a:latin typeface="Monotype Corsiva"/>
              </a:rPr>
              <a:t>-уточнение уровня знаний учащихся ;</a:t>
            </a:r>
            <a:endParaRPr b="0" i="1" lang="en-US" sz="36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751200" y="2017800"/>
            <a:ext cx="4562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0" spc="-1" strike="noStrike">
              <a:solidFill>
                <a:srgbClr val="6633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11280" y="220500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3300"/>
                </a:solidFill>
                <a:latin typeface="Monotype Corsiva"/>
              </a:rPr>
              <a:t>- осуществление контроля за качеством усвоения основополагающих вопросов раздела;</a:t>
            </a:r>
            <a:endParaRPr b="0" i="1" lang="en-US" sz="40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8360" y="4365720"/>
            <a:ext cx="8137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3300"/>
                </a:solidFill>
                <a:latin typeface="Monotype Corsiva"/>
              </a:rPr>
              <a:t>-реализация дифференцированного</a:t>
            </a:r>
            <a:endParaRPr b="0" i="1" lang="en-US" sz="4000" spc="-1" strike="noStrike">
              <a:solidFill>
                <a:srgbClr val="663300"/>
              </a:solidFill>
              <a:latin typeface="Monotype Corsiv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3300"/>
                </a:solidFill>
                <a:latin typeface="Monotype Corsiva"/>
              </a:rPr>
              <a:t>подхода к учащимся</a:t>
            </a:r>
            <a:endParaRPr b="0" i="1" lang="en-US" sz="4000" spc="-1" strike="noStrike">
              <a:solidFill>
                <a:srgbClr val="663300"/>
              </a:solidFill>
              <a:latin typeface="Monotype Corsiv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50920" y="2060640"/>
          <a:ext cx="8640720" cy="3902040"/>
        </p:xfrm>
        <a:graphic>
          <a:graphicData uri="http://schemas.openxmlformats.org/drawingml/2006/table">
            <a:tbl>
              <a:tblPr/>
              <a:tblGrid>
                <a:gridCol w="1490400"/>
                <a:gridCol w="1490760"/>
                <a:gridCol w="1490760"/>
                <a:gridCol w="1490760"/>
                <a:gridCol w="1490400"/>
                <a:gridCol w="118764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лассов углеводородов</a:t>
                      </a:r>
                      <a:endParaRPr b="0" i="1" lang="en-US" sz="20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формула гомологического ряда</a:t>
                      </a:r>
                      <a:endParaRPr b="0" i="1" lang="en-US" sz="20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ибридизации</a:t>
                      </a:r>
                      <a:endParaRPr b="0" i="1" lang="en-US" sz="20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связи</a:t>
                      </a:r>
                      <a:endParaRPr b="0" i="1" lang="en-US" sz="20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ый угол</a:t>
                      </a:r>
                      <a:endParaRPr b="0" i="1" lang="en-US" sz="20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метрия молекул</a:t>
                      </a:r>
                      <a:endParaRPr b="0" i="1" lang="en-US" sz="20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ны</a:t>
                      </a:r>
                      <a:endParaRPr b="0" i="1" lang="en-US" sz="20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ы</a:t>
                      </a:r>
                      <a:endParaRPr b="0" i="1" lang="en-US" sz="20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диены</a:t>
                      </a:r>
                      <a:endParaRPr b="0" i="1" lang="en-US" sz="20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ы</a:t>
                      </a:r>
                      <a:endParaRPr b="0" i="1" lang="en-US" sz="20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ы</a:t>
                      </a:r>
                      <a:endParaRPr b="0" i="1" lang="en-US" sz="20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240"/>
          <p:cNvSpPr/>
          <p:nvPr/>
        </p:nvSpPr>
        <p:spPr>
          <a:xfrm>
            <a:off x="-123840" y="537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55" name="Text Box 243"/>
          <p:cNvSpPr/>
          <p:nvPr/>
        </p:nvSpPr>
        <p:spPr>
          <a:xfrm>
            <a:off x="2124000" y="18900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56" name="Text Box 244"/>
          <p:cNvSpPr/>
          <p:nvPr/>
        </p:nvSpPr>
        <p:spPr>
          <a:xfrm>
            <a:off x="611280" y="404640"/>
            <a:ext cx="8066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57" name="Text Box 245"/>
          <p:cNvSpPr/>
          <p:nvPr/>
        </p:nvSpPr>
        <p:spPr>
          <a:xfrm>
            <a:off x="1116000" y="47628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3300"/>
                </a:solidFill>
                <a:latin typeface="Monotype Corsiva"/>
              </a:rPr>
              <a:t>Строение и свойства углеводородов.</a:t>
            </a:r>
            <a:endParaRPr b="0" i="1" lang="en-US" sz="3600" spc="-1" strike="noStrike">
              <a:solidFill>
                <a:srgbClr val="663300"/>
              </a:solidFill>
              <a:latin typeface="Monotype Corsiv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395280" y="404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Monotype Corsiva"/>
              </a:rPr>
              <a:t>I</a:t>
            </a:r>
            <a:r>
              <a:rPr b="0" i="1" lang="ru-RU" sz="3600" spc="-1" strike="noStrike">
                <a:solidFill>
                  <a:srgbClr val="663300"/>
                </a:solidFill>
                <a:latin typeface="Monotype Corsiva"/>
              </a:rPr>
              <a:t>.Обобщение сведений о строении углеводородов.</a:t>
            </a:r>
            <a:endParaRPr b="0" i="1" lang="en-US" sz="36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1280" y="126828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1. Как объяснить четырёхвалентность углерода в органических соединениях с точки зрения представлений о строении атома</a:t>
            </a: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 ?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0" y="270828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611280" y="263700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2.Что понимают под гибридизацией атомных орбиталей</a:t>
            </a: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 ?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84360" y="32130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3.Какие особенности гибридизации атомных орбиталей проявляются в строении молекул метана , этилена ацетилена</a:t>
            </a: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 ? 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39640" y="4581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4.Основные характеристики связей. 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611280" y="530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5. Почему невозможно свободное вращение атомов углерода при кратной связи</a:t>
            </a: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 ?</a:t>
            </a: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 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187280" y="26028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II</a:t>
            </a: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. Обобщение сведений о видах изомерии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50920" y="765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1. Заполнение таблицы 2 « Изомерия углеводородов.»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50920" y="1125360"/>
            <a:ext cx="9650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4000" y="1773360"/>
          <a:ext cx="8280360" cy="1963440"/>
        </p:xfrm>
        <a:graphic>
          <a:graphicData uri="http://schemas.openxmlformats.org/drawingml/2006/table">
            <a:tbl>
              <a:tblPr/>
              <a:tblGrid>
                <a:gridCol w="2035080"/>
                <a:gridCol w="1403280"/>
                <a:gridCol w="1333440"/>
                <a:gridCol w="1333440"/>
                <a:gridCol w="1051200"/>
                <a:gridCol w="1123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изомерии</a:t>
                      </a:r>
                      <a:endParaRPr b="0" i="1" lang="en-US" sz="16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ны</a:t>
                      </a:r>
                      <a:endParaRPr b="0" i="1" lang="en-US" sz="16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ы</a:t>
                      </a:r>
                      <a:endParaRPr b="0" i="1" lang="en-US" sz="16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диены</a:t>
                      </a:r>
                      <a:endParaRPr b="0" i="1" lang="en-US" sz="16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ы</a:t>
                      </a:r>
                      <a:endParaRPr b="0" i="1" lang="en-US" sz="16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ы</a:t>
                      </a:r>
                      <a:endParaRPr b="0" i="1" lang="en-US" sz="16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родного скелета</a:t>
                      </a:r>
                      <a:endParaRPr b="0" i="1" lang="en-US" sz="16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я кратной связи</a:t>
                      </a:r>
                      <a:endParaRPr b="0" i="1" lang="en-US" sz="16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классовая</a:t>
                      </a:r>
                      <a:endParaRPr b="0" i="1" lang="en-US" sz="16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метрическая</a:t>
                      </a:r>
                      <a:endParaRPr b="0" i="1" lang="en-US" sz="16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6633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202"/>
          <p:cNvSpPr/>
          <p:nvPr/>
        </p:nvSpPr>
        <p:spPr>
          <a:xfrm>
            <a:off x="0" y="482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70" name="Text Box 212"/>
          <p:cNvSpPr/>
          <p:nvPr/>
        </p:nvSpPr>
        <p:spPr>
          <a:xfrm>
            <a:off x="250920" y="43545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Задание к таблице: отметьте знаками «+» или « - » наличие или отсутствие данного вида изомерии у данного класса углеводородов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50920" y="476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2. На примере бутана и изобутана охарактеризуйте признаки понятия «изомер»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50920" y="1700280"/>
            <a:ext cx="82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3. В чём суть изомерии углеродного скелета</a:t>
            </a: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 ? </a:t>
            </a: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Какие правила применяют при составлении структурных формул углеводородов ? 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79280" y="306864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4. В чём причина возможности существования геометрической изомерии ? Какие условия необходимы и достаточны для существования веществ – геометрических изомеров ?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24000" y="47628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68360" y="549360"/>
            <a:ext cx="81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24000" y="189000"/>
            <a:ext cx="97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III. </a:t>
            </a: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Обобщение сведений о химических свойствах углеводородов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50920" y="6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1. </a:t>
            </a: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Существует ли зависимость между свойствами вещества и его химическим строением</a:t>
            </a: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 ? </a:t>
            </a: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Что от чего зависит , что – причина , а что – следствие</a:t>
            </a: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 ? 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4000" y="2133720"/>
            <a:ext cx="864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95280" y="2060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2. </a:t>
            </a: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В чём сходство химических </a:t>
            </a: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свойств алкенов и алкинов и чем это можно объяснить</a:t>
            </a: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 ?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-612720" y="3429000"/>
            <a:ext cx="907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95280" y="3068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3.</a:t>
            </a: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Чем объясняются различия в свойствах алкенов и алкинов</a:t>
            </a: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 ?  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80880" y="388620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4.</a:t>
            </a: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Какие особенности в химических свойствах алкадиенов определяются наличием сопряжённых связей </a:t>
            </a: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?</a:t>
            </a: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 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533520" y="403848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228600" y="5105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5. Какие общие свойства проявляют углеводороды ?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320" y="22860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52280" y="1522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Monotype Corsiva"/>
              </a:rPr>
              <a:t>IV</a:t>
            </a: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. Генетические связи между классами углеводородов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28600" y="83808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1. Назовите причины , которые позволяют существовать веществам с различными свойствами , состоящим только из атомов углерода и водорода 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28600" y="24382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2. Какие взаимосвязи существуют между классами углеводородов ?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04920" y="350532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Monotype Corsiva"/>
              </a:rPr>
              <a:t>4. Что общего у органических и неорганических веществ ? Приведите примеры , как из неорганических веществ можно получить органические .</a:t>
            </a:r>
            <a:endParaRPr b="0" i="1" lang="en-US" sz="2800" spc="-1" strike="noStrike">
              <a:solidFill>
                <a:srgbClr val="663300"/>
              </a:solidFill>
              <a:latin typeface="Monotype Corsiva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05:30:15Z</dcterms:created>
  <dc:creator>Виноградов И.В.</dc:creator>
  <dc:description/>
  <dc:language>en-US</dc:language>
  <cp:lastModifiedBy>Ага</cp:lastModifiedBy>
  <dcterms:modified xsi:type="dcterms:W3CDTF">2012-02-17T09:33:02Z</dcterms:modified>
  <cp:revision>32</cp:revision>
  <dc:subject/>
  <dc:title>Слайд 1</dc:title>
</cp:coreProperties>
</file>