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8.wmf" ContentType="image/x-wmf"/>
  <Override PartName="/ppt/media/image10.wmf" ContentType="image/x-wmf"/>
  <Override PartName="/ppt/media/image2.png" ContentType="image/png"/>
  <Override PartName="/ppt/media/image22.gif" ContentType="image/gif"/>
  <Override PartName="/ppt/media/image7.jpeg" ContentType="image/jpeg"/>
  <Override PartName="/ppt/media/image12.wmf" ContentType="image/x-wmf"/>
  <Override PartName="/ppt/media/image4.png" ContentType="image/png"/>
  <Override PartName="/ppt/media/image11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20.jpeg" ContentType="image/jpeg"/>
  <Override PartName="/ppt/media/image19.wmf" ContentType="image/x-wmf"/>
  <Override PartName="/ppt/media/image18.jpeg" ContentType="image/jpeg"/>
  <Override PartName="/ppt/media/image17.png" ContentType="image/png"/>
  <Override PartName="/ppt/media/image16.wmf" ContentType="image/x-wmf"/>
  <Override PartName="/ppt/media/image1.jpeg" ContentType="image/jpeg"/>
  <Override PartName="/ppt/media/image24.jpeg" ContentType="image/jpeg"/>
  <Override PartName="/ppt/media/image15.png" ContentType="image/png"/>
  <Override PartName="/ppt/media/image14.wmf" ContentType="image/x-wmf"/>
  <Override PartName="/ppt/media/image3.png" ContentType="image/png"/>
  <Override PartName="/ppt/media/image23.png" ContentType="image/png"/>
  <Override PartName="/ppt/media/image13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36472-4AA3-43CE-B2DE-0A0555D0A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28B70-0D68-4394-8D7D-BD321BB06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83E18-096C-4CD0-A4FF-D11938CA4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5F066-3FA4-4D0F-A5BC-A7E41FD36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74906-835C-4605-8C36-027C5D262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FDE6B-F601-43E8-A5A6-4C8E9169E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36253-A826-4904-BB64-435DD4FF9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D0B82-D310-41D5-8FEE-6774D8853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A73EE-8967-4D40-B803-70E099E32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AE9F9-8F39-44AE-B521-8A7824759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8B205-6F17-4E26-ABFE-FC4DAAF50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3FF5C-8021-4879-AEA7-F3E380B53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D6858-5E4E-42F2-92FC-838054155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AF02B-764A-4E17-AD00-9EE124DD6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0EE62-F89D-476D-B2FD-3E4301C47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137F5-DDDB-427F-AEDC-A73EA097E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DDC18-5F28-419B-B0DC-026863808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7E1180-458D-4439-9028-37A8972F6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B440F2-CD13-4A7E-A38D-17CB19A95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8FED2D-25A8-4147-8326-702C82ACB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FAC579-86C8-4156-8118-A111CBBC0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01B9D7-6415-4710-881B-E7664A888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F1646-349D-4043-BEBF-958C4D9BC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23AF78-8BCA-453E-A3DC-56212803F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96A238-6D19-4F46-A8C9-F15B4AB8A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37EF92-4FC6-4BCD-A4C1-E6E31BD8D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0CD982-2045-4363-A4D2-72DA1A83F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71F50C-464E-49BB-A3B6-5CCE6B4B4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CD87EF-3997-4C45-A731-F04D26D8F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3BF28A-16BF-4D0F-B334-84F398AC6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EEFD69-E854-4360-A439-840EA666C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7B5238-9CA5-4B5B-9F18-E0A7B42BC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1BB04E-BCE8-4AD8-AF84-7F9FDD88B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03DA9-C8DB-4188-A7A3-2BD96271A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C9B3BB-3805-4DF1-B3D5-2F8B8BB24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3CE46F-247F-4DEA-B001-64DE7B0D2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D1D508-22C0-4D4D-AE7A-74E4B48DB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B10FC4-39E6-4E04-B4CD-963D81A5C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B7EF42-0E08-4A77-8F37-0076ED201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059E1E-CD8B-4D87-9718-CCCA7C02A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F14A0E-47E0-4445-B187-4DE2B0F62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036143-396D-406E-846F-A5FA1A8C7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163182-C81F-4EFB-A3F0-6B6C92673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3EB99E-D95E-4D82-855A-67B80AF14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17884-1C63-4964-B344-0EC25EDF7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A71918-4AD0-40FE-B788-A2562E196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4C60C8-2FF2-4831-A62A-DE8290827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F2D590-5C17-4952-824C-F3FD16E6F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41D0AC-BC07-4BEA-99C8-BC6C12AFE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827C06-7428-4D79-AE46-9FA81ADE6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09AAD5-0996-4BBB-B39A-405957437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33F022-20AA-4A6F-B3D7-FBE36C962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79F8DA-8169-4F44-92AA-F06AFD746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5DCB3E-B37E-420A-80CF-3EC6DEF36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EED5E8-F986-45A9-80F3-B20242C9D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5B0F0-548A-4AB3-B4E3-D0F06F223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E57CEF-D437-454A-8C13-AB896BD57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3931BD-E45F-4140-8A98-E451C86CA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F14DEC-6594-4E9E-8CEF-005961DFD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784867-FE1A-4D53-A3E3-EE1FA5F23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26849B-9256-4C18-9BF2-CB4C85CA8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795070-6AFA-4C7A-A9BF-E5C8AB74E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01E664-5008-4B43-856C-A7091AB1E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D41606-671F-45D0-AD84-CA2D63AE1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78775C-50FF-495B-9FF7-29782EFF7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FE65B2-1A2E-49E0-B6DB-FC64F5A41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EA53A-F409-4726-A80B-01887E7F7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E4BD89-4482-4290-A23B-48D40C54D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D7BFB6-C6BD-4616-A537-D2D6D3B49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81DE15-4A8C-4811-8642-CC411ED1A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E088FE-FB85-4F9D-B9F4-0274C63D3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815643-BBCF-43AF-8908-F2059928A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9F301F-5CB2-481A-AC99-53DC4DA4A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474B2C-620F-413C-AD5C-325B0B689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2A464C-43D5-434F-A5AE-0128F374B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A888A5-31FF-40A9-BA12-CEFA10D57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0C1EAD-428A-4973-A1DD-D50028A88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A5543-9A0D-44A6-BD74-16DD7D649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AB6A5B-D5DE-43F8-96D7-05415C54C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71F6D8-3380-4B4C-B344-8D194D0E8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94C9CF-F02A-463A-8FD1-671B9F49A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175E0F-8B1B-4C00-85C7-9392C539E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03F45B-0C9F-4821-9B59-63F9A3AE4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9EB53-D2AA-4745-A780-6B62D0568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9C148-F69E-4E29-A335-DA518DB0EC06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0020C-B4FE-4CB6-AE71-199C6AFF2C43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C65E4-A8CB-4A82-A988-64E8D247B6F8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DD0A2-B53B-40BC-AA5C-03890D48D333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CE91A-2561-4EC6-93EB-842AEB9D42B3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CEB23-5CDC-4DED-82B7-706FD67A0BA5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B9BF0-2EB0-47B1-BCD6-2498C3D660F2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image" Target="../media/image23.pn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343400" y="914040"/>
            <a:ext cx="4572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900"/>
            </a:br>
            <a:br>
              <a:rPr sz="3900"/>
            </a:br>
            <a:br>
              <a:rPr sz="3900"/>
            </a:br>
            <a:br>
              <a:rPr sz="3900"/>
            </a:br>
            <a:br>
              <a:rPr sz="3900"/>
            </a:br>
            <a:br>
              <a:rPr sz="3900"/>
            </a:br>
            <a:r>
              <a:rPr b="1" lang="ru-RU" sz="3600" spc="-1" strike="noStrike">
                <a:solidFill>
                  <a:srgbClr val="572314"/>
                </a:solidFill>
                <a:latin typeface="Corbel"/>
              </a:rPr>
              <a:t>Права, обязанности и ответственность несовершеннолетних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4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1" name="Group 5"/>
          <p:cNvGrpSpPr/>
          <p:nvPr/>
        </p:nvGrpSpPr>
        <p:grpSpPr>
          <a:xfrm>
            <a:off x="990720" y="2666880"/>
            <a:ext cx="3352320" cy="2971440"/>
            <a:chOff x="990720" y="2666880"/>
            <a:chExt cx="3352320" cy="2971440"/>
          </a:xfrm>
        </p:grpSpPr>
        <p:sp>
          <p:nvSpPr>
            <p:cNvPr id="322" name="AutoShape 46"/>
            <p:cNvSpPr/>
            <p:nvPr/>
          </p:nvSpPr>
          <p:spPr>
            <a:xfrm>
              <a:off x="990720" y="2666880"/>
              <a:ext cx="3352320" cy="29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Freeform 45"/>
            <p:cNvSpPr/>
            <p:nvPr/>
          </p:nvSpPr>
          <p:spPr>
            <a:xfrm flipH="1">
              <a:off x="1495080" y="4164840"/>
              <a:ext cx="2808360" cy="1438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Freeform 44"/>
            <p:cNvSpPr/>
            <p:nvPr/>
          </p:nvSpPr>
          <p:spPr>
            <a:xfrm flipH="1">
              <a:off x="1276920" y="2679480"/>
              <a:ext cx="1027440" cy="732240"/>
            </a:xfrm>
            <a:prstGeom prst="pie">
              <a:avLst/>
            </a:prstGeom>
            <a:solidFill>
              <a:srgbClr val="eba1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Freeform 43"/>
            <p:cNvSpPr/>
            <p:nvPr/>
          </p:nvSpPr>
          <p:spPr>
            <a:xfrm flipH="1">
              <a:off x="1672560" y="4220640"/>
              <a:ext cx="1326600" cy="1417320"/>
            </a:xfrm>
            <a:prstGeom prst="pie">
              <a:avLst/>
            </a:prstGeom>
            <a:solidFill>
              <a:srgbClr val="cef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Freeform 42"/>
            <p:cNvSpPr/>
            <p:nvPr/>
          </p:nvSpPr>
          <p:spPr>
            <a:xfrm flipH="1">
              <a:off x="2056320" y="5013360"/>
              <a:ext cx="247320" cy="231480"/>
            </a:xfrm>
            <a:prstGeom prst="pie">
              <a:avLst/>
            </a:prstGeom>
            <a:solidFill>
              <a:srgbClr val="f2d8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Freeform 41"/>
            <p:cNvSpPr/>
            <p:nvPr/>
          </p:nvSpPr>
          <p:spPr>
            <a:xfrm flipH="1">
              <a:off x="1337760" y="4345200"/>
              <a:ext cx="862560" cy="777960"/>
            </a:xfrm>
            <a:prstGeom prst="pie">
              <a:avLst/>
            </a:prstGeom>
            <a:solidFill>
              <a:srgbClr val="ffea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Freeform 40"/>
            <p:cNvSpPr/>
            <p:nvPr/>
          </p:nvSpPr>
          <p:spPr>
            <a:xfrm flipH="1">
              <a:off x="1153080" y="4195800"/>
              <a:ext cx="376560" cy="268560"/>
            </a:xfrm>
            <a:prstGeom prst="pie">
              <a:avLst/>
            </a:prstGeom>
            <a:solidFill>
              <a:srgbClr val="b5b5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Freeform 39"/>
            <p:cNvSpPr/>
            <p:nvPr/>
          </p:nvSpPr>
          <p:spPr>
            <a:xfrm flipH="1">
              <a:off x="1084680" y="4144320"/>
              <a:ext cx="235080" cy="217080"/>
            </a:xfrm>
            <a:prstGeom prst="pie">
              <a:avLst/>
            </a:prstGeom>
            <a:solidFill>
              <a:srgbClr val="ff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Freeform 38"/>
            <p:cNvSpPr/>
            <p:nvPr/>
          </p:nvSpPr>
          <p:spPr>
            <a:xfrm flipH="1">
              <a:off x="1871280" y="3984840"/>
              <a:ext cx="614520" cy="235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Freeform 37"/>
            <p:cNvSpPr/>
            <p:nvPr/>
          </p:nvSpPr>
          <p:spPr>
            <a:xfrm flipH="1">
              <a:off x="1257840" y="2801520"/>
              <a:ext cx="1561680" cy="1859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36"/>
            <p:cNvSpPr/>
            <p:nvPr/>
          </p:nvSpPr>
          <p:spPr>
            <a:xfrm flipH="1">
              <a:off x="1941840" y="2679480"/>
              <a:ext cx="228600" cy="496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35"/>
            <p:cNvSpPr/>
            <p:nvPr/>
          </p:nvSpPr>
          <p:spPr>
            <a:xfrm flipH="1">
              <a:off x="1847160" y="2774520"/>
              <a:ext cx="160200" cy="401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eform 34"/>
            <p:cNvSpPr/>
            <p:nvPr/>
          </p:nvSpPr>
          <p:spPr>
            <a:xfrm flipH="1">
              <a:off x="1599840" y="2898360"/>
              <a:ext cx="291240" cy="388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Freeform 33"/>
            <p:cNvSpPr/>
            <p:nvPr/>
          </p:nvSpPr>
          <p:spPr>
            <a:xfrm flipH="1">
              <a:off x="1415160" y="2937960"/>
              <a:ext cx="374400" cy="126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Freeform 32"/>
            <p:cNvSpPr/>
            <p:nvPr/>
          </p:nvSpPr>
          <p:spPr>
            <a:xfrm flipH="1">
              <a:off x="1312560" y="3018600"/>
              <a:ext cx="342360" cy="405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Freeform 31"/>
            <p:cNvSpPr/>
            <p:nvPr/>
          </p:nvSpPr>
          <p:spPr>
            <a:xfrm flipH="1">
              <a:off x="1629000" y="3351960"/>
              <a:ext cx="36360" cy="43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Freeform 30"/>
            <p:cNvSpPr/>
            <p:nvPr/>
          </p:nvSpPr>
          <p:spPr>
            <a:xfrm flipH="1">
              <a:off x="1567800" y="3434400"/>
              <a:ext cx="36360" cy="41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Freeform 29"/>
            <p:cNvSpPr/>
            <p:nvPr/>
          </p:nvSpPr>
          <p:spPr>
            <a:xfrm flipH="1">
              <a:off x="1531440" y="3504600"/>
              <a:ext cx="36360" cy="41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Freeform 28"/>
            <p:cNvSpPr/>
            <p:nvPr/>
          </p:nvSpPr>
          <p:spPr>
            <a:xfrm flipH="1">
              <a:off x="1629000" y="3515040"/>
              <a:ext cx="36360" cy="45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Freeform 27"/>
            <p:cNvSpPr/>
            <p:nvPr/>
          </p:nvSpPr>
          <p:spPr>
            <a:xfrm flipH="1">
              <a:off x="1567800" y="3587760"/>
              <a:ext cx="36360" cy="38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Freeform 26"/>
            <p:cNvSpPr/>
            <p:nvPr/>
          </p:nvSpPr>
          <p:spPr>
            <a:xfrm flipH="1">
              <a:off x="1504800" y="3411720"/>
              <a:ext cx="36360" cy="39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Freeform 25"/>
            <p:cNvSpPr/>
            <p:nvPr/>
          </p:nvSpPr>
          <p:spPr>
            <a:xfrm flipH="1">
              <a:off x="2090160" y="3535560"/>
              <a:ext cx="138600" cy="119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Freeform 24"/>
            <p:cNvSpPr/>
            <p:nvPr/>
          </p:nvSpPr>
          <p:spPr>
            <a:xfrm flipH="1">
              <a:off x="1930320" y="3560760"/>
              <a:ext cx="114480" cy="121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Freeform 23"/>
            <p:cNvSpPr/>
            <p:nvPr/>
          </p:nvSpPr>
          <p:spPr>
            <a:xfrm flipH="1">
              <a:off x="2045160" y="3515040"/>
              <a:ext cx="198720" cy="196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Freeform 22"/>
            <p:cNvSpPr/>
            <p:nvPr/>
          </p:nvSpPr>
          <p:spPr>
            <a:xfrm flipH="1">
              <a:off x="2044440" y="3802680"/>
              <a:ext cx="383400" cy="156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Freeform 21"/>
            <p:cNvSpPr/>
            <p:nvPr/>
          </p:nvSpPr>
          <p:spPr>
            <a:xfrm flipH="1">
              <a:off x="1683000" y="3848400"/>
              <a:ext cx="1012320" cy="411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Freeform 20"/>
            <p:cNvSpPr/>
            <p:nvPr/>
          </p:nvSpPr>
          <p:spPr>
            <a:xfrm flipH="1">
              <a:off x="2066400" y="4260240"/>
              <a:ext cx="376560" cy="123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Freeform 19"/>
            <p:cNvSpPr/>
            <p:nvPr/>
          </p:nvSpPr>
          <p:spPr>
            <a:xfrm flipH="1">
              <a:off x="2580840" y="3312360"/>
              <a:ext cx="767880" cy="1404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Freeform 18"/>
            <p:cNvSpPr/>
            <p:nvPr/>
          </p:nvSpPr>
          <p:spPr>
            <a:xfrm flipH="1">
              <a:off x="2379240" y="3018600"/>
              <a:ext cx="492840" cy="527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Freeform 17"/>
            <p:cNvSpPr/>
            <p:nvPr/>
          </p:nvSpPr>
          <p:spPr>
            <a:xfrm flipH="1">
              <a:off x="2834640" y="3242160"/>
              <a:ext cx="189360" cy="126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Freeform 16"/>
            <p:cNvSpPr/>
            <p:nvPr/>
          </p:nvSpPr>
          <p:spPr>
            <a:xfrm flipH="1">
              <a:off x="2719080" y="2666880"/>
              <a:ext cx="209160" cy="509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15"/>
            <p:cNvSpPr/>
            <p:nvPr/>
          </p:nvSpPr>
          <p:spPr>
            <a:xfrm flipH="1">
              <a:off x="2937960" y="2679480"/>
              <a:ext cx="695160" cy="608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Freeform 14"/>
            <p:cNvSpPr/>
            <p:nvPr/>
          </p:nvSpPr>
          <p:spPr>
            <a:xfrm flipH="1">
              <a:off x="2580840" y="4299480"/>
              <a:ext cx="291240" cy="181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13"/>
            <p:cNvSpPr/>
            <p:nvPr/>
          </p:nvSpPr>
          <p:spPr>
            <a:xfrm flipH="1">
              <a:off x="1818720" y="4580640"/>
              <a:ext cx="786960" cy="341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12"/>
            <p:cNvSpPr/>
            <p:nvPr/>
          </p:nvSpPr>
          <p:spPr>
            <a:xfrm flipH="1">
              <a:off x="1818000" y="4690440"/>
              <a:ext cx="485640" cy="552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Freeform 11"/>
            <p:cNvSpPr/>
            <p:nvPr/>
          </p:nvSpPr>
          <p:spPr>
            <a:xfrm flipH="1">
              <a:off x="990720" y="4649400"/>
              <a:ext cx="2042640" cy="988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10"/>
            <p:cNvSpPr/>
            <p:nvPr/>
          </p:nvSpPr>
          <p:spPr>
            <a:xfrm flipH="1">
              <a:off x="1357560" y="4194000"/>
              <a:ext cx="555840" cy="510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9"/>
            <p:cNvSpPr/>
            <p:nvPr/>
          </p:nvSpPr>
          <p:spPr>
            <a:xfrm flipH="1">
              <a:off x="1434600" y="4371840"/>
              <a:ext cx="383400" cy="318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8"/>
            <p:cNvSpPr/>
            <p:nvPr/>
          </p:nvSpPr>
          <p:spPr>
            <a:xfrm flipH="1">
              <a:off x="1064880" y="4136040"/>
              <a:ext cx="677880" cy="569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7"/>
            <p:cNvSpPr/>
            <p:nvPr/>
          </p:nvSpPr>
          <p:spPr>
            <a:xfrm flipH="1">
              <a:off x="2627280" y="4620240"/>
              <a:ext cx="502920" cy="566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6"/>
            <p:cNvSpPr/>
            <p:nvPr/>
          </p:nvSpPr>
          <p:spPr>
            <a:xfrm flipH="1">
              <a:off x="3186720" y="4194000"/>
              <a:ext cx="1156320" cy="1058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3" name="TextBox 46"/>
          <p:cNvSpPr/>
          <p:nvPr/>
        </p:nvSpPr>
        <p:spPr>
          <a:xfrm>
            <a:off x="4648320" y="3657600"/>
            <a:ext cx="426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 истории и обществознания МКОУ СОШ №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. Красноуральс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егримова Татьяна Никола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3. С 10 лет добавляются права: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1434960" y="2438280"/>
            <a:ext cx="749952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317520" indent="-2455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На учёт своего мнения при решении в семье любого вопроса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17520" indent="-2455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Быть заслушанным в ходе любого судебного или административного разбирательства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17520" indent="-2455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Давать согласие на изменение своего имени и фамилии, на восстановление родителя в родительских правах, на усыновление или передачу в приёмную семью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95" name="Picture 1" descr="D:\Образ\MEDIA\CAGCAT10\j0300840.wmf"/>
          <p:cNvPicPr/>
          <p:nvPr/>
        </p:nvPicPr>
        <p:blipFill>
          <a:blip r:embed="rId1"/>
          <a:stretch/>
        </p:blipFill>
        <p:spPr>
          <a:xfrm>
            <a:off x="6324480" y="1066680"/>
            <a:ext cx="1814760" cy="1528920"/>
          </a:xfrm>
          <a:prstGeom prst="rect">
            <a:avLst/>
          </a:prstGeom>
          <a:ln w="0">
            <a:noFill/>
          </a:ln>
        </p:spPr>
      </p:pic>
    </p:spTree>
  </p:cSld>
  <p:transition spd="slow">
    <p:pull dir="l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447560" y="3805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С 11 лет добавляется      </a:t>
            </a:r>
            <a:br>
              <a:rPr sz="3900"/>
            </a:b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                        ответственность: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1066320" y="2133720"/>
            <a:ext cx="49532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50200" indent="-250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        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Помещение в специальное воспитательное учреждение для детей и подростков (спецшкола, специнтернат и т.д.) в случае совершения общественно опасных действий или злостного и систематического нарушения правил общественного поведения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98" name="Picture 5" descr="C51"/>
          <p:cNvPicPr/>
          <p:nvPr/>
        </p:nvPicPr>
        <p:blipFill>
          <a:blip r:embed="rId1"/>
          <a:stretch/>
        </p:blipFill>
        <p:spPr>
          <a:xfrm>
            <a:off x="5791320" y="2819520"/>
            <a:ext cx="3124080" cy="3352680"/>
          </a:xfrm>
          <a:prstGeom prst="rect">
            <a:avLst/>
          </a:prstGeom>
          <a:ln w="0">
            <a:noFill/>
          </a:ln>
        </p:spPr>
      </p:pic>
    </p:spTree>
  </p:cSld>
  <p:transition spd="slow">
    <p:pull dir="l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4. С 14 лет расширяются права: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914400" y="1142640"/>
            <a:ext cx="74995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8280" indent="-278280">
              <a:lnSpc>
                <a:spcPct val="100000"/>
              </a:lnSpc>
              <a:buClr>
                <a:srgbClr val="3891a7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Получить  паспорт гражданина РФ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8280" indent="-278280">
              <a:lnSpc>
                <a:spcPct val="100000"/>
              </a:lnSpc>
              <a:buClr>
                <a:srgbClr val="3891a7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Работать в свободное от учёбы время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8280" indent="-278280">
              <a:lnSpc>
                <a:spcPct val="100000"/>
              </a:lnSpc>
              <a:buClr>
                <a:srgbClr val="3891a7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Самостоятельно распоряжаться своим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8280" indent="-278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заработком, стипендией или иными доходами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8280" indent="-278280">
              <a:lnSpc>
                <a:spcPct val="100000"/>
              </a:lnSpc>
              <a:buClr>
                <a:srgbClr val="3891a7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Осуществлять права автора,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8280" indent="-278280">
              <a:lnSpc>
                <a:spcPct val="100000"/>
              </a:lnSpc>
              <a:buClr>
                <a:srgbClr val="3891a7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Вносить вклады в банки и  распоряжаться ими,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8280" indent="-278280">
              <a:lnSpc>
                <a:spcPct val="100000"/>
              </a:lnSpc>
              <a:buClr>
                <a:srgbClr val="3891a7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Учиться вождению мотоцикла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8280" indent="-278280">
              <a:lnSpc>
                <a:spcPct val="100000"/>
              </a:lnSpc>
              <a:buClr>
                <a:srgbClr val="3891a7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Участвовать в молодёжном движении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2" name="Picture 7" descr="D:\мама 3\семинар\рис\59.jpg"/>
          <p:cNvPicPr/>
          <p:nvPr/>
        </p:nvPicPr>
        <p:blipFill>
          <a:blip r:embed="rId1"/>
          <a:stretch/>
        </p:blipFill>
        <p:spPr>
          <a:xfrm>
            <a:off x="7848720" y="4267080"/>
            <a:ext cx="998280" cy="2151360"/>
          </a:xfrm>
          <a:prstGeom prst="rect">
            <a:avLst/>
          </a:prstGeom>
          <a:ln w="0">
            <a:noFill/>
          </a:ln>
        </p:spPr>
      </p:pic>
    </p:spTree>
  </p:cSld>
  <p:transition spd="slow">
    <p:pull dir="l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С 14 лет: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Самостоятельная имущественная ответственность по заключённым сделкам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Возмещение причинённого вреда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Уголовная ответственность за отдельные виды преступлений.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05" name="Picture 28" descr="MCj04104250000[1]"/>
          <p:cNvPicPr/>
          <p:nvPr/>
        </p:nvPicPr>
        <p:blipFill>
          <a:blip r:embed="rId1"/>
          <a:stretch/>
        </p:blipFill>
        <p:spPr>
          <a:xfrm>
            <a:off x="6400800" y="4648320"/>
            <a:ext cx="1447920" cy="1828800"/>
          </a:xfrm>
          <a:prstGeom prst="rect">
            <a:avLst/>
          </a:prstGeom>
          <a:ln w="0">
            <a:noFill/>
          </a:ln>
        </p:spPr>
      </p:pic>
    </p:spTree>
  </p:cSld>
  <p:transition spd="slow">
    <p:pull dir="l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499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900"/>
            </a:b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С 15 лет – право работать с  согласия профсоюза и родителей, не более 24 часов в неделю на льготных условиях, предусмотренных трудовым законодательством.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8" name="Picture 1" descr="Pict8"/>
          <p:cNvPicPr/>
          <p:nvPr/>
        </p:nvPicPr>
        <p:blipFill>
          <a:blip r:embed="rId1"/>
          <a:stretch/>
        </p:blipFill>
        <p:spPr>
          <a:xfrm>
            <a:off x="6553080" y="4343400"/>
            <a:ext cx="1981440" cy="220968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5" descr="D:\мама 3\семинар\рис\7.jpg"/>
          <p:cNvPicPr/>
          <p:nvPr/>
        </p:nvPicPr>
        <p:blipFill>
          <a:blip r:embed="rId2"/>
          <a:stretch/>
        </p:blipFill>
        <p:spPr>
          <a:xfrm>
            <a:off x="1143000" y="4419720"/>
            <a:ext cx="1878120" cy="2209680"/>
          </a:xfrm>
          <a:prstGeom prst="rect">
            <a:avLst/>
          </a:prstGeom>
          <a:ln w="0">
            <a:noFill/>
          </a:ln>
        </p:spPr>
      </p:pic>
    </p:spTree>
  </p:cSld>
  <p:transition spd="slow">
    <p:pull dir="l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2209680" y="228240"/>
            <a:ext cx="666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18 лет – совершеннолетие!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1828800" y="3200400"/>
            <a:ext cx="70992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65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Возможность пользоваться всеми конституционными правами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Выполнять все обязанности по Конституции РФ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Нести полную ответственность по всем законам РФ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12" name="Picture 1" descr="Рисунок5"/>
          <p:cNvPicPr/>
          <p:nvPr/>
        </p:nvPicPr>
        <p:blipFill>
          <a:blip r:embed="rId1"/>
          <a:stretch/>
        </p:blipFill>
        <p:spPr>
          <a:xfrm>
            <a:off x="0" y="4267080"/>
            <a:ext cx="1784520" cy="243864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5" descr="D:\мама 3\семинар\рис\52.GIF"/>
          <p:cNvPicPr/>
          <p:nvPr/>
        </p:nvPicPr>
        <p:blipFill>
          <a:blip r:embed="rId2"/>
          <a:stretch/>
        </p:blipFill>
        <p:spPr>
          <a:xfrm>
            <a:off x="6781680" y="1523880"/>
            <a:ext cx="1685880" cy="162900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6" descr="D:\мама 3\семинар\рис\69.jpg"/>
          <p:cNvPicPr/>
          <p:nvPr/>
        </p:nvPicPr>
        <p:blipFill>
          <a:blip r:embed="rId3"/>
          <a:stretch/>
        </p:blipFill>
        <p:spPr>
          <a:xfrm>
            <a:off x="533520" y="380880"/>
            <a:ext cx="1600200" cy="1028880"/>
          </a:xfrm>
          <a:prstGeom prst="rect">
            <a:avLst/>
          </a:prstGeom>
          <a:ln w="0">
            <a:noFill/>
          </a:ln>
        </p:spPr>
      </p:pic>
    </p:spTree>
  </p:cSld>
  <p:transition spd="slow">
    <p:pull dir="l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Picture 2" descr="D:\мама 3\семинар\рис\29.jpg"/>
          <p:cNvPicPr/>
          <p:nvPr/>
        </p:nvPicPr>
        <p:blipFill>
          <a:blip r:embed="rId1"/>
          <a:stretch/>
        </p:blipFill>
        <p:spPr>
          <a:xfrm>
            <a:off x="685800" y="2514600"/>
            <a:ext cx="3076560" cy="380988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572314"/>
                </a:solidFill>
                <a:latin typeface="Corbel"/>
              </a:rPr>
              <a:t>Источники: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3124080" y="1523520"/>
            <a:ext cx="5803920" cy="31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9480" indent="-2628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Декларация прав ребёнка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Конвенция о правах ребёнка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Конституция РФ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Трудовой кодекс РФ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Гражданский кодекс РФ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 spd="slow">
    <p:pull dir="l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72314"/>
                </a:solidFill>
                <a:latin typeface="Corbel"/>
              </a:rPr>
              <a:t>1. С  рождения ребёнок имеет права: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1066320" y="2362320"/>
            <a:ext cx="7497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На имя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Жить и воспитываться в семье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Знать родителей и жить вместе с ними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На заботу и воспитание родителей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На всестороннее развитие и уважение человеческого достоинства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Выражать своё мнение при решении в семье любого вопроса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На защиту своих прав и законных интересов родителями, органами опеки и попечительства, прокурором и судом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На гражданство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Иметь на праве собственности имущество (полученное в дар или в наследство, приобретённые на средства ребёнка).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На  самостоятельное обращение в орган опеки и попечительства за защитой своих прав.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69" name="Picture 4" descr="D:\мама-2\Полина\SDC11487.JPG"/>
          <p:cNvPicPr/>
          <p:nvPr/>
        </p:nvPicPr>
        <p:blipFill>
          <a:blip r:embed="rId1"/>
          <a:stretch/>
        </p:blipFill>
        <p:spPr>
          <a:xfrm>
            <a:off x="5562720" y="1143000"/>
            <a:ext cx="3098520" cy="2324160"/>
          </a:xfrm>
          <a:prstGeom prst="rect">
            <a:avLst/>
          </a:prstGeom>
          <a:ln w="0">
            <a:noFill/>
          </a:ln>
        </p:spPr>
      </p:pic>
    </p:spTree>
  </p:cSld>
  <p:transition spd="slow">
    <p:pull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Обязанности с рождения: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1218960" y="1447560"/>
            <a:ext cx="7499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just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Слушаться родителей и лиц, их заменяющих, принимать их заботу и воспитание, за исключением случаев пренебрежительного, жестокого, грубого, унижающего человеческое достоинство обращения, оскорбления или эксплуатации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Соблюдать правила поведения, установленные в воспитательных и образовательных учреждениях, дома и в общественных местах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72" name="Picture 5" descr="D:\мама-2\фото класса\наша школа\SDC11367.JPG"/>
          <p:cNvPicPr/>
          <p:nvPr/>
        </p:nvPicPr>
        <p:blipFill>
          <a:blip r:embed="rId1"/>
          <a:stretch/>
        </p:blipFill>
        <p:spPr>
          <a:xfrm>
            <a:off x="6146640" y="4724280"/>
            <a:ext cx="2540160" cy="1905120"/>
          </a:xfrm>
          <a:prstGeom prst="rect">
            <a:avLst/>
          </a:prstGeom>
          <a:ln w="0">
            <a:noFill/>
          </a:ln>
        </p:spPr>
      </p:pic>
    </p:spTree>
  </p:cSld>
  <p:transition spd="slow">
    <p:pull dir="l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Ответственность от рождения: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еред родителями и лицами, их заменяющими, воспитателями и преподавателями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еред своей совестью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Picture 1" descr="MCj04107870000[1]"/>
          <p:cNvPicPr/>
          <p:nvPr/>
        </p:nvPicPr>
        <p:blipFill>
          <a:blip r:embed="rId1"/>
          <a:stretch/>
        </p:blipFill>
        <p:spPr>
          <a:xfrm>
            <a:off x="4191120" y="3809880"/>
            <a:ext cx="3603600" cy="2320920"/>
          </a:xfrm>
          <a:prstGeom prst="rect">
            <a:avLst/>
          </a:prstGeom>
          <a:ln w="0">
            <a:noFill/>
          </a:ln>
        </p:spPr>
      </p:pic>
    </p:spTree>
  </p:cSld>
  <p:transition spd="slow">
    <p:pull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2. С 6 лет дети имеют права: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3124080" y="1447560"/>
            <a:ext cx="5810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7396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Совершать мелкие бытовые сделки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Совершать сделки, направленное на безвозмездное получение выгоды , не требующие нотариального удостоверения или государственной регистрации;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Совершать сделки по распоряжению средствами, предоставленными родителями или другими людьми, с согласия родителей для определённой цели или для свободного распоряжения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79" name="Picture 5" descr="D:\мама 3\семинар\рис\40.gif"/>
          <p:cNvPicPr/>
          <p:nvPr/>
        </p:nvPicPr>
        <p:blipFill>
          <a:blip r:embed="rId1"/>
          <a:stretch/>
        </p:blipFill>
        <p:spPr>
          <a:xfrm>
            <a:off x="981000" y="3386160"/>
            <a:ext cx="2295720" cy="2938320"/>
          </a:xfrm>
          <a:prstGeom prst="rect">
            <a:avLst/>
          </a:prstGeom>
          <a:ln w="0">
            <a:noFill/>
          </a:ln>
        </p:spPr>
      </p:pic>
    </p:spTree>
  </p:cSld>
  <p:transition spd="slow">
    <p:pull dir="l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143000" y="837720"/>
            <a:ext cx="4813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С  6 лет добавляются        </a:t>
            </a:r>
            <a:br>
              <a:rPr sz="3900"/>
            </a:b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           обязанности: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914400" y="2438280"/>
            <a:ext cx="749952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олучить основное общее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образование (9 классов)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Соблюдать правила внутреннего распорядка учебного заведения, учебной дисциплины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3" name="Picture 13" descr="MCj04154840000[1]"/>
          <p:cNvPicPr/>
          <p:nvPr/>
        </p:nvPicPr>
        <p:blipFill>
          <a:blip r:embed="rId1"/>
          <a:stretch/>
        </p:blipFill>
        <p:spPr>
          <a:xfrm>
            <a:off x="6629400" y="4952880"/>
            <a:ext cx="2362320" cy="1752840"/>
          </a:xfrm>
          <a:prstGeom prst="rect">
            <a:avLst/>
          </a:prstGeom>
          <a:ln w="0">
            <a:noFill/>
          </a:ln>
        </p:spPr>
      </p:pic>
      <p:pic>
        <p:nvPicPr>
          <p:cNvPr id="384" name="Рисунок 3" descr="D:\мама-2\фото класса\1 отряд\SDC10659.JPG"/>
          <p:cNvPicPr/>
          <p:nvPr/>
        </p:nvPicPr>
        <p:blipFill>
          <a:blip r:embed="rId2"/>
          <a:stretch/>
        </p:blipFill>
        <p:spPr>
          <a:xfrm>
            <a:off x="6781680" y="152280"/>
            <a:ext cx="2210040" cy="3081600"/>
          </a:xfrm>
          <a:prstGeom prst="rect">
            <a:avLst/>
          </a:prstGeom>
          <a:ln w="0">
            <a:noFill/>
          </a:ln>
        </p:spPr>
      </p:pic>
    </p:spTree>
  </p:cSld>
  <p:transition spd="slow">
    <p:pull dir="l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447560" y="53316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Дополнительная ответственность с 6 лет: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2590560" y="2057400"/>
            <a:ext cx="63435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35520" indent="-2599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Перед преподавателями, администрацией учебного заведения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За совершение общественно опасных действий, бродяжничество, уклонение от учёбы, пьянство, вплоть до направления комиссией по делам несовершеннолетних в специальное лечебно – воспитательное учреждение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87" name="Picture 1" descr="D:\Образ\MEDIA\CAGCAT10\j0299125.wmf"/>
          <p:cNvPicPr/>
          <p:nvPr/>
        </p:nvPicPr>
        <p:blipFill>
          <a:blip r:embed="rId1"/>
          <a:stretch/>
        </p:blipFill>
        <p:spPr>
          <a:xfrm>
            <a:off x="0" y="1143000"/>
            <a:ext cx="1100160" cy="180504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5" descr="травмы 11"/>
          <p:cNvPicPr/>
          <p:nvPr/>
        </p:nvPicPr>
        <p:blipFill>
          <a:blip r:embed="rId2"/>
          <a:stretch/>
        </p:blipFill>
        <p:spPr>
          <a:xfrm>
            <a:off x="380880" y="3352680"/>
            <a:ext cx="2246400" cy="3124440"/>
          </a:xfrm>
          <a:prstGeom prst="rect">
            <a:avLst/>
          </a:prstGeom>
          <a:ln w="0">
            <a:noFill/>
          </a:ln>
        </p:spPr>
      </p:pic>
    </p:spTree>
  </p:cSld>
  <p:transition spd="slow">
    <p:pull dir="l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434960" y="457200"/>
            <a:ext cx="7499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900"/>
            </a:b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С 8 лет добавляются:</a:t>
            </a: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1434960" y="1447560"/>
            <a:ext cx="74995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9480" indent="-262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c00000"/>
                </a:solidFill>
                <a:latin typeface="Corbel"/>
              </a:rPr>
              <a:t>Право</a:t>
            </a: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 на участие в детском общественном объединении.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c00000"/>
                </a:solidFill>
                <a:latin typeface="Corbel"/>
              </a:rPr>
              <a:t>Обязанность</a:t>
            </a: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 соблюдать Устав, правила детского общественного объединения.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c00000"/>
                </a:solidFill>
                <a:latin typeface="Corbel"/>
              </a:rPr>
              <a:t>Ответственность</a:t>
            </a: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 перед детским общественным объединением и его участниками.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91" name="Picture 1" descr="D:\Образ\MEDIA\CAGCAT10\j0286034.wmf"/>
          <p:cNvPicPr/>
          <p:nvPr/>
        </p:nvPicPr>
        <p:blipFill>
          <a:blip r:embed="rId1"/>
          <a:stretch/>
        </p:blipFill>
        <p:spPr>
          <a:xfrm>
            <a:off x="6858000" y="5181480"/>
            <a:ext cx="1600200" cy="129564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5" descr="D:\мама 3\семинар\рис\42.gif"/>
          <p:cNvPicPr/>
          <p:nvPr/>
        </p:nvPicPr>
        <p:blipFill>
          <a:blip r:embed="rId2"/>
          <a:stretch/>
        </p:blipFill>
        <p:spPr>
          <a:xfrm>
            <a:off x="0" y="4952880"/>
            <a:ext cx="1800360" cy="1733760"/>
          </a:xfrm>
          <a:prstGeom prst="rect">
            <a:avLst/>
          </a:prstGeom>
          <a:ln w="0">
            <a:noFill/>
          </a:ln>
        </p:spPr>
      </p:pic>
    </p:spTree>
  </p:cSld>
  <p:transition spd="slow">
    <p:pull dir="l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мама мия</cp:lastModifiedBy>
  <dcterms:modified xsi:type="dcterms:W3CDTF">2012-02-17T17:38:31Z</dcterms:modified>
  <cp:revision>27</cp:revision>
  <dc:subject/>
  <dc:title>Права, обязанности и ответственность несовершеннолетних</dc:title>
</cp:coreProperties>
</file>