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445-088E-4C80-8138-112A7F1E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8F1-A428-4D96-B52D-DB775092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A6D-5607-428A-9F4E-8E0807AB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0A6-A14A-45CD-8A4C-850EA140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8994A-F66A-42F8-BC37-02F53CEC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2E216-4694-42B5-88E9-97D6A28E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6AA94-47CD-41F2-ACE4-61D7522F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7CD77-9E70-4C3B-8345-F6C67532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59193-7881-4003-9FB7-AC4047E6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3CF9C-DB55-4F24-A132-B98D7554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3A70F-22D7-45B6-B9FE-F1E49F61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171-9DEA-4B97-8BDE-CDFA0635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406CD-1E8C-42BF-B457-B7180ACD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577DF-2EED-401D-8A1B-A613A471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D52A8-1CB0-4D15-A38A-F031F87D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49941-CB53-4275-81B1-EAC904C2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4270E-A9A4-49B9-A66C-3E8ACCBA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A25C7-3674-48DA-A289-992B57DA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A1CA9-0CCE-4E50-993A-BFD9EAF6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FB123-A24A-474A-A390-4D90643F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02F2B-C52F-44F9-A377-C383635D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01DCE-3508-40A4-B150-92A53503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6C43-FA05-4152-9A95-8EF584FB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EAA87-04BA-41D0-B176-9164B2B1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DF9DD-19B3-4539-AFB4-A3A52A98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5721C-B751-4300-B485-31C80621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04597-4417-4C8E-9932-9FD48BAA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D5BA2-ACB2-4911-81CA-3DFE947C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7DF0A-63FB-4EDB-BFA1-E85545A2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804D3-1460-4471-AF75-FFDF7E94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3ABA31-5FA6-4630-A3FA-C19F8B79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7D399A-A6A8-484E-811F-78477154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1B3441-4700-4E5F-9C41-54BEA1BE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1E4B-BA3D-462E-A768-BEA4C064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644796-ADC8-4182-A41C-DB60EE7D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D22A1C-5CA0-49C2-8B6E-E5AAE20D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C5C8CD-C3DC-46FD-82F1-FBCDDEAF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D5B21F-633C-4F2B-9559-BD3110BE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B98B0C-C29A-4187-AB1A-9DAB2521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FA309-7F1E-4005-AC88-7EEF58A5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73D407-B2CF-4CDE-825F-9195CA88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7D5CD5-A386-47D3-9111-E4FDCE62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05375B-B2E3-4C7E-858E-5D644765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6448-731D-4869-9BCE-EE178280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4DB-6E67-462A-9525-66A604EF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8ED-FAE0-4F39-8494-65CCE280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037-060C-4006-A8AF-CE68B597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F75-4D75-4CA5-AA31-D7CC1524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E78C-6335-4551-B7EE-ECE180D86BB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24D7-89F3-41B1-89F5-38FFB47CD9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5A67-11CA-4C2D-82C8-1325F8E20A9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3426-1470-4506-9FB0-33C68297FF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90;%20&#8470;1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9900"/>
                </a:solidFill>
                <a:latin typeface="comic"/>
              </a:rPr>
              <a:t>В гости к </a:t>
            </a:r>
            <a:r>
              <a:rPr b="1" i="1" lang="ru-RU" sz="6000" spc="-1" strike="noStrike" u="sng">
                <a:solidFill>
                  <a:srgbClr val="009900"/>
                </a:solidFill>
                <a:uFillTx/>
                <a:latin typeface="comic"/>
              </a:rPr>
              <a:t>Синей </a:t>
            </a:r>
            <a:r>
              <a:rPr b="1" i="1" lang="ru-RU" sz="6000" spc="-1" strike="noStrike">
                <a:solidFill>
                  <a:srgbClr val="009900"/>
                </a:solidFill>
                <a:latin typeface="comic"/>
              </a:rPr>
              <a:t>птице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4734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Рисунок 3" descr="095987.jpg"/>
          <p:cNvPicPr/>
          <p:nvPr/>
        </p:nvPicPr>
        <p:blipFill>
          <a:blip r:embed="rId1"/>
          <a:stretch/>
        </p:blipFill>
        <p:spPr>
          <a:xfrm>
            <a:off x="39600" y="0"/>
            <a:ext cx="91044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3" name="TextBox 4"/>
          <p:cNvGrpSpPr/>
          <p:nvPr/>
        </p:nvGrpSpPr>
        <p:grpSpPr>
          <a:xfrm>
            <a:off x="4834080" y="-79200"/>
            <a:ext cx="4614840" cy="2462040"/>
            <a:chOff x="4834080" y="-79200"/>
            <a:chExt cx="4614840" cy="2462040"/>
          </a:xfrm>
        </p:grpSpPr>
        <p:pic>
          <p:nvPicPr>
            <p:cNvPr id="294" name="TextBox 4" descr=""/>
            <p:cNvPicPr/>
            <p:nvPr/>
          </p:nvPicPr>
          <p:blipFill>
            <a:blip r:embed="rId2"/>
            <a:stretch/>
          </p:blipFill>
          <p:spPr>
            <a:xfrm>
              <a:off x="4834080" y="-79200"/>
              <a:ext cx="4614840" cy="24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986360" y="0"/>
              <a:ext cx="4410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d0d0d"/>
                  </a:solidFill>
                  <a:latin typeface="Comic Sans MS"/>
                </a:rPr>
                <a:t>Чародейкою Зимою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d0d0d"/>
                  </a:solidFill>
                  <a:latin typeface="Comic Sans MS"/>
                </a:rPr>
                <a:t>Околдован, лес стоит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d0d0d"/>
                  </a:solidFill>
                  <a:latin typeface="Comic Sans MS"/>
                </a:rPr>
                <a:t>И под снежной бахромою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d0d0d"/>
                  </a:solidFill>
                  <a:latin typeface="Comic Sans MS"/>
                </a:rPr>
                <a:t>Неподвижною, немою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d0d0d"/>
                  </a:solidFill>
                  <a:latin typeface="Comic Sans MS"/>
                </a:rPr>
                <a:t>Чудной жизнью он блестит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d0d0d"/>
                  </a:solidFill>
                  <a:latin typeface="Comic Sans MS"/>
                </a:rPr>
                <a:t>                  </a:t>
              </a:r>
              <a:r>
                <a:rPr b="0" lang="ru-RU" sz="2400" spc="-1" strike="noStrike">
                  <a:solidFill>
                    <a:srgbClr val="0d0d0d"/>
                  </a:solidFill>
                  <a:latin typeface="Comic Sans MS"/>
                </a:rPr>
                <a:t>Ф.Тютчев.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96" name="Прямоугольник 5" descr=""/>
          <p:cNvPicPr/>
          <p:nvPr/>
        </p:nvPicPr>
        <p:blipFill>
          <a:blip r:embed="rId3"/>
          <a:stretch/>
        </p:blipFill>
        <p:spPr>
          <a:xfrm>
            <a:off x="249120" y="2382840"/>
            <a:ext cx="9083880" cy="93996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6" descr=""/>
          <p:cNvPicPr/>
          <p:nvPr/>
        </p:nvPicPr>
        <p:blipFill>
          <a:blip r:embed="rId4"/>
          <a:stretch/>
        </p:blipFill>
        <p:spPr>
          <a:xfrm>
            <a:off x="433440" y="2468520"/>
            <a:ext cx="8478720" cy="1354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Рисунок 3" descr="0_1f32b_ff6431e1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250920" y="5877000"/>
            <a:ext cx="82296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расив и загадочен зимний лес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b8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2" name="Picture 5" descr="RSCIENCE"/>
          <p:cNvPicPr/>
          <p:nvPr/>
        </p:nvPicPr>
        <p:blipFill>
          <a:blip r:embed="rId1"/>
          <a:stretch/>
        </p:blipFill>
        <p:spPr>
          <a:xfrm>
            <a:off x="2268360" y="2421000"/>
            <a:ext cx="4191120" cy="2600280"/>
          </a:xfrm>
          <a:prstGeom prst="rect">
            <a:avLst/>
          </a:prstGeom>
          <a:ln w="0">
            <a:noFill/>
          </a:ln>
        </p:spPr>
      </p:pic>
      <p:sp>
        <p:nvSpPr>
          <p:cNvPr id="303" name="Сердце 5"/>
          <p:cNvSpPr/>
          <p:nvPr/>
        </p:nvSpPr>
        <p:spPr>
          <a:xfrm rot="19905000">
            <a:off x="304920" y="1600200"/>
            <a:ext cx="2438280" cy="2133720"/>
          </a:xfrm>
          <a:prstGeom prst="pie">
            <a:avLst/>
          </a:pr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7098000"/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Было интересно и легко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Сердце 6"/>
          <p:cNvSpPr/>
          <p:nvPr/>
        </p:nvSpPr>
        <p:spPr>
          <a:xfrm rot="1244400">
            <a:off x="5579640" y="1268280"/>
            <a:ext cx="2667240" cy="2286000"/>
          </a:xfrm>
          <a:prstGeom prst="pie">
            <a:avLst/>
          </a:prstGeom>
          <a:gradFill rotWithShape="0">
            <a:gsLst>
              <a:gs pos="0">
                <a:srgbClr val="0e0e44"/>
              </a:gs>
              <a:gs pos="100000">
                <a:srgbClr val="202079"/>
              </a:gs>
            </a:gsLst>
            <a:lin ang="9558000"/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СЁ ПОНЯЛ И МОГУ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Сердце 7"/>
          <p:cNvSpPr/>
          <p:nvPr/>
        </p:nvSpPr>
        <p:spPr>
          <a:xfrm rot="20038200">
            <a:off x="324000" y="4495320"/>
            <a:ext cx="2361960" cy="2362320"/>
          </a:xfrm>
          <a:prstGeom prst="pie">
            <a:avLst/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1560000"/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омнил, ка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и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Сердце 8"/>
          <p:cNvSpPr/>
          <p:nvPr/>
        </p:nvSpPr>
        <p:spPr>
          <a:xfrm rot="673200">
            <a:off x="5865840" y="4308480"/>
            <a:ext cx="3052800" cy="2286000"/>
          </a:xfrm>
          <a:prstGeom prst="pie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7428000"/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Arial"/>
              </a:rPr>
              <a:t>Затрудняюсь пока …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7" name="Прямоугольник 3" descr=""/>
          <p:cNvPicPr/>
          <p:nvPr/>
        </p:nvPicPr>
        <p:blipFill>
          <a:blip r:embed="rId2"/>
          <a:stretch/>
        </p:blipFill>
        <p:spPr>
          <a:xfrm>
            <a:off x="566640" y="85680"/>
            <a:ext cx="78519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исать из текста пьесы «Синяя птица» 10 словосочетаний (прилагательное + существительное), определить род ипадеж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0" name="Прямоугольник 3" descr=""/>
          <p:cNvPicPr/>
          <p:nvPr/>
        </p:nvPicPr>
        <p:blipFill>
          <a:blip r:embed="rId1"/>
          <a:stretch/>
        </p:blipFill>
        <p:spPr>
          <a:xfrm>
            <a:off x="281160" y="0"/>
            <a:ext cx="81565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Forte"/>
              </a:rPr>
              <a:t>     </a:t>
            </a:r>
            <a:r>
              <a:rPr b="1" i="1" lang="ru-RU" sz="60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8000" y="1125360"/>
            <a:ext cx="8675640" cy="62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Georgia"/>
              </a:rPr>
              <a:t>Са . ,  в . споминание ,   оз . ро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Georgia"/>
              </a:rPr>
              <a:t>гор. 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Georgia"/>
              </a:rPr>
              <a:t>Р . дной,  м . л . дой, глубокое, радос . но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042920" y="1125360"/>
            <a:ext cx="5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ahoma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2124000" y="1125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6732720" y="112536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1403280" y="177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900000" y="3716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2"/>
          <p:cNvSpPr/>
          <p:nvPr/>
        </p:nvSpPr>
        <p:spPr>
          <a:xfrm flipV="1">
            <a:off x="3276720" y="38592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3"/>
          <p:cNvSpPr/>
          <p:nvPr/>
        </p:nvSpPr>
        <p:spPr>
          <a:xfrm flipV="1">
            <a:off x="3924360" y="386712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2268360" y="4292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WordArt 21"/>
          <p:cNvSpPr txBox="1"/>
          <p:nvPr/>
        </p:nvSpPr>
        <p:spPr>
          <a:xfrm>
            <a:off x="1476360" y="0"/>
            <a:ext cx="604836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на       Воспоминаний</a:t>
            </a:r>
            <a:endParaRPr b="0" lang="en-US" sz="17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Forte"/>
              </a:rPr>
              <a:t>     </a:t>
            </a:r>
            <a:r>
              <a:rPr b="1" i="1" lang="ru-RU" sz="60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WordArt 7"/>
          <p:cNvSpPr txBox="1"/>
          <p:nvPr/>
        </p:nvSpPr>
        <p:spPr>
          <a:xfrm>
            <a:off x="179280" y="189000"/>
            <a:ext cx="784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на     воспоминаний</a:t>
            </a:r>
            <a:endParaRPr b="0" lang="en-US" sz="17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088240" y="4149720"/>
            <a:ext cx="376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в</a:t>
            </a:r>
            <a:r>
              <a:rPr b="1" lang="ru-RU" sz="36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спомина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88800" y="4076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оз</a:t>
            </a:r>
            <a:r>
              <a:rPr b="1" lang="ru-RU" sz="3600" spc="-1" strike="noStrike">
                <a:solidFill>
                  <a:srgbClr val="cc0000"/>
                </a:solidFill>
                <a:latin typeface="Tahoma"/>
              </a:rPr>
              <a:t>е</a:t>
            </a: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р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1524960" y="479736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р</a:t>
            </a:r>
            <a:r>
              <a:rPr b="1" lang="ru-RU" sz="36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дно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3780000" y="50846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глубоко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1619280" y="6021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радос</a:t>
            </a:r>
            <a:r>
              <a:rPr b="1" lang="ru-RU" sz="3600" spc="-1" strike="noStrike">
                <a:solidFill>
                  <a:srgbClr val="cc0000"/>
                </a:solidFill>
                <a:latin typeface="Tahoma"/>
              </a:rPr>
              <a:t>т</a:t>
            </a: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но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6733800" y="5084640"/>
            <a:ext cx="15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гор</a:t>
            </a:r>
            <a:r>
              <a:rPr b="1" lang="ru-RU" sz="36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364000" y="60213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м</a:t>
            </a:r>
            <a:r>
              <a:rPr b="1" lang="ru-RU" sz="36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л</a:t>
            </a:r>
            <a:r>
              <a:rPr b="1" lang="ru-RU" sz="36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до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3927960" y="4292640"/>
            <a:ext cx="9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са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2 -0.05735 L -0.58264 -0.66581 E">
                                      <p:cBhvr>
                                        <p:cTn id="89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98 -0.01549 L -0.15711 -0.41396 E">
                                      <p:cBhvr>
                                        <p:cTn id="94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56059E-006 L -0.44757 -0.42229 E">
                                      <p:cBhvr>
                                        <p:cTn id="99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3146 L -0.12118 -0.38252 E">
                                      <p:cBhvr>
                                        <p:cTn id="104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24 -0.03608 L -0.37014 -0.29834 E">
                                      <p:cBhvr>
                                        <p:cTn id="109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0.01549 L 0.2934 -0.14107 E">
                                      <p:cBhvr>
                                        <p:cTn id="114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3631 L -0.13768 -0.30897 E">
                                      <p:cBhvr>
                                        <p:cTn id="119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9.62072E-007 L -0.21233 -0.04163 E">
                                      <p:cBhvr>
                                        <p:cTn id="124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ной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ор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од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ой са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лубокое оз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о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адос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т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ое в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п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ина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2050920" y="836640"/>
            <a:ext cx="792360" cy="6476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2484360" y="1700280"/>
            <a:ext cx="863640" cy="6490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оугольник 4"/>
          <p:cNvSpPr/>
          <p:nvPr/>
        </p:nvSpPr>
        <p:spPr>
          <a:xfrm>
            <a:off x="2556000" y="3860640"/>
            <a:ext cx="792000" cy="6494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Прямоугольник 5"/>
          <p:cNvSpPr/>
          <p:nvPr/>
        </p:nvSpPr>
        <p:spPr>
          <a:xfrm>
            <a:off x="3059280" y="4724280"/>
            <a:ext cx="720720" cy="648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3564000" y="47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.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1584360" y="36828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.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332000" y="1341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.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3564000" y="1341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.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1403280" y="3429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Ср.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3851280" y="3284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Ср.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Rectangle 18"/>
          <p:cNvSpPr/>
          <p:nvPr/>
        </p:nvSpPr>
        <p:spPr>
          <a:xfrm>
            <a:off x="1476360" y="4365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Ср.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4788000" y="4365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Ср.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855720"/>
                <a:gridCol w="853920"/>
                <a:gridCol w="855720"/>
                <a:gridCol w="855720"/>
                <a:gridCol w="898560"/>
                <a:gridCol w="811080"/>
                <a:gridCol w="855720"/>
                <a:gridCol w="853920"/>
                <a:gridCol w="8557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7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7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7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7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7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7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7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7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7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Тест</a:t>
            </a:r>
            <a:br>
              <a:rPr sz="4800"/>
            </a:br>
            <a:r>
              <a:rPr b="0" lang="ru-RU" sz="4800" spc="-1" strike="noStrike">
                <a:solidFill>
                  <a:srgbClr val="66ccff"/>
                </a:solidFill>
                <a:latin typeface="Comic Sans MS"/>
              </a:rPr>
              <a:t>       (ключевое слово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Тема урока: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«Склонения имён прилагательных  мужского и среднего рода» </a:t>
            </a:r>
            <a:br>
              <a:rPr sz="5400"/>
            </a:br>
            <a:r>
              <a:rPr b="1" lang="ru-RU" sz="4000" spc="-1" strike="noStrike">
                <a:solidFill>
                  <a:srgbClr val="cc0000"/>
                </a:solidFill>
                <a:latin typeface="Comic Sans MS"/>
              </a:rPr>
              <a:t>Цели урока: </a:t>
            </a:r>
            <a:br>
              <a:rPr sz="4000"/>
            </a:br>
            <a:r>
              <a:rPr b="1" lang="ru-RU" sz="4000" spc="-1" strike="noStrike">
                <a:solidFill>
                  <a:srgbClr val="14bc3c"/>
                </a:solidFill>
                <a:latin typeface="Comic Sans MS"/>
              </a:rPr>
              <a:t>* познакомиться …</a:t>
            </a:r>
            <a:br>
              <a:rPr sz="4000"/>
            </a:br>
            <a:r>
              <a:rPr b="1" lang="ru-RU" sz="4000" spc="-1" strike="noStrike">
                <a:solidFill>
                  <a:srgbClr val="14bc3c"/>
                </a:solidFill>
                <a:latin typeface="Comic Sans MS"/>
              </a:rPr>
              <a:t>* повторить … </a:t>
            </a:r>
            <a:br>
              <a:rPr sz="4000"/>
            </a:br>
            <a:r>
              <a:rPr b="1" lang="ru-RU" sz="4000" spc="-1" strike="noStrike">
                <a:solidFill>
                  <a:srgbClr val="14bc3c"/>
                </a:solidFill>
                <a:latin typeface="Comic Sans MS"/>
              </a:rPr>
              <a:t>* учиться 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1вариан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И.п.(какой?)молодой сад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2 вариан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200"/>
                </a:solidFill>
                <a:latin typeface="Comic Sans MS"/>
              </a:rPr>
              <a:t>И.п.(какое?)глубокое озер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WordArt 4"/>
          <p:cNvSpPr txBox="1"/>
          <p:nvPr/>
        </p:nvSpPr>
        <p:spPr>
          <a:xfrm>
            <a:off x="684360" y="981000"/>
            <a:ext cx="727236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838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ворец Ночи</a:t>
            </a:r>
            <a:endParaRPr b="0" lang="en-US" sz="17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1"/>
          <p:cNvSpPr/>
          <p:nvPr/>
        </p:nvSpPr>
        <p:spPr>
          <a:xfrm>
            <a:off x="4429080" y="4429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-ег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1864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Объясните, что означает схема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7" name="Куб 3"/>
          <p:cNvGrpSpPr/>
          <p:nvPr/>
        </p:nvGrpSpPr>
        <p:grpSpPr>
          <a:xfrm>
            <a:off x="609480" y="1749600"/>
            <a:ext cx="3067200" cy="4217760"/>
            <a:chOff x="609480" y="1749600"/>
            <a:chExt cx="3067200" cy="4217760"/>
          </a:xfrm>
        </p:grpSpPr>
        <p:pic>
          <p:nvPicPr>
            <p:cNvPr id="278" name="Куб 3" descr=""/>
            <p:cNvPicPr/>
            <p:nvPr/>
          </p:nvPicPr>
          <p:blipFill>
            <a:blip r:embed="rId1"/>
            <a:stretch/>
          </p:blipFill>
          <p:spPr>
            <a:xfrm>
              <a:off x="609480" y="1749600"/>
              <a:ext cx="3067200" cy="42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857160" y="2643120"/>
              <a:ext cx="1928880" cy="30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0" name="TextBox 4"/>
          <p:cNvSpPr/>
          <p:nvPr/>
        </p:nvSpPr>
        <p:spPr>
          <a:xfrm>
            <a:off x="1000080" y="2714760"/>
            <a:ext cx="1643040" cy="311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М.р</a:t>
            </a:r>
            <a:r>
              <a:rPr b="0" lang="ru-RU" sz="3600" spc="-1" strike="noStrike">
                <a:solidFill>
                  <a:srgbClr val="ffe60d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70c0"/>
                </a:solidFill>
                <a:uFillTx/>
                <a:latin typeface="Comic Sans MS"/>
              </a:rPr>
              <a:t>Р.п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С.р.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Горизонтальный свиток 6"/>
          <p:cNvSpPr/>
          <p:nvPr/>
        </p:nvSpPr>
        <p:spPr>
          <a:xfrm>
            <a:off x="4357800" y="2428920"/>
            <a:ext cx="1285920" cy="107136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4572000" y="2571840"/>
            <a:ext cx="107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-ог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Горизонтальный свиток 10"/>
          <p:cNvSpPr/>
          <p:nvPr/>
        </p:nvSpPr>
        <p:spPr>
          <a:xfrm>
            <a:off x="4357800" y="4286160"/>
            <a:ext cx="1143000" cy="100008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Овал 12"/>
          <p:cNvSpPr/>
          <p:nvPr/>
        </p:nvSpPr>
        <p:spPr>
          <a:xfrm>
            <a:off x="6429240" y="3286080"/>
            <a:ext cx="2071800" cy="1428840"/>
          </a:xfrm>
          <a:prstGeom prst="ellipse">
            <a:avLst/>
          </a:prstGeom>
          <a:noFill/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Box 13"/>
          <p:cNvSpPr/>
          <p:nvPr/>
        </p:nvSpPr>
        <p:spPr>
          <a:xfrm>
            <a:off x="6786720" y="3571920"/>
            <a:ext cx="135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ово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6" name="Крест 14"/>
          <p:cNvGrpSpPr/>
          <p:nvPr/>
        </p:nvGrpSpPr>
        <p:grpSpPr>
          <a:xfrm>
            <a:off x="6870600" y="3371760"/>
            <a:ext cx="1309680" cy="1303560"/>
            <a:chOff x="6870600" y="3371760"/>
            <a:chExt cx="1309680" cy="1303560"/>
          </a:xfrm>
        </p:grpSpPr>
        <p:pic>
          <p:nvPicPr>
            <p:cNvPr id="287" name="Крест 14" descr=""/>
            <p:cNvPicPr/>
            <p:nvPr/>
          </p:nvPicPr>
          <p:blipFill>
            <a:blip r:embed="rId2"/>
            <a:stretch/>
          </p:blipFill>
          <p:spPr>
            <a:xfrm>
              <a:off x="6870600" y="3371760"/>
              <a:ext cx="1309680" cy="13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18969600">
              <a:off x="6885000" y="3974760"/>
              <a:ext cx="1285920" cy="1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9" name="TextBox 17"/>
          <p:cNvSpPr/>
          <p:nvPr/>
        </p:nvSpPr>
        <p:spPr>
          <a:xfrm>
            <a:off x="5500800" y="2214720"/>
            <a:ext cx="428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900" spc="-1" strike="noStrike">
                <a:solidFill>
                  <a:srgbClr val="ff0000"/>
                </a:solidFill>
                <a:latin typeface="Tahoma"/>
              </a:rPr>
              <a:t>!</a:t>
            </a:r>
            <a:endParaRPr b="0" lang="en-US" sz="19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Пятиугольник 18"/>
          <p:cNvSpPr/>
          <p:nvPr/>
        </p:nvSpPr>
        <p:spPr>
          <a:xfrm>
            <a:off x="3643200" y="3643200"/>
            <a:ext cx="785880" cy="500040"/>
          </a:xfrm>
          <a:custGeom>
            <a:avLst/>
            <a:gdLst>
              <a:gd name="textAreaLeft" fmla="*/ 0 w 785880"/>
              <a:gd name="textAreaRight" fmla="*/ 786240 w 78588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727" y="0"/>
                </a:lnTo>
                <a:lnTo>
                  <a:pt x="21600" y="10800"/>
                </a:lnTo>
                <a:lnTo>
                  <a:pt x="14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500"/>
                            </p:stCondLst>
                            <p:childTnLst>
                              <p:par>
                                <p:cTn id="3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2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00:11:23Z</dcterms:created>
  <dc:creator>FuckYouBill</dc:creator>
  <dc:description/>
  <dc:language>en-US</dc:language>
  <cp:lastModifiedBy>FuckYouBill</cp:lastModifiedBy>
  <dcterms:modified xsi:type="dcterms:W3CDTF">2012-01-04T03:26:36Z</dcterms:modified>
  <cp:revision>66</cp:revision>
  <dc:subject/>
  <dc:title>Слайд 1</dc:title>
</cp:coreProperties>
</file>