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gif" ContentType="image/gif"/>
  <Override PartName="/ppt/media/image15.png" ContentType="image/png"/>
  <Override PartName="/ppt/media/image1.gif" ContentType="image/gif"/>
  <Override PartName="/ppt/media/image4.wmf" ContentType="image/x-wmf"/>
  <Override PartName="/ppt/media/image2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14.wmf" ContentType="image/x-wmf"/>
  <Override PartName="/ppt/media/image6.png" ContentType="image/png"/>
  <Override PartName="/ppt/media/image3.gif" ContentType="image/gif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C18-0377-41E8-BAC8-3CF3C2A1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D0F-15D8-4D84-AAE4-C3F482C7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C8B-75A2-4F92-98CF-858449AC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A6B-7947-414A-9F7C-B7AB2709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BDA6-3C89-4F57-AA30-8F83681B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C47B-27F5-43D5-84B5-FE2063BA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6C4D-AC3A-48A1-8FBF-E3C95C96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B6A5-2BFF-4D55-9984-2788A81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23FA-0F7C-42C7-8B9A-D765F61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12A-F443-49C2-BEA9-D9C200C9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4CDA-528F-47D2-AB84-590D1C46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2C1-D30C-40D3-85E0-F53945F7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247E-1207-4A5B-AB16-D3A7DDC1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77F-8B20-45A7-A740-651DB65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E19E-B704-4D3B-A029-E19FF9AE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C8F-B7F1-4676-978E-07D7DE6A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93B6-7E91-4ED4-B0D1-50F979A1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AF1-748E-490D-8F49-83F1A1F2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902-25DA-456B-8D76-236F3CB5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3D4-2A5C-443D-A72E-89E36B65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E6B-E0E9-4BA7-B81E-F2EBC82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B80-EE99-494D-A6BD-6A13198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BFF-4623-4269-9F3F-BBF286E6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015-ED68-44F5-8EE1-2B08B8E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113A-73CC-437A-B234-2FA8A29EC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C01-7727-49B5-B3A7-209097549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 Black"/>
              </a:rPr>
              <a:t>МОУ «Шихобаловская основная общеобразовательная школа»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неклассное мероприятие по математи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«ТУРНИР ЮНЫХ МАТЕМАТИК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0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фман Л.Е.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Тройка лошадей проскакала 90км.Сколько проскакала каждая лошадь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3052800"/>
            <a:ext cx="3878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 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Возраст дедушки выражается наименьшим трехзначным числом , которое записывается разными цифрами .Сколько лет дедуш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2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Шла старуха в Москву , а навстречу ей три старика .Сколько человек шло в Моск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878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ctr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 ЧЕЛОВ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На двух руках десять пальцев .А сколько пальцев на десяти рук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052800"/>
            <a:ext cx="3878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паль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ЕШИТЕ ЗАДАЧУ УРАВНЕНИЕ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Чебурашка и Гена строили дом , им надо было перетаскать 900 кирпиче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а за раз брал 8 кирпичей , а Чебурашка – только один кирп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раз им пришлось сходить за кирпичами вме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1 ТУР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ЕДСТАВЛЕНИЕ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ОМАНД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67280" y="2924280"/>
            <a:ext cx="2017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РИЧЕСКАЯ МИНУ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ЕТЕ ЛИ ВЫ , КТО ВПЕРВЫЕ В МАТЕМАТИКУ ВВЕЛ БУКВЕННУЮ СИМВОЛИ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40000" y="3389400"/>
            <a:ext cx="4438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3640" y="115920"/>
            <a:ext cx="8388360" cy="5851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35280" y="244440"/>
            <a:ext cx="550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РАНСУ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ВИ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57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ансуа Виет родился  в 1540 году во  французской провинции Пуату - Шарант. Учился сначала в местном францисканском монастыре, а затем — в университете Пуатье, где в 1560 году получил степень бакалавра. С 19 лет занимался адвокатской практикой в родном го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-324000" y="333360"/>
            <a:ext cx="38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115920"/>
            <a:ext cx="5761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571 года переехал в Париж  и вскоре перешёл на государственную службу, но увлечение его математикой продолжало ра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571 г. по 1584 г. Франсуа был советником короля Франции. По образованию юрист, но все  свободное время занимался математикой и астрономией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учив труды  классиков, Виет предложил новый язык «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щей арифмети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» — символический язык алгебры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жизни Виета была издана только часть его трудов. Главное его сочинение: «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ведение в аналитическое искус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»  1591 год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" descr="Francois Viete.jpeg"/>
          <p:cNvPicPr/>
          <p:nvPr/>
        </p:nvPicPr>
        <p:blipFill>
          <a:blip r:embed="rId1"/>
          <a:stretch/>
        </p:blipFill>
        <p:spPr>
          <a:xfrm>
            <a:off x="468360" y="1628640"/>
            <a:ext cx="2735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клад Франсуа Виета в математи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42920" y="1904760"/>
            <a:ext cx="6002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чем же заслуга Вие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рансуа Виет ввел в математику буквенную символику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л общие правила решения уравнений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вел  и доказал формулы для вычисления корней урав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первой по четвертую степ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Francois Viete.jpeg"/>
          <p:cNvPicPr/>
          <p:nvPr/>
        </p:nvPicPr>
        <p:blipFill>
          <a:blip r:embed="rId1"/>
          <a:stretch/>
        </p:blipFill>
        <p:spPr>
          <a:xfrm>
            <a:off x="395280" y="1989000"/>
            <a:ext cx="22654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ТУР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ШИФРОВ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м предстоит разгадать ребусы , в которых зашифрованы математические поня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45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30360" y="49640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5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snap0517" descr=""/>
          <p:cNvPicPr/>
          <p:nvPr/>
        </p:nvPicPr>
        <p:blipFill>
          <a:blip r:embed="rId1"/>
          <a:stretch/>
        </p:blipFill>
        <p:spPr>
          <a:xfrm>
            <a:off x="3924360" y="765000"/>
            <a:ext cx="3743280" cy="2232360"/>
          </a:xfrm>
          <a:prstGeom prst="rect">
            <a:avLst/>
          </a:prstGeom>
          <a:ln w="0">
            <a:noFill/>
          </a:ln>
        </p:spPr>
      </p:pic>
      <p:pic>
        <p:nvPicPr>
          <p:cNvPr id="166" name="snap0525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319280" cy="1511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45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" y="50054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2" descr="D:\школа\Ребусы\диаметр.jpg"/>
          <p:cNvPicPr/>
          <p:nvPr/>
        </p:nvPicPr>
        <p:blipFill>
          <a:blip r:embed="rId1"/>
          <a:stretch/>
        </p:blipFill>
        <p:spPr>
          <a:xfrm>
            <a:off x="3635280" y="1341360"/>
            <a:ext cx="3511800" cy="15829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D:\школа\Ребусы\дробь.jpg"/>
          <p:cNvPicPr/>
          <p:nvPr/>
        </p:nvPicPr>
        <p:blipFill>
          <a:blip r:embed="rId2"/>
          <a:stretch/>
        </p:blipFill>
        <p:spPr>
          <a:xfrm>
            <a:off x="1692360" y="4365720"/>
            <a:ext cx="3743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5 ТУР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«ЗАДАЧИ  - ЗАМОРОЧКИ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2433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720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007480" cy="59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 команде Квадр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Масса кирпича 1 кг и ещё полкирпича. Найди массу кирпича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Чем кончается день и ноч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Летела стая гусей: один гусь впереди, а два позади, один позади и два впереди, один между двумя и три  в ряд. Сколько было гусей?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Портной имеет кусок сукна в 16 м, от которого он отрезает ежедневно по 2 м. по истечении скольких дней он отрежет последний кус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475920"/>
            <a:ext cx="80071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 команде  Треуголь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Арбуз стоит 20 коп и еще пол-арбуза. Сколько стрит арбуз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Чем больше из неё берешь, тем больше она становится. Что эт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а поверхности пруда растут кувшинки. Площадь, которую они занимают, с каждым днем удваивается. Весь пруд зарос кувшинками через20 дней. Через сколько дней заросла половина пруда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Торговка на рынке соображала « Если к моим яблокам прибавить половину их да еще десяток, то у меня была бы целая сотня» Сколько яблок у нее было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11640" y="692280"/>
            <a:ext cx="4633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 ЗАТЕИ И ЗАДАЧИ 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ГРЫ , ШУТКИ , - ВСЕ ДЛЯ ВАС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ЕЛАЕМ ВАМ УДАЧ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 РАБОТУ ! В ДОБРЫЙ ЧАС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211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ТУР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ЛИЦ – КОНТРОЛЬНА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987280" y="2565360"/>
            <a:ext cx="360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360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30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9396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иц – контроль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Результат деления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Прямоугольник , у которого все стороны рав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Как одним словом назвать сумму длин сторон многоугольн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Число , выражающее дюжин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Прибор для измерения угл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Как найти неизвестное вычитаем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Какую часть часа составляют 15 мину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Как найти неизвестный делител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.Сколько в одном метре сантиметр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. Результат умнож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. Наименьшее двузначное чис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. Как называют цифры второго класса в записи натуральных чисе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. Часть прямой , ограниченная точк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. Прибор , необходимый для построения окружнос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. Чему равен один пуд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. Сколько в одном километре метр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44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50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900000" y="622080"/>
            <a:ext cx="4562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1700280"/>
            <a:ext cx="3878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ейчас мы отдохне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частушки попоем 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1341360"/>
            <a:ext cx="3878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ВЕДЕНИЕ ИТОГОВ ТУРНИ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167280" cy="3097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11280" y="1738440"/>
            <a:ext cx="360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закончилась игра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 узнать пор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же лучше всех трудилс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в итоге отличился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 ТУР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МИ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87640" y="3429000"/>
            <a:ext cx="32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Ы РАЗМИ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бой ли  четырехугольник  является квадрато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да ли , что сумма цифр больше , чем их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диница – самое маленькое натуральное чис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ет ли при делении получиться нол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да ли , что цифр всего десять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да ли , что углы бывают  прямые , тупые , острые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найти неизвестный множитель , надо произведение умножить на известный множител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лить можно на любое чис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 ТУР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О,ЗАДАЧКА!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78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ий тур –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решит их побыстр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т добьется здесь у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готовься поско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87828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цу 30 лет , а его сыну 5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сколько лет отец будет старше сына на 27 лет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25720" y="2421000"/>
            <a:ext cx="308628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О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Петух , стоя на одной ноге весит 3кг.Сколько он весит , стоя на двух ног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7:12:13Z</dcterms:created>
  <dc:creator>Lanser Client</dc:creator>
  <dc:description/>
  <dc:language>en-US</dc:language>
  <cp:lastModifiedBy>Lanser Client</cp:lastModifiedBy>
  <dcterms:modified xsi:type="dcterms:W3CDTF">2009-11-28T18:59:36Z</dcterms:modified>
  <cp:revision>8</cp:revision>
  <dc:subject/>
  <dc:title>МОУ «Шихобаловская основная общеобразовательная школа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