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F14B-BB92-498C-A672-5A7EC8A9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5280" y="417852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E1CF-6A86-45E1-9340-0DAF825D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5856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EA1-769E-4476-9CB9-A61CDF70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6284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40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5528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6284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40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DB0-89F5-4CE3-886D-17DA81B9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7F38-B04A-43C5-82F4-0C689393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21AE-1B91-4F6C-AAD3-32F9C2AE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0154-D585-48F7-A86D-4BE0C1F9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75C4-919F-4078-8C74-0744274F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6851-7B56-4B10-A7B2-DCA0D97B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6B6D-CD4F-41B3-9D78-0573D774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6904-3197-46E2-AC58-447D80A2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17C-14FF-4F02-8611-363E97C7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5856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E092-0B90-43A2-A25D-F656D29E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DB04-FF0B-4CE4-B810-0237BD57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55280" y="417852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77D2-FD98-4AF4-B31B-CA2A6899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5856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AC74-62B4-47B9-A0F8-E5545216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6284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40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5528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6284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40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CF6B-7691-4998-85B7-8C0B0FB9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CB4-7711-4911-B67D-FA73CED8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7EF-4C02-4BFC-9482-F88CB5EE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B7B-2A73-4C4D-8A9D-02DA2CA2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6AF-8C57-4715-8D7A-1121DEAF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81E6-4C70-4EEA-96C3-034DC816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5856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9A5-0214-4D34-9759-5E3CC764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262E-1ACE-4206-8574-CBBC7DFE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64EA-B97D-4AAA-B80E-0F8CC6C40E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737A-F7DE-4310-A4B0-F0BF84BA0E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то такие насекомые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987640" y="4581360"/>
            <a:ext cx="5216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ьцова Н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нкт-Петербур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ЦОКО и 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7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азлич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9890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ть крыл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т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приносит поль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35520" y="19890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т крыль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з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носит польз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екомые – это животные с тремя парами лапок и одной или двумя парами крыль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60440" y="2075040"/>
            <a:ext cx="2716200" cy="1847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452920" y="1989000"/>
            <a:ext cx="2692440" cy="2019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332000" y="4149720"/>
            <a:ext cx="2735280" cy="2019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356080" y="4160880"/>
            <a:ext cx="2884680" cy="20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66840" y="1989000"/>
            <a:ext cx="2905200" cy="2019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52920" y="1989000"/>
            <a:ext cx="2692440" cy="2019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58920" y="4508640"/>
            <a:ext cx="2952720" cy="1779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508720" y="4497480"/>
            <a:ext cx="2697120" cy="181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284720" y="3787920"/>
            <a:ext cx="431640" cy="433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335592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2924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8472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2060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108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400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380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816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4980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2720" y="249228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108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8944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9800" y="4653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49800" y="5084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49800" y="5516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49800" y="594828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1800" y="5084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13440" y="5084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45080" y="5084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5084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10520" y="5084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42160" y="5084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0880" y="256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35600" y="421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88320" y="155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91600" y="508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51960" y="378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40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189000"/>
            <a:ext cx="43214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Кроссвор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284720" y="3787920"/>
            <a:ext cx="431640" cy="433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84720" y="335592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2924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4720" y="2060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52720" y="378612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1080" y="378612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87640" y="378612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378612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378612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93800" y="378612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16360" y="37893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37893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52720" y="249228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944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49800" y="4221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9800" y="4653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49800" y="5084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49800" y="5516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8180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1344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5080" y="4653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7708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052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42160" y="4653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2908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3380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88320" y="155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91600" y="4651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50160" y="3357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35280" y="40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189000"/>
            <a:ext cx="43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Кроссвор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9080" y="24210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2108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5308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6520" y="24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85800" y="198900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5800" y="285264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8652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86520" y="37162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5800" y="414972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8652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9416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25800" y="371628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6000" y="37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87640" y="37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1080" y="3716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3080" y="371628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8520" y="371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9440" y="371628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50160" y="414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49440" y="45813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50160" y="501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50160" y="54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5308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1380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852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78880" y="458136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1088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41800" y="45813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Помоги убрать лишне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7280" y="2349360"/>
            <a:ext cx="6400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Мух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Р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а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ерно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4000" y="4723920"/>
            <a:ext cx="8447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шибка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53737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пробуй ещё р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йди не насекомо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етляч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або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рав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гад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етляч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аб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иды насеком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щие призна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лич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ст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ст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оссвор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бери лишн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ерно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566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шибка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56610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пробуй ещё р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олодцы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Летит кучка поросят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Кто ни тронет – завизжат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728" t="2291" r="1842" b="5190"/>
          <a:stretch/>
        </p:blipFill>
        <p:spPr>
          <a:xfrm>
            <a:off x="324000" y="189000"/>
            <a:ext cx="856908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солнц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огон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свет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Не птичка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А с крылья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648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b7"/>
                </a:solidFill>
                <a:latin typeface="Arial Black"/>
              </a:rPr>
              <a:t>НАСЕКОМЫЕ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округ носа вьётся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 в руки не даётся.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63640" y="1693800"/>
            <a:ext cx="5832720" cy="3705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16000" y="5734080"/>
            <a:ext cx="6697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566100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м для птиц и животных, впадает в спяч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ам мал, а больше себя ношу носит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2227320"/>
            <a:ext cx="4226040" cy="3136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35520" y="2720520"/>
            <a:ext cx="3927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рм для птиц и животных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пользуется в медицин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падает в спяч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бщие призна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еко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рм для птиц и живот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падают в спяч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3:23:59Z</dcterms:created>
  <dc:creator>bik</dc:creator>
  <dc:description/>
  <dc:language>en-US</dc:language>
  <cp:lastModifiedBy>bik</cp:lastModifiedBy>
  <dcterms:modified xsi:type="dcterms:W3CDTF">2007-12-04T13:26:14Z</dcterms:modified>
  <cp:revision>20</cp:revision>
  <dc:subject/>
  <dc:title>Кто такие насекомые?</dc:title>
</cp:coreProperties>
</file>